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F0B-291B-49D3-BB24-A5A041C0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229-AB25-4C33-A194-629F3EB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235-FC55-489C-B0F8-CEF2A5EF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4F0-D524-439C-A19C-76D969BD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58E-B3EE-41C3-AD64-0226802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07-E61E-4044-BE6F-230DA2A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648-CFA0-4D33-8EFF-A5F2EA9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C16-31FE-44C7-BAE1-B72714C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F58-6D2C-4F7E-9955-4B65FEA9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06A-E33E-44E6-B5A5-117F25D9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255-B44E-4D33-8342-311D79F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68-D120-4F2F-A3CA-BFB34C1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6FCD-5BC2-4805-A0A6-A250D200E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.3 ГП_Навлинское _ Карта функциональных з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1:31:33Z</dcterms:created>
  <dc:creator>GIS</dc:creator>
  <dc:description/>
  <dc:language>en-US</dc:language>
  <cp:lastModifiedBy>GIS</cp:lastModifiedBy>
  <dcterms:modified xsi:type="dcterms:W3CDTF">2019-01-22T11:32:51Z</dcterms:modified>
  <cp:revision>1</cp:revision>
  <dc:subject/>
  <dc:title>Слайд 1</dc:title>
</cp:coreProperties>
</file>