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270-E976-45C2-A70C-78A4CB6A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C2B-001F-4FA1-A599-0FC6C9CF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465-342A-4A72-80F8-B194DBC0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81C-E7DE-49E9-AEFD-F829EF9A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FFE-4C0B-4FA4-907A-787815BF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E8A-6BAB-4B91-B9EA-6B96BB53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D5E-79C2-4FD6-9C0D-89AC54D8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D4D-8A22-4F20-9C4F-D02D17A1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55B-23F2-4CB3-AC8C-90D1EFA1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B10-6513-4D42-85CC-E578E48A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26D-48F7-452C-AD87-EA8D478A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4EE-DBD0-489A-B7F4-AF0A9A0B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3E99-C3B9-4AAE-B370-DDA3E186F4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1.2 ГП_Навлинское _ Карта границ населенных пункто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11:23:16Z</dcterms:created>
  <dc:creator>GIS</dc:creator>
  <dc:description/>
  <dc:language>en-US</dc:language>
  <cp:lastModifiedBy>GIS</cp:lastModifiedBy>
  <dcterms:modified xsi:type="dcterms:W3CDTF">2019-01-22T11:29:49Z</dcterms:modified>
  <cp:revision>1</cp:revision>
  <dc:subject/>
  <dc:title>Слайд 1</dc:title>
</cp:coreProperties>
</file>