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8453438" cy="75453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2640" y="300960"/>
            <a:ext cx="7607160" cy="12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22640" y="1765440"/>
            <a:ext cx="760716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22640" y="4051080"/>
            <a:ext cx="760716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2640" y="300960"/>
            <a:ext cx="7607160" cy="12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22640" y="1765440"/>
            <a:ext cx="371196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20720" y="1765440"/>
            <a:ext cx="371196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2640" y="4051080"/>
            <a:ext cx="371196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320720" y="4051080"/>
            <a:ext cx="371196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2640" y="300960"/>
            <a:ext cx="7607160" cy="12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2640" y="1765440"/>
            <a:ext cx="244944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994840" y="1765440"/>
            <a:ext cx="244944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567400" y="1765440"/>
            <a:ext cx="244944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2640" y="4051080"/>
            <a:ext cx="244944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2994840" y="4051080"/>
            <a:ext cx="244944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5567400" y="4051080"/>
            <a:ext cx="244944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2640" y="300960"/>
            <a:ext cx="7607160" cy="12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22640" y="1765440"/>
            <a:ext cx="7607160" cy="43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22640" y="300960"/>
            <a:ext cx="7607160" cy="12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22640" y="1765440"/>
            <a:ext cx="7607160" cy="43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22640" y="300960"/>
            <a:ext cx="7607160" cy="12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22640" y="1765440"/>
            <a:ext cx="3711960" cy="43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320720" y="1765440"/>
            <a:ext cx="3711960" cy="43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2640" y="300960"/>
            <a:ext cx="7607160" cy="12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22640" y="300960"/>
            <a:ext cx="7607160" cy="58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2640" y="300960"/>
            <a:ext cx="7607160" cy="12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2640" y="1765440"/>
            <a:ext cx="371196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20720" y="1765440"/>
            <a:ext cx="3711960" cy="43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22640" y="4051080"/>
            <a:ext cx="371196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2640" y="300960"/>
            <a:ext cx="7607160" cy="12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22640" y="1765440"/>
            <a:ext cx="3711960" cy="43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320720" y="1765440"/>
            <a:ext cx="371196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320720" y="4051080"/>
            <a:ext cx="371196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2640" y="300960"/>
            <a:ext cx="7607160" cy="12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22640" y="1765440"/>
            <a:ext cx="371196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320720" y="1765440"/>
            <a:ext cx="371196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22640" y="4051080"/>
            <a:ext cx="760716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Рисунок 1" descr=""/>
          <p:cNvPicPr/>
          <p:nvPr/>
        </p:nvPicPr>
        <p:blipFill>
          <a:blip r:embed="rId1"/>
          <a:stretch/>
        </p:blipFill>
        <p:spPr>
          <a:xfrm>
            <a:off x="68400" y="68400"/>
            <a:ext cx="8383320" cy="74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IS</dc:creator>
  <dc:description/>
  <dc:language>en-US</dc:language>
  <cp:lastModifiedBy>GIS</cp:lastModifiedBy>
  <dcterms:modified xsi:type="dcterms:W3CDTF">2019-01-18T08:53:28Z</dcterms:modified>
  <cp:revision>1</cp:revision>
  <dc:subject/>
  <dc:title>Слайд 1</dc:title>
</cp:coreProperties>
</file>