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589-7BF6-4D66-80D1-2A7FD28B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D84-906A-4857-AA52-C5772C53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A8D-79D2-48C6-A856-924CB02F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EAF-9471-4BC7-9E16-9D84AC4F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7D5-26CB-4E55-9423-083C3B1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2E7-3260-45E7-A1BF-452DED66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5F2-8B63-47DF-94F9-7D68F8D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996-4772-4841-B020-CBAB7A42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AF7-A14E-421E-9D5A-443CB0B5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8FD7-B8B5-4164-A644-2088FA0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D4A-8E7D-4C7C-A2A6-DE83FBC0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CD7-B671-4BB7-8126-D8E1607C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84F9-DD98-44C1-9310-005FE4D28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Карта_градостроительного_зонирования_15000.jpg"/>
          <p:cNvPicPr/>
          <p:nvPr/>
        </p:nvPicPr>
        <p:blipFill>
          <a:blip r:embed="rId1"/>
          <a:stretch/>
        </p:blipFill>
        <p:spPr>
          <a:xfrm>
            <a:off x="407880" y="0"/>
            <a:ext cx="832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1T11:22:22Z</dcterms:created>
  <dc:creator>GIS</dc:creator>
  <dc:description/>
  <dc:language>en-US</dc:language>
  <cp:lastModifiedBy>GIS</cp:lastModifiedBy>
  <dcterms:modified xsi:type="dcterms:W3CDTF">2019-03-01T11:28:26Z</dcterms:modified>
  <cp:revision>1</cp:revision>
  <dc:subject/>
  <dc:title>Слайд 1</dc:title>
</cp:coreProperties>
</file>