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4F26-7C71-4F6A-AD84-CDCDD395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C507-7EFE-4AF0-BECD-7DC2561A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2BAF-8FAA-4C7C-AAA8-274C2B1A0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EA2D-9CC1-4994-8EAC-6198227A2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0C0A-8112-4C1F-B3E1-5DC359EF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C334-4881-4E5B-93C0-9169BE6B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0546-7528-4B53-A409-C87D46E8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C1F6-91AB-4327-B061-13D96287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44DE-1972-4829-8DD2-67776788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5797-5008-4C7B-9111-4178B923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BDC3-1B5F-43F6-9EBF-864917E1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B37A-1C65-41FA-8569-26B93162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C8CC-ED40-475D-8367-7CB065BDDD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Карта_границ_зон_с_особ_усл_исп_15000.JPG"/>
          <p:cNvPicPr/>
          <p:nvPr/>
        </p:nvPicPr>
        <p:blipFill>
          <a:blip r:embed="rId1"/>
          <a:stretch/>
        </p:blipFill>
        <p:spPr>
          <a:xfrm>
            <a:off x="409680" y="0"/>
            <a:ext cx="832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01T11:28:29Z</dcterms:created>
  <dc:creator>GIS</dc:creator>
  <dc:description/>
  <dc:language>en-US</dc:language>
  <cp:lastModifiedBy>GIS</cp:lastModifiedBy>
  <dcterms:modified xsi:type="dcterms:W3CDTF">2019-03-01T11:28:59Z</dcterms:modified>
  <cp:revision>1</cp:revision>
  <dc:subject/>
  <dc:title>Слайд 1</dc:title>
</cp:coreProperties>
</file>