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81D-263C-435E-ABF4-69C74AA0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75A-5779-4501-9014-84AE3A74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367-00EC-41E5-B2A0-29218C98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6C6-5AF9-45E2-89AA-86211638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85B-5B8C-4B59-97F1-958285B6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246-FC23-4663-9C92-E15C78EC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660-2393-48CD-9829-F78D6F9E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68BE-4755-48A1-A0F7-AB17CCCB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7B3-6CF9-4FDB-8DD2-88C0CA17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5E9-6584-4ECE-9AFB-48BC3E4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163-42C3-4582-B6A0-0DB37572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E13-A5E3-4EEE-9CD2-283A5F43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5B6-08DF-4EF1-84E5-335DC90B13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_границ_зон_с_особ_усл_исп_Фрагменты_Алтуховского_сп_3500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29:03Z</dcterms:created>
  <dc:creator>GIS</dc:creator>
  <dc:description/>
  <dc:language>en-US</dc:language>
  <cp:lastModifiedBy>GIS</cp:lastModifiedBy>
  <dcterms:modified xsi:type="dcterms:W3CDTF">2019-03-01T11:29:54Z</dcterms:modified>
  <cp:revision>1</cp:revision>
  <dc:subject/>
  <dc:title>Слайд 1</dc:title>
</cp:coreProperties>
</file>