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C8A-D215-4ADF-961D-C4100F63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164-258A-420C-AC4D-F4F69355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215-BE01-4469-AE33-FC638C4B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876-D1D6-4180-BC33-D9BF65A9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DD3-9C1D-4B69-9582-8F28DA87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916-0448-4C40-B640-E95ED1D7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611-9101-4097-AEB1-122D84D8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BAD-BC12-4D9E-8D21-EB848626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129-1421-4C5B-8A0A-29090115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7A3-9C46-4F50-B0C4-ED377A0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20C-38AF-4E39-B95E-4831A2B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B6D-42A4-484E-9468-5B15831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C5E3-DDFC-43DA-A202-EBE87A44A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3.Основной_чртеж_Алешенское_сп_10000.JPG"/>
          <p:cNvPicPr/>
          <p:nvPr/>
        </p:nvPicPr>
        <p:blipFill>
          <a:blip r:embed="rId1"/>
          <a:stretch/>
        </p:blipFill>
        <p:spPr>
          <a:xfrm>
            <a:off x="57168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16:06Z</dcterms:created>
  <dc:creator>GIS</dc:creator>
  <dc:description/>
  <dc:language>en-US</dc:language>
  <cp:lastModifiedBy>GIS</cp:lastModifiedBy>
  <dcterms:modified xsi:type="dcterms:W3CDTF">2019-03-01T11:16:38Z</dcterms:modified>
  <cp:revision>1</cp:revision>
  <dc:subject/>
  <dc:title>Слайд 1</dc:title>
</cp:coreProperties>
</file>