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016-3D53-45BC-98A7-F12C30D8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121-3D53-444C-B202-03C723AF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3BB-7EBB-4C0F-ADAE-2E1487D6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87E-E7D9-435E-BD20-EC90A349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6C0-FF9C-4CEF-A17D-C0B17998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CAF-226C-4B1B-A51C-128DA1DF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A72-BF48-4989-AF7E-FB13428F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A4C-0A6B-471E-B2F1-C087F78E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4FF-F884-41EA-A1A8-FA2F99F9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EC6-5373-4BAA-A78C-D25E14C7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D8D-6985-48B4-8A7E-630F942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A50-B119-4CF7-9D5F-CDD7CBEF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45D7-6E6C-4C25-B22C-FF1A96B368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.Карта_современного_исп_терр_Алешенское_сп_10000.JPG"/>
          <p:cNvPicPr/>
          <p:nvPr/>
        </p:nvPicPr>
        <p:blipFill>
          <a:blip r:embed="rId1"/>
          <a:stretch/>
        </p:blipFill>
        <p:spPr>
          <a:xfrm>
            <a:off x="289080" y="0"/>
            <a:ext cx="856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13:13Z</dcterms:created>
  <dc:creator>GIS</dc:creator>
  <dc:description/>
  <dc:language>en-US</dc:language>
  <cp:lastModifiedBy>GIS</cp:lastModifiedBy>
  <dcterms:modified xsi:type="dcterms:W3CDTF">2019-03-01T11:15:17Z</dcterms:modified>
  <cp:revision>1</cp:revision>
  <dc:subject/>
  <dc:title>Слайд 1</dc:title>
</cp:coreProperties>
</file>