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546-2645-4CC4-9188-54238CB7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45B-48F9-4B31-B035-B2CF065C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F35-5643-426D-88C9-C57CB8CD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EBB-27A6-4DC1-B004-F6760CB9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A98-BC4E-4164-9551-A0F2510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FAB-658C-47BE-9329-63885E4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8AB-DFCF-4FE3-844E-AF3F2F9E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332-D60E-4B6E-B2F8-01269039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9A4-16EB-4495-922E-A00A4D9F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D62-02F5-4C21-BD66-940CC33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7E8-8594-4F12-81F3-523F424C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066-26A3-4D62-A5AF-18402EC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36C-F7A5-4921-84AD-802ED3BE8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4.Основной_чртеж_Алешенское_сп_2000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6:40Z</dcterms:created>
  <dc:creator>GIS</dc:creator>
  <dc:description/>
  <dc:language>en-US</dc:language>
  <cp:lastModifiedBy>GIS</cp:lastModifiedBy>
  <dcterms:modified xsi:type="dcterms:W3CDTF">2019-03-01T11:17:40Z</dcterms:modified>
  <cp:revision>1</cp:revision>
  <dc:subject/>
  <dc:title>Слайд 1</dc:title>
</cp:coreProperties>
</file>