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E3A-D25C-4D0F-A31E-20EF0EE7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427-9AA4-4915-A695-7DFA8849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A4D-0756-4121-9F28-1497AFCD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770-35A2-47AB-9D79-71C72694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339-7F9D-4C6D-8EAC-C8A7489B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2B2-47C5-4CAC-90B8-6B9F4879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B28-14F2-4C1F-B56F-C8572C4E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52E-536E-4394-852A-23FA5CC1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1D8-F30C-4577-9347-3F5C3423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1D2-39FD-4300-880F-3291A148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605-A98A-4222-B89B-EA20635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183-A0A0-4085-8E72-C11BE5B7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7990-2A03-4903-80CF-34AB41BB0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2.Карта_современного_исп_терр_Алешенское_сп_2000.JPG"/>
          <p:cNvPicPr/>
          <p:nvPr/>
        </p:nvPicPr>
        <p:blipFill>
          <a:blip r:embed="rId1"/>
          <a:stretch/>
        </p:blipFill>
        <p:spPr>
          <a:xfrm>
            <a:off x="514440" y="0"/>
            <a:ext cx="81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15:20Z</dcterms:created>
  <dc:creator>GIS</dc:creator>
  <dc:description/>
  <dc:language>en-US</dc:language>
  <cp:lastModifiedBy>GIS</cp:lastModifiedBy>
  <dcterms:modified xsi:type="dcterms:W3CDTF">2019-03-01T11:16:05Z</dcterms:modified>
  <cp:revision>1</cp:revision>
  <dc:subject/>
  <dc:title>Слайд 1</dc:title>
</cp:coreProperties>
</file>