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789-ADD4-4AB8-8C83-7C7210C9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1D6-6057-4D18-AA87-7917FC9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114-858F-4C8F-9824-DD5161F7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630-04C3-4DB6-860C-5EB37424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702-E866-41A5-BDC7-BDA077B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F04-60D3-4A18-AAEE-DBBAB15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568-4927-4221-83D1-5F917AB9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4B7-E98B-434D-AF38-7934344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673-9A93-4B6A-AC68-0B8EE1E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A00-D7CC-4477-A19C-26910B4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EEE-776E-40D9-A83A-82DA3BA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55D-37FB-481B-8CEE-840B4CC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7C1-C5CA-4124-A926-8E968D2E8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.Карта_градостроительного_зонирования_Алешенское_сп_10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7:46Z</dcterms:created>
  <dc:creator>GIS</dc:creator>
  <dc:description/>
  <dc:language>en-US</dc:language>
  <cp:lastModifiedBy>GIS</cp:lastModifiedBy>
  <dcterms:modified xsi:type="dcterms:W3CDTF">2019-03-01T11:21:02Z</dcterms:modified>
  <cp:revision>1</cp:revision>
  <dc:subject/>
  <dc:title>Слайд 1</dc:title>
</cp:coreProperties>
</file>