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546-0FD8-4FBA-BF25-46B6D68C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B6A-2077-40BB-94C8-B89D295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915-BCE6-43C1-94A6-1E54094B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30D-634C-4BFA-9148-FAA6A5D9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9BC-CD07-4DE5-8181-3430913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713-3270-4112-AA25-5BE3210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829-440C-4A26-8373-21C56C13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9A9-472A-4B6A-BDE1-A23CC227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A56-00B8-4714-9BDD-B1DB250D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E12-C714-4BFF-9801-A1B052A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C58-B21A-4357-9D4B-9DA7F28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959-5DB4-4C68-8C4A-33F31F0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0A0-61B2-4682-8406-741B51C6F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2.Карта_зон_с_особыми_условиями_использования_террит_Алешенское_сп_10000.JPG"/>
          <p:cNvPicPr/>
          <p:nvPr/>
        </p:nvPicPr>
        <p:blipFill>
          <a:blip r:embed="rId1"/>
          <a:stretch/>
        </p:blipFill>
        <p:spPr>
          <a:xfrm>
            <a:off x="522360" y="0"/>
            <a:ext cx="80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21:24Z</dcterms:created>
  <dc:creator>GIS</dc:creator>
  <dc:description/>
  <dc:language>en-US</dc:language>
  <cp:lastModifiedBy>GIS</cp:lastModifiedBy>
  <dcterms:modified xsi:type="dcterms:W3CDTF">2019-03-01T11:22:20Z</dcterms:modified>
  <cp:revision>1</cp:revision>
  <dc:subject/>
  <dc:title>Слайд 1</dc:title>
</cp:coreProperties>
</file>