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91E-85A1-468C-9FC4-32B2E796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CD3-8AAE-4E0E-ABD5-B11E83B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F76-518D-4550-9846-4E323BC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6FE-7DD0-4634-AB42-F62BC9DF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FA3-4574-4BBD-9A90-6E819453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A10-22A8-4B45-93C5-FB538F4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1BA-B86F-454E-9731-4F47EC2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9DF-9FC2-4C98-9E7D-EC06942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CF9-6B8D-46D5-9E2E-005F728C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C49-418A-4758-9C32-0AB6307E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CC6-414B-4ED0-9667-8E0FA2F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2CC-E398-4B24-AAA7-A4F5132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4602-D404-4697-9C03-3D385EC00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ОГП4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35:10Z</dcterms:created>
  <dc:creator>GIS</dc:creator>
  <dc:description/>
  <dc:language>en-US</dc:language>
  <cp:lastModifiedBy>GIS</cp:lastModifiedBy>
  <dcterms:modified xsi:type="dcterms:W3CDTF">2019-03-01T11:35:48Z</dcterms:modified>
  <cp:revision>1</cp:revision>
  <dc:subject/>
  <dc:title>Слайд 1</dc:title>
</cp:coreProperties>
</file>