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C43-224F-4F02-A74A-1AD83770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21B-1B68-4CA5-9602-42350351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C6D-6AFF-412C-9980-FB9E083D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143-BD21-44C7-9C59-078BEF76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08B-36DA-4CBB-8D3C-2C836842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7B9-FA1A-43C7-BF14-74F6B956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B17-982C-4683-B0C1-156A1197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4D1-3375-404C-8827-EB4AD2BA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109-A5CB-46F2-A17E-A408A587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E40-522F-48CA-8527-B80B5F5A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BAE-E77D-4151-B8F6-0731C7F2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742-A5C4-4E43-A69C-B07D8A8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53F6-F6FA-45AB-A7C8-1B128B4379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КАРТАОГП1_БЯКОВО_БРЯНСК.jpg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33:43Z</dcterms:created>
  <dc:creator>GIS</dc:creator>
  <dc:description/>
  <dc:language>en-US</dc:language>
  <cp:lastModifiedBy>GIS</cp:lastModifiedBy>
  <dcterms:modified xsi:type="dcterms:W3CDTF">2019-03-01T11:34:08Z</dcterms:modified>
  <cp:revision>1</cp:revision>
  <dc:subject/>
  <dc:title>Слайд 1</dc:title>
</cp:coreProperties>
</file>