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857-4E56-4922-B1EC-38F1616D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DCD-A3A1-4C15-963D-B26CCDDC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973-A702-4A45-852E-AA7E8D09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A80F-42EB-4A95-80CE-08E9AFAA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F1F-289E-4FDB-99FA-EE32A263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9A2-ECD5-46B8-9406-3E18D15F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D96-E6D3-4629-BA33-655D12F5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E09-5113-45EA-82FA-17FF6880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371-DF42-4241-A214-0A9F548F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CFB-AA81-4623-94F8-CFB9D246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B36-86DE-4443-8F8B-C66903AC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5C6-EF51-4945-8EA2-A3DF66B1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8D36-335A-4FB0-9157-3612BFA045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КАРТАГП1_БЯКОВО_БРЯНСК.jpg"/>
          <p:cNvPicPr/>
          <p:nvPr/>
        </p:nvPicPr>
        <p:blipFill>
          <a:blip r:embed="rId1"/>
          <a:stretch/>
        </p:blipFill>
        <p:spPr>
          <a:xfrm>
            <a:off x="0" y="157320"/>
            <a:ext cx="914400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1:13:13Z</dcterms:created>
  <dc:creator>GIS</dc:creator>
  <dc:description/>
  <dc:language>en-US</dc:language>
  <cp:lastModifiedBy>GIS</cp:lastModifiedBy>
  <dcterms:modified xsi:type="dcterms:W3CDTF">2019-03-01T11:33:41Z</dcterms:modified>
  <cp:revision>1</cp:revision>
  <dc:subject/>
  <dc:title>Слайд 1</dc:title>
</cp:coreProperties>
</file>