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CD34-E35C-44B2-9DBD-1B9CAD24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83FA-2BB4-4390-9D3C-3703D9BB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1490-DF25-4DA8-9849-4D58340D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8447-1FA3-443E-92D7-E8A2AFED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6919-0C20-4E22-89B9-AD8286C7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1A7A-8B48-4C01-B368-28B26833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E543-6876-4D87-9F14-5C90E697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8BFC-6BD2-49C9-9DFF-5826A8CF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9BED-3418-4CD3-BC3E-D723F9FD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E3C9-2834-417B-A651-47894A60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61D5-98E0-4A0F-95C1-E597D7A0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531C-114C-4B0F-AEB6-FFC42688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3CF4-8FDC-4294-809A-BF45311886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КАРТАОГП2_БЯКОВО_БРЯНСК.jpg"/>
          <p:cNvPicPr/>
          <p:nvPr/>
        </p:nvPicPr>
        <p:blipFill>
          <a:blip r:embed="rId1"/>
          <a:stretch/>
        </p:blipFill>
        <p:spPr>
          <a:xfrm>
            <a:off x="0" y="157320"/>
            <a:ext cx="9144000" cy="65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1T11:34:11Z</dcterms:created>
  <dc:creator>GIS</dc:creator>
  <dc:description/>
  <dc:language>en-US</dc:language>
  <cp:lastModifiedBy>GIS</cp:lastModifiedBy>
  <dcterms:modified xsi:type="dcterms:W3CDTF">2019-03-01T11:34:37Z</dcterms:modified>
  <cp:revision>1</cp:revision>
  <dc:subject/>
  <dc:title>Слайд 1</dc:title>
</cp:coreProperties>
</file>