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060-3AC5-46E3-B235-64A549AD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A43-CA66-42AF-BE28-75DE647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499-1B87-4725-BC4B-2A831EBC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BD8-FFBC-4DAD-A57E-B35253D9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5BD-08B3-4A66-BF5C-B8A0366C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ADA-E346-4F6B-B100-45E3E0DF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C46-5AC3-4E74-A97B-5114DBA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F4C-C437-4D5F-809D-0EC8918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C0B-65AE-482E-80CD-D2F13A1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0C5-FBCF-42C2-81C7-AC3F392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934-6770-4F43-95AA-24154CF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5CE-8F7C-4B58-8A60-CCFE477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A78-3438-4F0C-8C1A-66552315E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ОГП3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34:39Z</dcterms:created>
  <dc:creator>GIS</dc:creator>
  <dc:description/>
  <dc:language>en-US</dc:language>
  <cp:lastModifiedBy>GIS</cp:lastModifiedBy>
  <dcterms:modified xsi:type="dcterms:W3CDTF">2019-03-01T11:35:08Z</dcterms:modified>
  <cp:revision>1</cp:revision>
  <dc:subject/>
  <dc:title>Слайд 1</dc:title>
</cp:coreProperties>
</file>