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8684-6B81-44F3-8FB9-5CC8A384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57C-19B2-4B04-A3E7-9C91E7A6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39D1-64F3-41B9-9C98-431A0DE3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8C71-7AC3-4478-9200-3D033D94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FE4B-82F0-40A8-89BC-25703300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9BC6-D731-4EAB-A453-AEC923F3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F28D-A3C6-49E9-86B5-FCE98E1E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A0DD-FD6C-4450-AC54-638D78E4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DB97-C8AF-41BA-9A54-61194F59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A087-79DB-4051-8ED4-468A321F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9B6A-E5B0-4229-8A3D-EB77A1E3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ABAF-D1DA-4312-95A4-C27223DC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AE0C-08CD-442C-AFF7-643A42B88E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КАРТАПЗЗ1_БЯКОВО_БРЯНСК.jpg"/>
          <p:cNvPicPr/>
          <p:nvPr/>
        </p:nvPicPr>
        <p:blipFill>
          <a:blip r:embed="rId1"/>
          <a:stretch/>
        </p:blipFill>
        <p:spPr>
          <a:xfrm>
            <a:off x="0" y="157320"/>
            <a:ext cx="9144000" cy="65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1T11:13:13Z</dcterms:created>
  <dc:creator>GIS</dc:creator>
  <dc:description/>
  <dc:language>en-US</dc:language>
  <cp:lastModifiedBy>GIS</cp:lastModifiedBy>
  <dcterms:modified xsi:type="dcterms:W3CDTF">2019-03-01T11:37:08Z</dcterms:modified>
  <cp:revision>1</cp:revision>
  <dc:subject/>
  <dc:title>Слайд 1</dc:title>
</cp:coreProperties>
</file>