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540-7204-4B69-AE82-FDB45C9F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8A4D-85FC-4AE7-9110-B9895A13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E315-2FFC-403C-8B79-B77E6F95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01FE-1BB1-435B-A9BE-C8B749B2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1C8F-1421-4A83-A461-91CBC61D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0368-6C5B-4F29-B007-8079426C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6C2C-2C30-4F3B-B538-0B743ACF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C4CA-2224-4C4A-9B3F-265460F1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783E-755D-416E-8F58-2A7178E4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14EE-D0FF-43EA-9E87-4D346F74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ED26-1305-4C6A-B671-4EEB19E3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FFBA-E5D3-4E52-9E13-C893410C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F13D-3393-4292-9A98-EED89C4B9E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КАРТАПЗЗ2_БЯКОВО_БРЯНСК.jpg"/>
          <p:cNvPicPr/>
          <p:nvPr/>
        </p:nvPicPr>
        <p:blipFill>
          <a:blip r:embed="rId1"/>
          <a:stretch/>
        </p:blipFill>
        <p:spPr>
          <a:xfrm>
            <a:off x="0" y="157320"/>
            <a:ext cx="9144000" cy="65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1T11:37:09Z</dcterms:created>
  <dc:creator>GIS</dc:creator>
  <dc:description/>
  <dc:language>en-US</dc:language>
  <cp:lastModifiedBy>GIS</cp:lastModifiedBy>
  <dcterms:modified xsi:type="dcterms:W3CDTF">2019-03-01T11:37:29Z</dcterms:modified>
  <cp:revision>1</cp:revision>
  <dc:subject/>
  <dc:title>Слайд 1</dc:title>
</cp:coreProperties>
</file>