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75D-3D2B-4FAE-9482-E837962E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004-05BC-486B-A35D-652972F0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EE4-80C8-4A3D-8EC4-937A3A50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D4E-9222-432F-BD9A-4C990730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09B-E64E-48A4-B9BF-42995B88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2F6-EC10-4F60-B830-76389C2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FD4-3FB4-4CBF-AEA8-9F3EE9B2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86F-8BE7-4A08-85F1-33D88A68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F5D-DB3A-4671-A49D-972D76DA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23C-70F8-43F6-BCB7-46758D4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8B2-A0C7-4116-BAB3-0777B93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9EE-8EDA-4B8F-BC2F-ADAF31C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C998-47DD-4196-8318-98EE7C9B31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ПЗЗ1_СИНЕЗЕР_БРЯНСК.jpg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3:13Z</dcterms:created>
  <dc:creator>GIS</dc:creator>
  <dc:description/>
  <dc:language>en-US</dc:language>
  <cp:lastModifiedBy>GIS</cp:lastModifiedBy>
  <dcterms:modified xsi:type="dcterms:W3CDTF">2019-03-01T12:03:10Z</dcterms:modified>
  <cp:revision>1</cp:revision>
  <dc:subject/>
  <dc:title>Слайд 1</dc:title>
</cp:coreProperties>
</file>