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8DFE-A218-48B0-B25D-4DFF5B15F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7B08-D87D-4E7E-A35B-8B21C027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FBD8-C03E-4EB9-9BD2-D8217B7FE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6DE3-7474-4B74-8710-B5C0B3C34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5659-7771-4F0C-9804-9AB544E8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6213-0A40-4A29-8E26-4BBA5683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00CF-BDBF-4995-BE21-2F038CC5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01F7-3B94-4DF2-8D8E-044BC050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B76E-B1DF-4F70-96B0-EA317F01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DF3E-CDD4-4074-A6C5-535AE335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F2BD-42F9-456C-8A7C-E0240771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8F27-9108-4AA4-A340-2B80D420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374B-EDB7-4D2B-B902-3EDE27D843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4" descr="КАРТАПЗЗ2_СИНЕЗЕР_БРЯНСК.jpg"/>
          <p:cNvPicPr/>
          <p:nvPr/>
        </p:nvPicPr>
        <p:blipFill>
          <a:blip r:embed="rId1"/>
          <a:stretch/>
        </p:blipFill>
        <p:spPr>
          <a:xfrm>
            <a:off x="0" y="903240"/>
            <a:ext cx="6858000" cy="733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01T12:03:11Z</dcterms:created>
  <dc:creator>GIS</dc:creator>
  <dc:description/>
  <dc:language>en-US</dc:language>
  <cp:lastModifiedBy>GIS</cp:lastModifiedBy>
  <dcterms:modified xsi:type="dcterms:W3CDTF">2019-03-01T12:03:49Z</dcterms:modified>
  <cp:revision>1</cp:revision>
  <dc:subject/>
  <dc:title>Слайд 1</dc:title>
</cp:coreProperties>
</file>