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23.png" ContentType="image/png"/>
  <Override PartName="/ppt/media/image13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33.png" ContentType="image/png"/>
  <Override PartName="/ppt/media/image14.jpeg" ContentType="image/jpeg"/>
  <Override PartName="/ppt/media/image34.png" ContentType="image/png"/>
  <Override PartName="/ppt/media/image9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16.png" ContentType="image/png"/>
  <Override PartName="/ppt/media/image17.png" ContentType="image/pn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907588" cy="6858000"/>
  <p:notesSz cx="6796088" cy="9925050"/>
</p:presentation>
</file>

<file path=ppt/commentAuthors.xml><?xml version="1.0" encoding="utf-8"?>
<p:cmAuthorLst xmlns:p="http://schemas.openxmlformats.org/presentationml/2006/main">
  <p:cmAuthor id="0" name="СонныхТА" initials="С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<Relationship Id="rId48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23-11-29T16:57:53.338000000" idx="1">
    <p:pos x="10" y="10"/>
    <p:text/>
  </p:cm>
  <p:cm authorId="0" dt="2023-11-29T16:57:55.117000000" idx="2">
    <p:pos x="146" y="146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5272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52720" y="9427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C21EED-9A46-49F2-BBC3-E6430B36D9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52720" y="9428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FFCBA67-5BB9-4A75-998C-89D0889B67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52720" y="9428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6DD50B-7EA4-48F1-9211-D0C6B38BA5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706320" y="741240"/>
            <a:ext cx="5384880" cy="3729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524CF9AC-A864-4D70-85A9-45F8CB37D7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52720" y="9428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6DA9F37-D6F4-4D48-800B-1BA8DB63E6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E6D2-4CA1-44AD-B98D-D5E4C06B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CFAE-5BE2-48F5-8CE5-F1B84BDB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FEEC-54E3-494A-A180-E09C59DE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0248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936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5524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0248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4936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8D58-FD21-4619-8D12-629E958A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55240" y="2282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B5A7-CBF5-4C49-8D67-7E1125DE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0248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936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5524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00248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84936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EC08-BFBA-4BFB-A66D-CAB22606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57D8-93D4-4E8D-9996-3BEF98F0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0A92-13C6-49EE-B926-9C07B3D3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DBFE-6D7E-4DE7-AF00-8468BD46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6E5E-7347-40FF-97F4-B322E705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039E-9164-46D1-89AB-894009A5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55240" y="2282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AEFD-6F19-4A49-A537-24291EDC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D768-8308-451F-BE04-EDA4505E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FC18-789F-4208-B019-68915C5E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6A4B-D6B0-4EE2-8F9D-29A28B5E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173D-5C32-44B4-A0F1-75E7C798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7442-57B5-4704-A055-D9B47FF9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0248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4936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5524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00248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84936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E078-9A41-4305-88E8-B76AEA0B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6CA4-DC4E-4679-B5C5-CF165776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155240" y="2282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00248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4936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15524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00248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84936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3DDC-6CF2-4D50-82B3-9C3127C6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5240" y="2282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CF73-10D0-4564-B675-8D890622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59C0-7858-41E0-A8F4-DEAB6D2D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71A-05EB-443C-AC04-44326C09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913D-6943-4603-A16D-93238F9E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edf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inance 01p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552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A100-5AF4-4C88-8DEB-BC27F4C6AD4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972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1212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29C4-D49F-444B-BECA-6337060FA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edf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finance 01p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finance 01p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123840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CD1D-8F96-466A-B478-7085D7681A5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8797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7594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4000-3EBD-497C-AF41-CABC89542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edf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finance 01p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19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25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images.yandex.ru/yandsearch?source=psearch&amp;text=&#1089;&#1087;&#1086;&#1088;&#1090;&amp;pos=8&amp;rpt=simage&amp;lr=7&amp;uinfo=sw-1180-sh-906-fw-955-fh-598-pd-1&amp;img_url=http%3A%2F%2Fwww.franklinliquors.com%2Fsports_link.jpg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www.admnav.ru/" TargetMode="External"/><Relationship Id="rId3" Type="http://schemas.openxmlformats.org/officeDocument/2006/relationships/hyperlink" Target="mailto:nvlfinotdel@mail.ru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141560" y="1327320"/>
            <a:ext cx="347004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716040" y="1773360"/>
            <a:ext cx="863892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НА ОСНОВЕ ПРОЕКТА РЕШ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«О БЮДЖЕТЕ НАВЛИНСКОГО МУНИЦИПАЛЬНОГО РАЙОНА БРЯНСКОЙ ОБЛАСТИ НА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2025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ГОД И НА ПЛАНОВЫЙ ПЕРИОД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2026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И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2027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ГОДОВ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1"/>
          <p:cNvSpPr/>
          <p:nvPr/>
        </p:nvSpPr>
        <p:spPr>
          <a:xfrm>
            <a:off x="1417680" y="393840"/>
            <a:ext cx="801216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  <a:ea typeface="Calibri"/>
              </a:rPr>
              <a:t>БЮДЖЕТ ДЛЯ ГРАЖДА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герб навли"/>
          <p:cNvPicPr/>
          <p:nvPr/>
        </p:nvPicPr>
        <p:blipFill>
          <a:blip r:embed="rId1"/>
          <a:stretch/>
        </p:blipFill>
        <p:spPr>
          <a:xfrm>
            <a:off x="0" y="71280"/>
            <a:ext cx="1417680" cy="17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омер слайда 5"/>
          <p:cNvSpPr/>
          <p:nvPr/>
        </p:nvSpPr>
        <p:spPr>
          <a:xfrm>
            <a:off x="7099200" y="627840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2712960" y="4370400"/>
            <a:ext cx="7043760" cy="6746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Публичные обсуждения муниципальных програм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14"/>
          <p:cNvSpPr/>
          <p:nvPr/>
        </p:nvSpPr>
        <p:spPr>
          <a:xfrm rot="5400000">
            <a:off x="1928520" y="4394160"/>
            <a:ext cx="808200" cy="760320"/>
          </a:xfrm>
          <a:custGeom>
            <a:avLst/>
            <a:gdLst>
              <a:gd name="textAreaLeft" fmla="*/ 0 w 808200"/>
              <a:gd name="textAreaRight" fmla="*/ 808560 w 80820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31" y="0"/>
                </a:lnTo>
                <a:lnTo>
                  <a:pt x="21600" y="10800"/>
                </a:lnTo>
                <a:lnTo>
                  <a:pt x="16531" y="21600"/>
                </a:lnTo>
                <a:lnTo>
                  <a:pt x="0" y="21600"/>
                </a:lnTo>
                <a:lnTo>
                  <a:pt x="5069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1327320" y="2732040"/>
            <a:ext cx="5771880" cy="74628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Публичные слушания по отчету об исполнении бюджета райо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4021200" y="1147680"/>
            <a:ext cx="5772240" cy="76536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Публичные слушания по проекту бюджета рай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3"/>
          <p:cNvSpPr/>
          <p:nvPr/>
        </p:nvSpPr>
        <p:spPr>
          <a:xfrm rot="5400000">
            <a:off x="472680" y="2793960"/>
            <a:ext cx="955800" cy="857160"/>
          </a:xfrm>
          <a:custGeom>
            <a:avLst/>
            <a:gdLst>
              <a:gd name="textAreaLeft" fmla="*/ 0 w 955800"/>
              <a:gd name="textAreaRight" fmla="*/ 956160 w 95580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17" y="0"/>
                </a:lnTo>
                <a:lnTo>
                  <a:pt x="21600" y="10800"/>
                </a:lnTo>
                <a:lnTo>
                  <a:pt x="16717" y="21600"/>
                </a:lnTo>
                <a:lnTo>
                  <a:pt x="0" y="21600"/>
                </a:lnTo>
                <a:lnTo>
                  <a:pt x="4883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4"/>
          <p:cNvSpPr/>
          <p:nvPr/>
        </p:nvSpPr>
        <p:spPr>
          <a:xfrm rot="5400000">
            <a:off x="3134880" y="1226880"/>
            <a:ext cx="984240" cy="857160"/>
          </a:xfrm>
          <a:custGeom>
            <a:avLst/>
            <a:gdLst>
              <a:gd name="textAreaLeft" fmla="*/ 0 w 984240"/>
              <a:gd name="textAreaRight" fmla="*/ 984600 w 98424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25" y="0"/>
                </a:lnTo>
                <a:lnTo>
                  <a:pt x="21600" y="10800"/>
                </a:lnTo>
                <a:lnTo>
                  <a:pt x="16825" y="21600"/>
                </a:lnTo>
                <a:lnTo>
                  <a:pt x="0" y="21600"/>
                </a:lnTo>
                <a:lnTo>
                  <a:pt x="4775" y="10800"/>
                </a:lnTo>
                <a:close/>
              </a:path>
            </a:pathLst>
          </a:custGeom>
          <a:solidFill>
            <a:srgbClr val="99ccff"/>
          </a:solidFill>
          <a:ln w="158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69012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ВОЗМОЖНОСТИ ВЛИЯНИЯ ГРАЖДАНИНА НА СОСТАВ БЮДЖ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21" descr=""/>
          <p:cNvPicPr/>
          <p:nvPr/>
        </p:nvPicPr>
        <p:blipFill>
          <a:blip r:embed="rId1"/>
          <a:stretch/>
        </p:blipFill>
        <p:spPr>
          <a:xfrm>
            <a:off x="7088040" y="2233440"/>
            <a:ext cx="2818080" cy="1744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2" descr=""/>
          <p:cNvPicPr/>
          <p:nvPr/>
        </p:nvPicPr>
        <p:blipFill>
          <a:blip r:embed="rId2"/>
          <a:stretch/>
        </p:blipFill>
        <p:spPr>
          <a:xfrm>
            <a:off x="60480" y="674640"/>
            <a:ext cx="3138480" cy="186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2"/>
          <p:cNvSpPr/>
          <p:nvPr/>
        </p:nvSpPr>
        <p:spPr>
          <a:xfrm>
            <a:off x="87480" y="0"/>
            <a:ext cx="9818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ПРОЕКТ БЮДЖЕТ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НАВЛИНСКОГО МУНИЦИПАЛЬНОГО РАЙОНА БРЯНСКОЙ ОБЛАСТИ на 2025 год и на плановый период 2026 и 2027 годов (тыс. руб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28600" y="1246320"/>
          <a:ext cx="9522000" cy="4491000"/>
        </p:xfrm>
        <a:graphic>
          <a:graphicData uri="http://schemas.openxmlformats.org/drawingml/2006/table">
            <a:tbl>
              <a:tblPr/>
              <a:tblGrid>
                <a:gridCol w="2033640"/>
                <a:gridCol w="1008000"/>
                <a:gridCol w="1144440"/>
                <a:gridCol w="924120"/>
                <a:gridCol w="1274760"/>
                <a:gridCol w="942840"/>
                <a:gridCol w="1185840"/>
                <a:gridCol w="1008360"/>
              </a:tblGrid>
              <a:tr h="1218960"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именовани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4 год ожидаемая 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2024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2025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7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2026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52760">
                <a:tc>
                  <a:txBody>
                    <a:bodyPr lIns="17280" rIns="17280" tIns="17280" bIns="172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</a:t>
                      </a: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бюджета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, в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26 2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71 9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2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53 2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7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73 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3,1%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04520">
                <a:tc>
                  <a:txBody>
                    <a:bodyPr lIns="17280" rIns="17280" tIns="17280" bIns="172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90 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1 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5,9%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15 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6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33 3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8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04880">
                <a:tc>
                  <a:txBody>
                    <a:bodyPr lIns="17280" rIns="17280" tIns="17280" bIns="172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36 0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70 5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7,8%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38 0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3,1%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39 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05000">
                <a:tc>
                  <a:txBody>
                    <a:bodyPr lIns="17280" rIns="17280" tIns="17280" bIns="172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12 8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71 9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2,7%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53 2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7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673 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3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04880">
                <a:tc>
                  <a:txBody>
                    <a:bodyPr lIns="17280" rIns="17280" tIns="17280" bIns="172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ефицит (-), профицит (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-86 6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280" rIns="17280" tIns="17280" bIns="17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9360" y="259920"/>
            <a:ext cx="922032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ОСНОВНЫЕ ПАРАМЕТРЫ БЮДЖЕТА РАЙОНА НА 2025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4"/>
          <p:cNvSpPr/>
          <p:nvPr/>
        </p:nvSpPr>
        <p:spPr>
          <a:xfrm rot="16200000">
            <a:off x="3863160" y="2159640"/>
            <a:ext cx="1728720" cy="2340000"/>
          </a:xfrm>
          <a:custGeom>
            <a:avLst/>
            <a:gdLst>
              <a:gd name="textAreaLeft" fmla="*/ 0 w 1728720"/>
              <a:gd name="textAreaRight" fmla="*/ 1729080 w 1728720"/>
              <a:gd name="textAreaTop" fmla="*/ 585000 h 2340000"/>
              <a:gd name="textAreaBottom" fmla="*/ 1755000 h 23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a6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3549600" y="1052640"/>
            <a:ext cx="2338560" cy="1368360"/>
          </a:xfrm>
          <a:prstGeom prst="rect">
            <a:avLst/>
          </a:prstGeom>
          <a:solidFill>
            <a:srgbClr val="92d050"/>
          </a:solidFill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458d"/>
                </a:solidFill>
                <a:latin typeface="Times New Roman"/>
                <a:ea typeface="Times New Roman"/>
              </a:rPr>
              <a:t>ДОХОДЫ</a:t>
            </a:r>
            <a:r>
              <a:rPr b="1" lang="ru-RU" sz="1800" spc="-1" strike="noStrike">
                <a:solidFill>
                  <a:srgbClr val="43458d"/>
                </a:solidFill>
                <a:latin typeface="Times New Roman"/>
              </a:rPr>
              <a:t> В РАСЧ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458d"/>
                </a:solidFill>
                <a:latin typeface="Times New Roman"/>
              </a:rPr>
              <a:t>НА 1 ЧЕЛОВЕ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458d"/>
                </a:solidFill>
                <a:latin typeface="Times New Roman"/>
              </a:rPr>
              <a:t>25 221,55 ру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527280" y="4314960"/>
            <a:ext cx="2338560" cy="1584360"/>
          </a:xfrm>
          <a:prstGeom prst="rect">
            <a:avLst/>
          </a:prstGeom>
          <a:solidFill>
            <a:srgbClr val="66ccff"/>
          </a:solidFill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458d"/>
                </a:solidFill>
                <a:latin typeface="Times New Roman"/>
              </a:rPr>
              <a:t>РАСХОДЫ В РАСЧЕТЕ НА 1 ЧЕЛОВЕ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458d"/>
                </a:solidFill>
                <a:latin typeface="Times New Roman"/>
              </a:rPr>
              <a:t>25 221,55 руб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Rectangle 7"/>
          <p:cNvGrpSpPr/>
          <p:nvPr/>
        </p:nvGrpSpPr>
        <p:grpSpPr>
          <a:xfrm>
            <a:off x="2730600" y="1006560"/>
            <a:ext cx="755640" cy="5162400"/>
            <a:chOff x="2730600" y="1006560"/>
            <a:chExt cx="755640" cy="5162400"/>
          </a:xfrm>
        </p:grpSpPr>
        <p:pic>
          <p:nvPicPr>
            <p:cNvPr id="253" name="Rectangle 7" descr=""/>
            <p:cNvPicPr/>
            <p:nvPr/>
          </p:nvPicPr>
          <p:blipFill>
            <a:blip r:embed="rId1"/>
            <a:stretch/>
          </p:blipFill>
          <p:spPr>
            <a:xfrm>
              <a:off x="2730600" y="1006560"/>
              <a:ext cx="755640" cy="51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 rot="10800000">
              <a:off x="2757240" y="1028520"/>
              <a:ext cx="701640" cy="51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43458d"/>
                  </a:solidFill>
                  <a:latin typeface="Times New Roman"/>
                  <a:ea typeface="Times New Roman"/>
                </a:rPr>
                <a:t>ДОХОДЫ  - 671 902 </a:t>
              </a:r>
              <a:r>
                <a:rPr b="1" lang="ru-RU" sz="1600" spc="-1" strike="noStrike">
                  <a:solidFill>
                    <a:srgbClr val="43458d"/>
                  </a:solidFill>
                  <a:latin typeface="Times New Roman"/>
                  <a:ea typeface="Times New Roman"/>
                </a:rPr>
                <a:t>ТЫС. РУБ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Rectangle 8"/>
          <p:cNvSpPr/>
          <p:nvPr/>
        </p:nvSpPr>
        <p:spPr>
          <a:xfrm rot="10800000">
            <a:off x="5932080" y="1084320"/>
            <a:ext cx="701640" cy="4983120"/>
          </a:xfrm>
          <a:prstGeom prst="rect">
            <a:avLst/>
          </a:prstGeom>
          <a:solidFill>
            <a:srgbClr val="66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458d"/>
                </a:solidFill>
                <a:latin typeface="Times New Roman"/>
              </a:rPr>
              <a:t>РАСХОДЫ – 671 902 </a:t>
            </a:r>
            <a:r>
              <a:rPr b="1" lang="ru-RU" sz="1600" spc="-1" strike="noStrike">
                <a:solidFill>
                  <a:srgbClr val="43458d"/>
                </a:solidFill>
                <a:latin typeface="Times New Roman"/>
              </a:rPr>
              <a:t>ТЫС.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9"/>
          <p:cNvSpPr/>
          <p:nvPr/>
        </p:nvSpPr>
        <p:spPr>
          <a:xfrm>
            <a:off x="0" y="1141560"/>
            <a:ext cx="2719440" cy="1368360"/>
          </a:xfrm>
          <a:custGeom>
            <a:avLst/>
            <a:gdLst>
              <a:gd name="textAreaLeft" fmla="*/ 0 w 2719440"/>
              <a:gd name="textAreaRight" fmla="*/ 2719800 w 271944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47" y="0"/>
                </a:lnTo>
                <a:lnTo>
                  <a:pt x="21600" y="10800"/>
                </a:lnTo>
                <a:lnTo>
                  <a:pt x="1664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АЛОГОВЫЕ ДО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5 317тыс.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10"/>
          <p:cNvSpPr/>
          <p:nvPr/>
        </p:nvSpPr>
        <p:spPr>
          <a:xfrm>
            <a:off x="0" y="4389480"/>
            <a:ext cx="2697120" cy="1368360"/>
          </a:xfrm>
          <a:custGeom>
            <a:avLst/>
            <a:gdLst>
              <a:gd name="textAreaLeft" fmla="*/ 0 w 2697120"/>
              <a:gd name="textAreaRight" fmla="*/ 2697120 w 269712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07" y="0"/>
                </a:lnTo>
                <a:lnTo>
                  <a:pt x="21600" y="10800"/>
                </a:lnTo>
                <a:lnTo>
                  <a:pt x="16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ЗВОЗМЕЗДНЫЕ ПОСТУП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70 502 тыс. руб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0" y="2825640"/>
            <a:ext cx="2698920" cy="1368360"/>
          </a:xfrm>
          <a:custGeom>
            <a:avLst/>
            <a:gdLst>
              <a:gd name="textAreaLeft" fmla="*/ 0 w 2698920"/>
              <a:gd name="textAreaRight" fmla="*/ 2699280 w 269892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10" y="0"/>
                </a:lnTo>
                <a:lnTo>
                  <a:pt x="21600" y="10800"/>
                </a:lnTo>
                <a:lnTo>
                  <a:pt x="166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НАЛОГОВЫЕ ДО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083тыс.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12"/>
          <p:cNvSpPr/>
          <p:nvPr/>
        </p:nvSpPr>
        <p:spPr>
          <a:xfrm rot="10800000">
            <a:off x="6732360" y="1032840"/>
            <a:ext cx="3173400" cy="417240"/>
          </a:xfrm>
          <a:custGeom>
            <a:avLst/>
            <a:gdLst>
              <a:gd name="textAreaLeft" fmla="*/ 0 w 3173400"/>
              <a:gd name="textAreaRight" fmla="*/ 3173760 w 3173400"/>
              <a:gd name="textAreaTop" fmla="*/ 0 h 417240"/>
              <a:gd name="textAreaBottom" fmla="*/ 417600 h 41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08" y="0"/>
                </a:lnTo>
                <a:lnTo>
                  <a:pt x="21600" y="10800"/>
                </a:lnTo>
                <a:lnTo>
                  <a:pt x="191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Образ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424 192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17"/>
          <p:cNvSpPr/>
          <p:nvPr/>
        </p:nvSpPr>
        <p:spPr>
          <a:xfrm rot="10800000">
            <a:off x="6633720" y="5392800"/>
            <a:ext cx="3249720" cy="365040"/>
          </a:xfrm>
          <a:custGeom>
            <a:avLst/>
            <a:gdLst>
              <a:gd name="textAreaLeft" fmla="*/ 0 w 3249720"/>
              <a:gd name="textAreaRight" fmla="*/ 3250080 w 324972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1" y="0"/>
                </a:lnTo>
                <a:lnTo>
                  <a:pt x="21600" y="10800"/>
                </a:lnTo>
                <a:lnTo>
                  <a:pt x="1832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rmAutofit fontScale="6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МБТ поселения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5 156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8"/>
          <p:cNvSpPr/>
          <p:nvPr/>
        </p:nvSpPr>
        <p:spPr>
          <a:xfrm rot="10800000">
            <a:off x="6633720" y="4411440"/>
            <a:ext cx="3272040" cy="447480"/>
          </a:xfrm>
          <a:custGeom>
            <a:avLst/>
            <a:gdLst>
              <a:gd name="textAreaLeft" fmla="*/ 0 w 3272040"/>
              <a:gd name="textAreaRight" fmla="*/ 3272400 w 327204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75" y="0"/>
                </a:lnTo>
                <a:lnTo>
                  <a:pt x="21600" y="10800"/>
                </a:lnTo>
                <a:lnTo>
                  <a:pt x="181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  <a:ea typeface="Times New Roman"/>
              </a:rPr>
              <a:t>Культура и кинематограф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  <a:ea typeface="Times New Roman"/>
              </a:rPr>
              <a:t>45 358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19"/>
          <p:cNvSpPr/>
          <p:nvPr/>
        </p:nvSpPr>
        <p:spPr>
          <a:xfrm rot="10800000">
            <a:off x="6700320" y="3218040"/>
            <a:ext cx="3219480" cy="652320"/>
          </a:xfrm>
          <a:custGeom>
            <a:avLst/>
            <a:gdLst>
              <a:gd name="textAreaLeft" fmla="*/ 0 w 3219480"/>
              <a:gd name="textAreaRight" fmla="*/ 3219840 w 321948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38" y="0"/>
                </a:lnTo>
                <a:lnTo>
                  <a:pt x="21600" y="10800"/>
                </a:lnTo>
                <a:lnTo>
                  <a:pt x="187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43458d"/>
                </a:solidFill>
                <a:latin typeface="Times New Roman"/>
              </a:rPr>
              <a:t>Национал</a:t>
            </a:r>
            <a:r>
              <a:rPr b="0" lang="ru-RU" sz="1300" spc="-1" strike="noStrike">
                <a:solidFill>
                  <a:srgbClr val="43458d"/>
                </a:solidFill>
                <a:latin typeface="Times New Roman"/>
              </a:rPr>
              <a:t>ь</a:t>
            </a:r>
            <a:r>
              <a:rPr b="1" lang="ru-RU" sz="1300" spc="-1" strike="noStrike">
                <a:solidFill>
                  <a:srgbClr val="43458d"/>
                </a:solidFill>
                <a:latin typeface="Times New Roman"/>
              </a:rPr>
              <a:t>на безопасность и правоохранительная деятельность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5 758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21"/>
          <p:cNvSpPr/>
          <p:nvPr/>
        </p:nvSpPr>
        <p:spPr>
          <a:xfrm rot="10800000">
            <a:off x="6700320" y="2377800"/>
            <a:ext cx="3219480" cy="341280"/>
          </a:xfrm>
          <a:custGeom>
            <a:avLst/>
            <a:gdLst>
              <a:gd name="textAreaLeft" fmla="*/ 0 w 3219480"/>
              <a:gd name="textAreaRight" fmla="*/ 3219840 w 321948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34" y="0"/>
                </a:lnTo>
                <a:lnTo>
                  <a:pt x="21600" y="10800"/>
                </a:lnTo>
                <a:lnTo>
                  <a:pt x="189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Социальная поли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         </a:t>
            </a: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91 840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22"/>
          <p:cNvSpPr/>
          <p:nvPr/>
        </p:nvSpPr>
        <p:spPr>
          <a:xfrm rot="10800000">
            <a:off x="6700680" y="3921120"/>
            <a:ext cx="3197520" cy="447840"/>
          </a:xfrm>
          <a:custGeom>
            <a:avLst/>
            <a:gdLst>
              <a:gd name="textAreaLeft" fmla="*/ 0 w 3197520"/>
              <a:gd name="textAreaRight" fmla="*/ 3197880 w 31975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64" y="0"/>
                </a:lnTo>
                <a:lnTo>
                  <a:pt x="21600" y="10800"/>
                </a:lnTo>
                <a:lnTo>
                  <a:pt x="189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Жилищно-коммунальное хозяйст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1 089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23"/>
          <p:cNvSpPr/>
          <p:nvPr/>
        </p:nvSpPr>
        <p:spPr>
          <a:xfrm rot="10800000">
            <a:off x="6661080" y="1461240"/>
            <a:ext cx="3245040" cy="412920"/>
          </a:xfrm>
          <a:custGeom>
            <a:avLst/>
            <a:gdLst>
              <a:gd name="textAreaLeft" fmla="*/ 0 w 3245040"/>
              <a:gd name="textAreaRight" fmla="*/ 3245400 w 324504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46" y="0"/>
                </a:lnTo>
                <a:lnTo>
                  <a:pt x="21600" y="10800"/>
                </a:lnTo>
                <a:lnTo>
                  <a:pt x="187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Общегосударственные вопро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60 569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22"/>
          <p:cNvSpPr/>
          <p:nvPr/>
        </p:nvSpPr>
        <p:spPr>
          <a:xfrm rot="10800000">
            <a:off x="6744960" y="2760480"/>
            <a:ext cx="3174840" cy="417240"/>
          </a:xfrm>
          <a:custGeom>
            <a:avLst/>
            <a:gdLst>
              <a:gd name="textAreaLeft" fmla="*/ 0 w 3174840"/>
              <a:gd name="textAreaRight" fmla="*/ 3175200 w 3174840"/>
              <a:gd name="textAreaTop" fmla="*/ 0 h 417240"/>
              <a:gd name="textAreaBottom" fmla="*/ 417600 h 41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33" y="0"/>
                </a:lnTo>
                <a:lnTo>
                  <a:pt x="21600" y="10800"/>
                </a:lnTo>
                <a:lnTo>
                  <a:pt x="1913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Национальная эконом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26 642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20"/>
          <p:cNvSpPr/>
          <p:nvPr/>
        </p:nvSpPr>
        <p:spPr>
          <a:xfrm rot="10800000">
            <a:off x="6622560" y="4908240"/>
            <a:ext cx="3272040" cy="439560"/>
          </a:xfrm>
          <a:custGeom>
            <a:avLst/>
            <a:gdLst>
              <a:gd name="textAreaLeft" fmla="*/ 0 w 3272040"/>
              <a:gd name="textAreaRight" fmla="*/ 3272400 w 3272040"/>
              <a:gd name="textAreaTop" fmla="*/ 0 h 439560"/>
              <a:gd name="textAreaBottom" fmla="*/ 439920 h 43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44" y="0"/>
                </a:lnTo>
                <a:lnTo>
                  <a:pt x="21600" y="10800"/>
                </a:lnTo>
                <a:lnTo>
                  <a:pt x="18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Физическая культура и спор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10 966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21"/>
          <p:cNvSpPr/>
          <p:nvPr/>
        </p:nvSpPr>
        <p:spPr>
          <a:xfrm rot="10800000">
            <a:off x="6654960" y="1917360"/>
            <a:ext cx="3257280" cy="415800"/>
          </a:xfrm>
          <a:custGeom>
            <a:avLst/>
            <a:gdLst>
              <a:gd name="textAreaLeft" fmla="*/ 0 w 3257280"/>
              <a:gd name="textAreaRight" fmla="*/ 3257640 w 32572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36" y="0"/>
                </a:lnTo>
                <a:lnTo>
                  <a:pt x="21600" y="10800"/>
                </a:lnTo>
                <a:lnTo>
                  <a:pt x="187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Национальная оборо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         </a:t>
            </a: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5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17"/>
          <p:cNvSpPr/>
          <p:nvPr/>
        </p:nvSpPr>
        <p:spPr>
          <a:xfrm rot="10800000">
            <a:off x="6656040" y="5802480"/>
            <a:ext cx="3249720" cy="365040"/>
          </a:xfrm>
          <a:custGeom>
            <a:avLst/>
            <a:gdLst>
              <a:gd name="textAreaLeft" fmla="*/ 0 w 3249720"/>
              <a:gd name="textAreaRight" fmla="*/ 3250080 w 324972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1" y="0"/>
                </a:lnTo>
                <a:lnTo>
                  <a:pt x="21600" y="10800"/>
                </a:lnTo>
                <a:lnTo>
                  <a:pt x="1832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rmAutofit fontScale="6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Охрана окружающей сре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327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6920" y="90000"/>
            <a:ext cx="8069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ДОХОДЫ БЮДЖЕТА РАЙ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9"/>
          <p:cNvSpPr/>
          <p:nvPr/>
        </p:nvSpPr>
        <p:spPr>
          <a:xfrm>
            <a:off x="384120" y="627120"/>
            <a:ext cx="898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Доходы бюджета - поступающие в бюджет денежные средства, за исключением средств, являющихся источниками финансирования дефицита бюдже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Скругленный прямоугольник 2"/>
          <p:cNvSpPr/>
          <p:nvPr/>
        </p:nvSpPr>
        <p:spPr>
          <a:xfrm>
            <a:off x="3503520" y="1498680"/>
            <a:ext cx="2654280" cy="635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3619440" y="1627200"/>
            <a:ext cx="25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Georgia"/>
              </a:rPr>
              <a:t>Доходы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Скругленный прямоугольник 5"/>
          <p:cNvSpPr/>
          <p:nvPr/>
        </p:nvSpPr>
        <p:spPr>
          <a:xfrm>
            <a:off x="636480" y="2484360"/>
            <a:ext cx="2340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Скругленный прямоугольник 421"/>
          <p:cNvSpPr/>
          <p:nvPr/>
        </p:nvSpPr>
        <p:spPr>
          <a:xfrm>
            <a:off x="3436920" y="2558880"/>
            <a:ext cx="265428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Скругленный прямоугольник 422"/>
          <p:cNvSpPr/>
          <p:nvPr/>
        </p:nvSpPr>
        <p:spPr>
          <a:xfrm>
            <a:off x="6603840" y="2484360"/>
            <a:ext cx="26528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Скругленный прямоугольник 7"/>
          <p:cNvSpPr/>
          <p:nvPr/>
        </p:nvSpPr>
        <p:spPr>
          <a:xfrm>
            <a:off x="388800" y="3354480"/>
            <a:ext cx="2600640" cy="247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Скругленный прямоугольник 424"/>
          <p:cNvSpPr/>
          <p:nvPr/>
        </p:nvSpPr>
        <p:spPr>
          <a:xfrm>
            <a:off x="3379680" y="3354480"/>
            <a:ext cx="2813040" cy="247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Скругленный прямоугольник 425"/>
          <p:cNvSpPr/>
          <p:nvPr/>
        </p:nvSpPr>
        <p:spPr>
          <a:xfrm>
            <a:off x="6602400" y="3354480"/>
            <a:ext cx="2828880" cy="247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8"/>
          <p:cNvSpPr/>
          <p:nvPr/>
        </p:nvSpPr>
        <p:spPr>
          <a:xfrm>
            <a:off x="600120" y="2484360"/>
            <a:ext cx="23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Georgia"/>
              </a:rPr>
              <a:t>Налоговые до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9"/>
          <p:cNvSpPr/>
          <p:nvPr/>
        </p:nvSpPr>
        <p:spPr>
          <a:xfrm>
            <a:off x="3503520" y="2573280"/>
            <a:ext cx="26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Georgia"/>
              </a:rPr>
              <a:t>Неналоговые</a:t>
            </a:r>
            <a:r>
              <a:rPr b="0" lang="ru-RU" sz="1800" spc="-1" strike="noStrike">
                <a:solidFill>
                  <a:srgbClr val="00664d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664d"/>
                </a:solidFill>
                <a:latin typeface="Georgia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10"/>
          <p:cNvSpPr/>
          <p:nvPr/>
        </p:nvSpPr>
        <p:spPr>
          <a:xfrm>
            <a:off x="6700680" y="2484360"/>
            <a:ext cx="25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Georgia"/>
              </a:rPr>
              <a:t>Безвозмездные</a:t>
            </a:r>
            <a:r>
              <a:rPr b="0" lang="ru-RU" sz="1800" spc="-1" strike="noStrike">
                <a:solidFill>
                  <a:srgbClr val="00664d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664d"/>
                </a:solidFill>
                <a:latin typeface="Georgia"/>
              </a:rPr>
              <a:t>поступ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Прямая соединительная линия 12"/>
          <p:cNvSpPr/>
          <p:nvPr/>
        </p:nvSpPr>
        <p:spPr>
          <a:xfrm>
            <a:off x="4735440" y="2133720"/>
            <a:ext cx="0" cy="42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Прямая соединительная линия 14"/>
          <p:cNvSpPr/>
          <p:nvPr/>
        </p:nvSpPr>
        <p:spPr>
          <a:xfrm flipV="1">
            <a:off x="1782720" y="2268000"/>
            <a:ext cx="0" cy="20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Прямая соединительная линия 433"/>
          <p:cNvSpPr/>
          <p:nvPr/>
        </p:nvSpPr>
        <p:spPr>
          <a:xfrm flipV="1">
            <a:off x="7962840" y="2268000"/>
            <a:ext cx="0" cy="20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Прямая соединительная линия 16"/>
          <p:cNvSpPr/>
          <p:nvPr/>
        </p:nvSpPr>
        <p:spPr>
          <a:xfrm>
            <a:off x="1781280" y="2255760"/>
            <a:ext cx="6192720" cy="1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Box 18"/>
          <p:cNvSpPr/>
          <p:nvPr/>
        </p:nvSpPr>
        <p:spPr>
          <a:xfrm>
            <a:off x="401760" y="3402000"/>
            <a:ext cx="25747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4d"/>
                </a:solidFill>
                <a:latin typeface="Georgia"/>
              </a:rPr>
              <a:t>Поступления от уплаты налогов, установленных Налоговым кодексом Российской Федерации</a:t>
            </a:r>
            <a:r>
              <a:rPr b="1" lang="en-US" sz="1000" spc="-1" strike="noStrike">
                <a:solidFill>
                  <a:srgbClr val="00664d"/>
                </a:solidFill>
                <a:latin typeface="Georgia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4d"/>
                </a:solidFill>
                <a:latin typeface="Georgia"/>
              </a:rPr>
              <a:t>- налог на доходы физических ли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664d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4d"/>
                </a:solidFill>
                <a:latin typeface="Georgia"/>
              </a:rPr>
              <a:t>акциз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664d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4d"/>
                </a:solidFill>
                <a:latin typeface="Georgia"/>
              </a:rPr>
              <a:t>налог, взимаемый в связи с применением патентной системы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4d"/>
                </a:solidFill>
                <a:latin typeface="Georgia"/>
              </a:rPr>
              <a:t>- иные налог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Box 19"/>
          <p:cNvSpPr/>
          <p:nvPr/>
        </p:nvSpPr>
        <p:spPr>
          <a:xfrm>
            <a:off x="3476520" y="3498840"/>
            <a:ext cx="279108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664d"/>
                </a:solidFill>
                <a:latin typeface="Georgia"/>
              </a:rPr>
              <a:t>Поступления доходов от использования государственного (муниципального) имущества, от платных услуг, оказываемых казенными учреждениями, штрафных санкций за нарушение законодательства, иных неналоговых платеже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Box 20"/>
          <p:cNvSpPr/>
          <p:nvPr/>
        </p:nvSpPr>
        <p:spPr>
          <a:xfrm>
            <a:off x="6691320" y="3402000"/>
            <a:ext cx="2717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4d"/>
                </a:solidFill>
                <a:latin typeface="Georgia"/>
              </a:rPr>
              <a:t>Поступления доходы в виде финансовой помощи, полученной от бюджетов других уровней бюджетной системы РФ (межбюджетные трансферты), безвозмездные поступления от организаций и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6440" y="71280"/>
            <a:ext cx="968688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ДИНАМИКА ПОСТУПЛЕНИЯ ДОХОДОВ БЮДЖЕТА  </a:t>
            </a:r>
            <a:br>
              <a:rPr sz="2000"/>
            </a:b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ыс. руб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Object 7"/>
          <p:cNvGraphicFramePr/>
          <p:nvPr/>
        </p:nvGraphicFramePr>
        <p:xfrm>
          <a:off x="136440" y="658800"/>
          <a:ext cx="9464760" cy="522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658800"/>
                    <a:ext cx="946476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edf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22000" y="0"/>
            <a:ext cx="8915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ТИВЫ 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ЧИСЛЕНИЙ НАЛОГОВЫХ И НЕНАЛОГОВЫХ ДОХОДОВ В РАЙОННЫЙ БЮДЖ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0" y="712800"/>
          <a:ext cx="9914040" cy="6502320"/>
        </p:xfrm>
        <a:graphic>
          <a:graphicData uri="http://schemas.openxmlformats.org/drawingml/2006/table">
            <a:tbl>
              <a:tblPr/>
              <a:tblGrid>
                <a:gridCol w="4726080"/>
                <a:gridCol w="1068120"/>
                <a:gridCol w="4119840"/>
              </a:tblGrid>
              <a:tr h="961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4 год (на территориях городских/сельских поселений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но-правовой акт, устанавливающий норматив в бюджет района на 2025-2027г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7340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/6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 (5% и 13% сельских территорий ), проект закона Брянской области «Об областном бюджете на 2025 год и на плановый период 2026 и 2027 годов» (48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186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зы по подакцизным товарам (продукции) произведенным на территорий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62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закона Брянской области «Об областном бюджете на 2025 год и на плановый период 2026 и 2027 годов»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63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149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/7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149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ошлина, сбо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29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ередачи в аренду земельных участков, государственная собственность на которые не разграниче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/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20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муниципальной собств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163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оступления от использования имуще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8384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асть прибыли муниципальных унитарных предприятий, остающейся после уплаты налогов и иных обязательных платеж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юджетный кодекс РФ, проект решения районного Совета народных депутатов «О бюджете Навлинского муниципального района Брянской области на 2025 год и на плановый период 2026 и 2027 годов»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384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 (60%), проект закона Брянской области (40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451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реализации имуще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215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земельных участков государственная собственность на которые не разграниче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/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779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оказания платных услуг и компенсаций затрат государ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196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41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неналоговые дох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11120" y="195120"/>
            <a:ext cx="92822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Georgia"/>
              </a:rPr>
              <a:t>СТРУКТУРА НАЛОГОВЫХ И НЕНАЛОГОВЫХ ДОХОДОВ В БЮДЖЕТ НАВЛИНСКОГО МУНИЦИПАЛЬНОГО РАЙО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Объект 6"/>
          <p:cNvGraphicFramePr/>
          <p:nvPr/>
        </p:nvGraphicFramePr>
        <p:xfrm>
          <a:off x="824040" y="993600"/>
          <a:ext cx="4235400" cy="223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040" y="993600"/>
                    <a:ext cx="423540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Объект 10"/>
          <p:cNvGraphicFramePr/>
          <p:nvPr/>
        </p:nvGraphicFramePr>
        <p:xfrm>
          <a:off x="5543640" y="993600"/>
          <a:ext cx="4149720" cy="2235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9" name="Объект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43640" y="993600"/>
                    <a:ext cx="414972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Объект 6"/>
          <p:cNvGraphicFramePr/>
          <p:nvPr/>
        </p:nvGraphicFramePr>
        <p:xfrm>
          <a:off x="752400" y="3373560"/>
          <a:ext cx="4125960" cy="238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1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2400" y="3373560"/>
                    <a:ext cx="4125960" cy="23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Объект 10"/>
          <p:cNvGraphicFramePr/>
          <p:nvPr/>
        </p:nvGraphicFramePr>
        <p:xfrm>
          <a:off x="5721480" y="3378240"/>
          <a:ext cx="4057560" cy="23893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03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1480" y="3378240"/>
                    <a:ext cx="4057560" cy="23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5240" y="757080"/>
            <a:ext cx="8420040" cy="1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НАЛОГ НА ДОХОДЫ ФИЗИЧЕСКИХ ЛИЦ, млн. рублей</a:t>
            </a:r>
            <a:br>
              <a:rPr sz="23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Объект 20"/>
          <p:cNvGraphicFramePr/>
          <p:nvPr/>
        </p:nvGraphicFramePr>
        <p:xfrm>
          <a:off x="582480" y="585720"/>
          <a:ext cx="6148440" cy="23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Объект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2480" y="585720"/>
                    <a:ext cx="614844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 txBox="1"/>
          <p:nvPr/>
        </p:nvSpPr>
        <p:spPr>
          <a:xfrm>
            <a:off x="7192440" y="814320"/>
            <a:ext cx="23828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2060"/>
                </a:solidFill>
                <a:latin typeface="Georgia"/>
              </a:rPr>
              <a:t>Дополнительный норматив от НДФЛ взамен дотации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2060"/>
                </a:solidFill>
                <a:latin typeface="Georgia"/>
              </a:rPr>
              <a:t>в 2024 году- 47% ; на 2025 год - 48%; на 2026 год - 48%; на 2027 год - 48%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67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2060"/>
                </a:solidFill>
                <a:latin typeface="Georgia"/>
              </a:rPr>
              <a:t>Факторы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1361"/>
              </a:lnSpc>
              <a:spcBef>
                <a:spcPts val="275"/>
              </a:spcBef>
              <a:spcAft>
                <a:spcPts val="213"/>
              </a:spcAft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2060"/>
                </a:solidFill>
                <a:latin typeface="Georgia"/>
              </a:rPr>
              <a:t>индексация заработной платы работникам организаций в связи с инфляцией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1412"/>
              </a:lnSpc>
              <a:spcBef>
                <a:spcPts val="275"/>
              </a:spcBef>
              <a:spcAft>
                <a:spcPts val="213"/>
              </a:spcAft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2060"/>
                </a:solidFill>
                <a:latin typeface="Georgia"/>
              </a:rPr>
              <a:t>увеличение с 01.01.2025 г. МРОТ (22 440 руб.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1386"/>
              </a:lnSpc>
              <a:spcBef>
                <a:spcPts val="2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2060"/>
                </a:solidFill>
                <a:latin typeface="Georgia"/>
              </a:rPr>
              <a:t>расширение прогрессивной шкалы налогообложения по налогу на доходы физических лиц и увеличение стандартных вычетов по налогу на доходы физических лиц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Объект 20"/>
          <p:cNvGraphicFramePr/>
          <p:nvPr/>
        </p:nvGraphicFramePr>
        <p:xfrm>
          <a:off x="1166760" y="3154320"/>
          <a:ext cx="5626080" cy="2560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9" name="Объект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6760" y="3154320"/>
                    <a:ext cx="562608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9000" y="241200"/>
            <a:ext cx="934740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ОТДЕЛЬНЫЕ НАЛОГОВЫЕ И НЕНАЛОГОВЫЕ ДОХОДЫ 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(млн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Объект 6"/>
          <p:cNvGraphicFramePr/>
          <p:nvPr/>
        </p:nvGraphicFramePr>
        <p:xfrm>
          <a:off x="279360" y="828720"/>
          <a:ext cx="5060880" cy="227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828720"/>
                    <a:ext cx="506088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Объект 10"/>
          <p:cNvGraphicFramePr/>
          <p:nvPr/>
        </p:nvGraphicFramePr>
        <p:xfrm>
          <a:off x="5391000" y="828720"/>
          <a:ext cx="4388040" cy="2270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4" name="Объект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1000" y="828720"/>
                    <a:ext cx="438804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Объект 6"/>
          <p:cNvGraphicFramePr/>
          <p:nvPr/>
        </p:nvGraphicFramePr>
        <p:xfrm>
          <a:off x="479520" y="3284640"/>
          <a:ext cx="4860720" cy="2270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16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9520" y="3284640"/>
                    <a:ext cx="486072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Объект 10"/>
          <p:cNvGraphicFramePr/>
          <p:nvPr/>
        </p:nvGraphicFramePr>
        <p:xfrm>
          <a:off x="5543640" y="3378240"/>
          <a:ext cx="4235400" cy="21765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18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43640" y="3378240"/>
                    <a:ext cx="423540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Рисунок 1" descr=""/>
          <p:cNvPicPr/>
          <p:nvPr/>
        </p:nvPicPr>
        <p:blipFill>
          <a:blip r:embed="rId1"/>
          <a:stretch/>
        </p:blipFill>
        <p:spPr>
          <a:xfrm>
            <a:off x="7651800" y="1022400"/>
            <a:ext cx="1654200" cy="177012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2"/>
          <p:cNvSpPr/>
          <p:nvPr/>
        </p:nvSpPr>
        <p:spPr>
          <a:xfrm>
            <a:off x="826920" y="331920"/>
            <a:ext cx="8374320" cy="63000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МЕЖБЮДЖЕТНЫЕ ТРАНСФЕР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Прямоугольник 3"/>
          <p:cNvSpPr/>
          <p:nvPr/>
        </p:nvSpPr>
        <p:spPr>
          <a:xfrm>
            <a:off x="919080" y="1395360"/>
            <a:ext cx="6553440" cy="1046160"/>
          </a:xfrm>
          <a:prstGeom prst="rect">
            <a:avLst/>
          </a:prstGeom>
          <a:solidFill>
            <a:srgbClr val="b3c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Межбюджетные трансферты (безвозмездные поступления) - это средства одного бюджета бюджетной системы РФ, перечисляемые другому бюджету бюджетной системы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717480" y="2629080"/>
          <a:ext cx="8345520" cy="4114800"/>
        </p:xfrm>
        <a:graphic>
          <a:graphicData uri="http://schemas.openxmlformats.org/drawingml/2006/table">
            <a:tbl>
              <a:tblPr/>
              <a:tblGrid>
                <a:gridCol w="2830680"/>
                <a:gridCol w="2751120"/>
                <a:gridCol w="2763720"/>
              </a:tblGrid>
              <a:tr h="1646280"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Дотации 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(от лат. 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«Dotatio» 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- дар, пожертвова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d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Субсидии 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(от лат. 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«Subsidium» 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-поддерж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Субвенции 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(от лат. 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«Subvenire» 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-приходить на помощ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880720">
                <a:tc>
                  <a:txBody>
                    <a:bodyPr lIns="0" rIns="0" tIns="0" bIns="0" anchor="t">
                      <a:noAutofit/>
                    </a:bodyPr>
                    <a:p>
                      <a:pPr marL="101520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Предоставляются без определенияконкретной цели их исполь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d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8920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01520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Georgia"/>
                          <a:ea typeface="Times New Roman"/>
                        </a:rPr>
                        <a:t>Предоставляются на финансирование «переданных» другим публично-правовым образованиям полномоч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01520"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30120" y="165240"/>
            <a:ext cx="92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66"/>
                </a:solidFill>
                <a:latin typeface="Times New Roman"/>
              </a:rPr>
              <a:t>Уважаемые жители!</a:t>
            </a:r>
            <a:r>
              <a:rPr b="1" lang="ru-RU" sz="1800" spc="-1" strike="noStrike">
                <a:solidFill>
                  <a:srgbClr val="191966"/>
                </a:solidFill>
                <a:latin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Рисунок 5" descr=""/>
          <p:cNvPicPr/>
          <p:nvPr/>
        </p:nvPicPr>
        <p:blipFill>
          <a:blip r:embed="rId1"/>
          <a:stretch/>
        </p:blipFill>
        <p:spPr>
          <a:xfrm>
            <a:off x="6829560" y="4484520"/>
            <a:ext cx="3076560" cy="201636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2"/>
          <p:cNvSpPr/>
          <p:nvPr/>
        </p:nvSpPr>
        <p:spPr>
          <a:xfrm>
            <a:off x="330120" y="647640"/>
            <a:ext cx="89265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Georgi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Georgia"/>
              </a:rPr>
              <a:t>Перед Вами информационный материал – «Бюджет для граждан», где в доступной и понятной форме отражены основные параметры проекта бюджета Навлинского муниципального района на 2025 год и плановый период 2026 и 2027 год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Georgi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Georgia"/>
              </a:rPr>
              <a:t>Создавая «Бюджет для граждан», мы стремились обеспечить реализацию принципов прозрачности и открытости бюджетных данны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Georgi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Georgia"/>
              </a:rPr>
              <a:t>Размещенная информация даст Вам возможность составить представление о направлениях расходования бюджетных средств. Каждый житель имеет возможность получить информацию о том, сколько поступает доходов в бюджет района, сколько и куда тратится средст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Georgia"/>
              </a:rPr>
              <a:t>Надеемся, что данный материал станет для Вас значимым подспорьем в знакомстве с бюджетом Навлинского муниципального район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БЕЗВОЗМЕЗДНЫЕ ПОСТУПЛЕН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ТЫС.РУБ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Объект 3"/>
          <p:cNvGraphicFramePr/>
          <p:nvPr/>
        </p:nvGraphicFramePr>
        <p:xfrm>
          <a:off x="1104840" y="662040"/>
          <a:ext cx="8521920" cy="53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662040"/>
                    <a:ext cx="852192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14"/>
          <p:cNvSpPr/>
          <p:nvPr/>
        </p:nvSpPr>
        <p:spPr>
          <a:xfrm>
            <a:off x="905040" y="28404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  <a:ea typeface="Arial"/>
              </a:rPr>
              <a:t>РАСХОДЫ БЮДЖ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0c0632cc76566fe8dd5db3601f5a0970"/>
          <p:cNvPicPr/>
          <p:nvPr/>
        </p:nvPicPr>
        <p:blipFill>
          <a:blip r:embed="rId1"/>
          <a:stretch/>
        </p:blipFill>
        <p:spPr>
          <a:xfrm>
            <a:off x="-33480" y="1484280"/>
            <a:ext cx="3370320" cy="25020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7"/>
          <p:cNvSpPr/>
          <p:nvPr/>
        </p:nvSpPr>
        <p:spPr>
          <a:xfrm>
            <a:off x="1685880" y="3809880"/>
            <a:ext cx="8134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Бюджет района на 2025-2027 гг. является социально ориентированны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Расходы на образование, культуру, социальную политику, физическую культуру и спорт в 2025 году составят 572 356тыс.руб. (85,2% от общего объема запланированных расходов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9" descr="sport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25680" y="1668600"/>
            <a:ext cx="2808360" cy="19447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1" descr="3836084211"/>
          <p:cNvPicPr/>
          <p:nvPr/>
        </p:nvPicPr>
        <p:blipFill>
          <a:blip r:embed="rId4"/>
          <a:stretch/>
        </p:blipFill>
        <p:spPr>
          <a:xfrm>
            <a:off x="6513480" y="1413000"/>
            <a:ext cx="2884680" cy="199836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9"/>
          <p:cNvSpPr/>
          <p:nvPr/>
        </p:nvSpPr>
        <p:spPr>
          <a:xfrm>
            <a:off x="114480" y="838080"/>
            <a:ext cx="9520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2228b"/>
                </a:solidFill>
                <a:latin typeface="Tahoma"/>
              </a:rPr>
              <a:t>Расходы бюджета – выплачиваемые из бюджета денежные средства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2960" y="-103320"/>
            <a:ext cx="9615240" cy="944640"/>
          </a:xfrm>
          <a:prstGeom prst="rect">
            <a:avLst/>
          </a:prstGeom>
          <a:gradFill rotWithShape="0">
            <a:gsLst>
              <a:gs pos="0">
                <a:srgbClr val="a3a3e4"/>
              </a:gs>
              <a:gs pos="100000">
                <a:srgbClr val="8181de"/>
              </a:gs>
            </a:gsLst>
            <a:lin ang="5400000"/>
          </a:gradFill>
          <a:ln w="648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РАСХОДЫ БЮДЖЕТА, тыс.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03320" y="1273320"/>
          <a:ext cx="9713880" cy="4603680"/>
        </p:xfrm>
        <a:graphic>
          <a:graphicData uri="http://schemas.openxmlformats.org/drawingml/2006/table">
            <a:tbl>
              <a:tblPr/>
              <a:tblGrid>
                <a:gridCol w="3390840"/>
                <a:gridCol w="1222200"/>
                <a:gridCol w="1568520"/>
                <a:gridCol w="1212840"/>
                <a:gridCol w="1136520"/>
                <a:gridCol w="1182960"/>
              </a:tblGrid>
              <a:tr h="49824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4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841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 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 2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 5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140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651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8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7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6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75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 1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 6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 5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 7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0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К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2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0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10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храна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2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81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4 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27 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4 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2 9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5 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57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6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3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8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8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076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 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 8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1 8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 7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 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50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0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8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9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0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8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1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1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1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140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6 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2 8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1 9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3 2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3 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3"/>
          <p:cNvSpPr/>
          <p:nvPr/>
        </p:nvSpPr>
        <p:spPr>
          <a:xfrm>
            <a:off x="534960" y="147600"/>
            <a:ext cx="89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РАЗДЕЛ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«ОБЩЕГОСУДАРСТВЕННЫЕ РАСХОДЫ»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8280" y="781200"/>
          <a:ext cx="9699840" cy="5324400"/>
        </p:xfrm>
        <a:graphic>
          <a:graphicData uri="http://schemas.openxmlformats.org/drawingml/2006/table">
            <a:tbl>
              <a:tblPr/>
              <a:tblGrid>
                <a:gridCol w="6620040"/>
                <a:gridCol w="1111320"/>
                <a:gridCol w="1004760"/>
                <a:gridCol w="963720"/>
              </a:tblGrid>
              <a:tr h="53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7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411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1 9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3 2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3 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09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 5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822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законодательных (представительных) органов государственной власти и представительных органов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3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1143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4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9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9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330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дебная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846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11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ервные фон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11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3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357120" y="1216080"/>
          <a:ext cx="9433080" cy="3879720"/>
        </p:xfrm>
        <a:graphic>
          <a:graphicData uri="http://schemas.openxmlformats.org/drawingml/2006/table">
            <a:tbl>
              <a:tblPr/>
              <a:tblGrid>
                <a:gridCol w="5932440"/>
                <a:gridCol w="1438560"/>
                <a:gridCol w="1014120"/>
                <a:gridCol w="1047960"/>
              </a:tblGrid>
              <a:tr h="63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7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1 9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3 2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3 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65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билизационная подготовка эконом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2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7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6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6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920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населения и территории от чрезвычайных ситуаций природного и техногенного характера, пожарная безопас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7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6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6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337" name="Прямоугольник 5"/>
          <p:cNvSpPr/>
          <p:nvPr/>
        </p:nvSpPr>
        <p:spPr>
          <a:xfrm>
            <a:off x="133200" y="147600"/>
            <a:ext cx="950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Разделы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АЦИОНАЛЬНАЯ ОБОРОНА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»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и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 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АЦИОНАЛЬНАЯ БЕЗОПАСНОСТЬ И ПРАВООХРАНИТЕЛЬНАЯ ДЕЯТЕЛЬНОСТЬ»,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5"/>
          <p:cNvSpPr/>
          <p:nvPr/>
        </p:nvSpPr>
        <p:spPr>
          <a:xfrm>
            <a:off x="501480" y="147600"/>
            <a:ext cx="913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Разделы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АЦИОНАЛЬНАЯ ЭКОНОМИКА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» и 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ЖИЛИЩНО-КОММУНАЛЬНОЕ ХОЗЯЙСТВО»,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   (тыс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15920" y="1076400"/>
          <a:ext cx="9748800" cy="5295960"/>
        </p:xfrm>
        <a:graphic>
          <a:graphicData uri="http://schemas.openxmlformats.org/drawingml/2006/table">
            <a:tbl>
              <a:tblPr/>
              <a:tblGrid>
                <a:gridCol w="4949640"/>
                <a:gridCol w="1595520"/>
                <a:gridCol w="1560600"/>
                <a:gridCol w="1643040"/>
              </a:tblGrid>
              <a:tr h="500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7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1 9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3 2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3 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 6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 5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 7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экономически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льское хозяйство и рыболов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ое хозяйство (дорожные фонд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4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89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национальной эконом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0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68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70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68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храны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5"/>
          <p:cNvSpPr/>
          <p:nvPr/>
        </p:nvSpPr>
        <p:spPr>
          <a:xfrm>
            <a:off x="501480" y="147600"/>
            <a:ext cx="913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РАСХОДЫ НА СОЦИАЛЬНО-КУЛЬТУРНУЮ СФЕРУ,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244440" y="747720"/>
          <a:ext cx="9582120" cy="5675400"/>
        </p:xfrm>
        <a:graphic>
          <a:graphicData uri="http://schemas.openxmlformats.org/drawingml/2006/table">
            <a:tbl>
              <a:tblPr/>
              <a:tblGrid>
                <a:gridCol w="4965840"/>
                <a:gridCol w="1466640"/>
                <a:gridCol w="1479600"/>
                <a:gridCol w="1670040"/>
              </a:tblGrid>
              <a:tr h="496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7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1 9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3 2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3 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4 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2 9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5 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74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школьно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 7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 7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 7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8 3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7 4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 5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лнительное образование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4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4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4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еж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5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3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3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8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8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8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5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4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культуры, кинемат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1 8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 7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 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7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нсион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8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семьи и дет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 9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 7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 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социальной поли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9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11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овый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31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рт высших достиж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6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5"/>
          <p:cNvSpPr/>
          <p:nvPr/>
        </p:nvSpPr>
        <p:spPr>
          <a:xfrm>
            <a:off x="501480" y="147600"/>
            <a:ext cx="913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МЕЖБЮДЖЕТНЫЕ ТРАНСФЕРТЫ ОБЩЕГО ХАРАКТЕРА БЮДЖЕТАМ БЮДЖЕТНОЙ СИСТЕМЫ РОССИЙСКОЙ ФЕДЕРАЦИИ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, (тыс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14480" y="1170000"/>
          <a:ext cx="9520200" cy="4608360"/>
        </p:xfrm>
        <a:graphic>
          <a:graphicData uri="http://schemas.openxmlformats.org/drawingml/2006/table">
            <a:tbl>
              <a:tblPr/>
              <a:tblGrid>
                <a:gridCol w="6189480"/>
                <a:gridCol w="1181160"/>
                <a:gridCol w="1087560"/>
                <a:gridCol w="1062000"/>
              </a:tblGrid>
              <a:tr h="731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969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ЖБЮДЖЕТНЫЕ ТРАНСФЕРТЫ  БЮДЖЕТАМ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68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тации на выравнивание бюджетной обеспеченности бюджетов поселений из област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969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ные трансферты на обеспечение сбалансированности бюджетов поселений из район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68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роприятия по поддержке местных инициатив гражд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3"/>
          <p:cNvSpPr/>
          <p:nvPr/>
        </p:nvSpPr>
        <p:spPr>
          <a:xfrm>
            <a:off x="246240" y="79200"/>
            <a:ext cx="93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  <a:ea typeface="Times New Roman"/>
              </a:rPr>
              <a:t>РАСХОДЫ НА ИСПОЛНЕНИЕ ПУБЛИЧНЫХ НОРМАТИВНЫХ ОБЯЗАТЕЛЬСТВ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(тыс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-1035000" y="352440"/>
          <a:ext cx="11976120" cy="7396200"/>
        </p:xfrm>
        <a:graphic>
          <a:graphicData uri="http://schemas.openxmlformats.org/drawingml/2006/table">
            <a:tbl>
              <a:tblPr/>
              <a:tblGrid>
                <a:gridCol w="7958160"/>
                <a:gridCol w="1384200"/>
                <a:gridCol w="1347840"/>
                <a:gridCol w="1285920"/>
              </a:tblGrid>
              <a:tr h="329400"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7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56536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рганизация и осуществление деятельности по опеке и попечительству, выплата ежемесячных денежных средств на содержание и проезд ребенка, переданного на воспитание в семью опекуна (попечителя), приемную семью, вознаграждения приемным родителям, подготовку лиц, желающих принять на воспитание в свою семью ребенка, оставшегося без попечения родителей (выплата ежемесячных денежных средств на содержание и проезд ребенка, переданного на воспитание в семью опекуна (попечителя), приемную семью, вознаграждения приемным родителя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8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3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96696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мпенсация части родительской платы за присмотр и уход за детьми в образовательных организациях, реализующих образовательную программу дошкольного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4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4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4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160632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существление отдельных полномочий в сфере образования (предоставление мер социальной поддержки педагогическим работникам и специалистам образовательных организаций (за исключением педагогических работников), работающим в сельских населенных пунктах и поселках городского типа на территории Брянской обла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64728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еспечение сохранности жилых помещений, закрепленных за детьми-сиротами и детьми, оставшимися без попечения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2120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еализация мероприятий по обеспечению жильем молодых сем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2120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ыплата муниципальных пенсий (доплат к государственным пенсия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8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21200">
                <a:tc>
                  <a:txBody>
                    <a:bodyPr lIns="66600" rIns="6660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5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2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7ff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Блок-схема: перфолента 4"/>
          <p:cNvGrpSpPr/>
          <p:nvPr/>
        </p:nvGrpSpPr>
        <p:grpSpPr>
          <a:xfrm>
            <a:off x="858960" y="334800"/>
            <a:ext cx="7967520" cy="5407200"/>
            <a:chOff x="858960" y="334800"/>
            <a:chExt cx="7967520" cy="5407200"/>
          </a:xfrm>
        </p:grpSpPr>
        <p:pic>
          <p:nvPicPr>
            <p:cNvPr id="347" name="Блок-схема: перфолента 4" descr=""/>
            <p:cNvPicPr/>
            <p:nvPr/>
          </p:nvPicPr>
          <p:blipFill>
            <a:blip r:embed="rId1"/>
            <a:stretch/>
          </p:blipFill>
          <p:spPr>
            <a:xfrm>
              <a:off x="858960" y="334800"/>
              <a:ext cx="7967520" cy="540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863640" y="1420920"/>
              <a:ext cx="7951680" cy="32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c00000"/>
                  </a:solidFill>
                  <a:latin typeface="Times New Roman"/>
                </a:rPr>
                <a:t>БЮДЖЕТ 2025-2027 годы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c00000"/>
                  </a:solidFill>
                  <a:latin typeface="Times New Roman"/>
                </a:rPr>
                <a:t>ПРОГРАММНЫЙ БЮДЖЕТ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8040" y="-360"/>
            <a:ext cx="882828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НЯТИЕ БЮДЖ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12920" y="585360"/>
            <a:ext cx="924552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  <a:ea typeface="Calibri"/>
              </a:rPr>
              <a:t>Бюджет — форма образования и расходования денежных средств, предназначенных для финансового обеспечения задач и функций государственного и местного самоупр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  <a:ea typeface="Calibri"/>
              </a:rPr>
              <a:t>Доходы бюджета - поступающие в бюджет денежные средства, за исключением средств, являющихся в соответствии    с    Бюджетным    кодексом    источниками    финансирования    дефицита    бюдже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  <a:ea typeface="Calibri"/>
              </a:rPr>
              <a:t>Расходы бюджета - выплачиваемые из бюджета денежные средства, за исключением средств, являющихся в соответствии    с    Бюджетным    кодексом    источниками    финансирования    дефицита    бюдже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  <a:ea typeface="Calibri"/>
              </a:rPr>
              <a:t>Сбалансированность бюджета по доходам и расходам - основополагающее требование предъявляемое к органам, составляющим и утверждающим бюджет (возможно три различных варианта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9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412920" y="4433760"/>
            <a:ext cx="2749320" cy="1349640"/>
          </a:xfrm>
          <a:prstGeom prst="rect">
            <a:avLst/>
          </a:prstGeom>
          <a:solidFill>
            <a:srgbClr val="4b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19040" algn="ctr">
              <a:lnSpc>
                <a:spcPct val="100000"/>
              </a:lnSpc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Дефицит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040" algn="ctr">
              <a:lnSpc>
                <a:spcPts val="26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Расходы превышают до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3914640" y="4816440"/>
            <a:ext cx="2670480" cy="1276560"/>
          </a:xfrm>
          <a:prstGeom prst="rect">
            <a:avLst/>
          </a:prstGeom>
          <a:solidFill>
            <a:srgbClr val="42ca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8280" algn="ctr">
              <a:lnSpc>
                <a:spcPct val="100000"/>
              </a:lnSpc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Профицит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8280" algn="ctr">
              <a:lnSpc>
                <a:spcPts val="26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Доходы превышают рас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7"/>
          <p:cNvSpPr/>
          <p:nvPr/>
        </p:nvSpPr>
        <p:spPr>
          <a:xfrm>
            <a:off x="6794640" y="4290840"/>
            <a:ext cx="2863800" cy="1378080"/>
          </a:xfrm>
          <a:prstGeom prst="rect">
            <a:avLst/>
          </a:prstGeom>
          <a:solidFill>
            <a:srgbClr val="8acc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01520" algn="ctr">
              <a:lnSpc>
                <a:spcPct val="100000"/>
              </a:lnSpc>
              <a:spcAft>
                <a:spcPts val="83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Сбалансирован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01520" algn="ctr">
              <a:lnSpc>
                <a:spcPts val="28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бюджет 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- Расходы бюджета равны доход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Схема 1" descr=""/>
          <p:cNvPicPr/>
          <p:nvPr/>
        </p:nvPicPr>
        <p:blipFill>
          <a:blip r:embed="rId1"/>
          <a:stretch/>
        </p:blipFill>
        <p:spPr>
          <a:xfrm>
            <a:off x="1116000" y="426960"/>
            <a:ext cx="824076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1"/>
          <p:cNvSpPr/>
          <p:nvPr/>
        </p:nvSpPr>
        <p:spPr>
          <a:xfrm>
            <a:off x="-76320" y="228600"/>
            <a:ext cx="990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Georgia"/>
              </a:rPr>
              <a:t>«РЕАЛИЗАЦИЯ ПОЛНОМОЧИЙ АДМИНИСТРАЦИИ НАВЛИНСКОГО РАЙОНА»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Прямоугольник 2"/>
          <p:cNvSpPr/>
          <p:nvPr/>
        </p:nvSpPr>
        <p:spPr>
          <a:xfrm>
            <a:off x="414360" y="1220760"/>
            <a:ext cx="930132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ЦЕЛЬ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Эффективное исполнение полномочий по решению  вопросов местного значения и отдельных государственных полномочий Брянской области, переданных в соответствии с законами Брян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ЗАДАЧИ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реализация полномочий администрации Навлинского района  по решению вопросов местного значения муниципального образования «Навлинского муниципального района Брянской области», а также отдельных государственных полномочий Брянской области, переданных в соответствии с законами Брянской област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создание условий для оптимизации и повышения эффективности расходов бюджета Навлинского муниципального района в части расходов администрации Навлинского  район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формирование условий для обеспечения комплексного социально-экономического развит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1"/>
          <p:cNvSpPr/>
          <p:nvPr/>
        </p:nvSpPr>
        <p:spPr>
          <a:xfrm>
            <a:off x="0" y="0"/>
            <a:ext cx="96789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Состав муниципальной программ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«РЕАЛИЗАЦИЯ ПОЛНОМОЧИЙ АДМИНИСТРАЦИИ НАВЛИНСКОГО РАЙОНА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43000" y="914400"/>
          <a:ext cx="9623160" cy="5335560"/>
        </p:xfrm>
        <a:graphic>
          <a:graphicData uri="http://schemas.openxmlformats.org/drawingml/2006/table">
            <a:tbl>
              <a:tblPr/>
              <a:tblGrid>
                <a:gridCol w="7388280"/>
                <a:gridCol w="828360"/>
                <a:gridCol w="692280"/>
                <a:gridCol w="714240"/>
              </a:tblGrid>
              <a:tr h="223920">
                <a:tc>
                  <a:txBody>
                    <a:bodyPr lIns="15840" rIns="15840" tIns="15480" bIns="15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7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5380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проект «Предупреждение и ликвидация заразных и иных болезней животных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41760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материально-техническому и финансовому обеспечению  деятельности аппарата администрации Навлинского рай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8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8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41580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защите населения и территории от чрезвычайных ситуаций природного и техногенного характера, гражданская оборон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7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6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6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41760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реализации стратегической роли культуры как духовно-нравственного основания развития личности и государства, сохранения культурного и исторического наслед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1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6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860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поддержке сельскохозяйственных товаропроизводи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2860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реализации единой социальной политики на территории Навлинского рай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8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392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созданию условий успешной самореализации молодеж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41580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вовлечению в занятия физической культурой и массовом спортом, участие в соревнованиях различного уров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6676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осуществлению отдельных государственных полномочий Брянской обла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0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 9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 3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2536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в сфере охраны окружающей ср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392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области жилищно-коммунального хозяй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392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созданию условий для эффективной деятельности многофункционального цен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9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9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9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2392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мобилизационной подготовки эконом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356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ершенствование системы управления пассажирскими перевоз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1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41760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юджетные отношения с муниципальными образованиями за счет средств бюджета Навлинского муниципального рай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2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4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5740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я мероприятий в сфере местного самоуправл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356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по обеспечению жильем молодых сем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3920">
                <a:tc>
                  <a:txBody>
                    <a:bodyPr lIns="15840" rIns="15840" tIns="15480" bIns="154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 5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 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480" bIns="1548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 0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1"/>
          <p:cNvSpPr/>
          <p:nvPr/>
        </p:nvSpPr>
        <p:spPr>
          <a:xfrm>
            <a:off x="0" y="0"/>
            <a:ext cx="967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МУНИЦИПАЛЬНАЯ ПРОГРАММ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«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Calibri"/>
              </a:rPr>
              <a:t>РАЗВИТИЕ ОБРАЗОВАНИЯ НАВЛИНСКОГО РАЙОНА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Прямоугольник 4"/>
          <p:cNvSpPr/>
          <p:nvPr/>
        </p:nvSpPr>
        <p:spPr>
          <a:xfrm>
            <a:off x="728640" y="839880"/>
            <a:ext cx="8950320" cy="48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Цель программы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 - Обеспечение высокого качества образования в соответствии с меняющимися запросами населения и перспективными задачами развития российского общества и экономик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  <a:ea typeface="Calibri"/>
              </a:rPr>
              <a:t>Задачи программ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- формирование экономических условий, обеспечивающих муниципальную систему образования финансовыми, материально-техническими ресурса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- обновление содержания и структуры образования на основе новых стандартов общего образования второго поколения. Повышение качества образования на основе развития инновационных процессов. Развитие системы оценки качества образования на каждом его уров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- осуществление комплексных мер по стимулированию инновационной деятельности образовательных учреждений и педагогических работник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создание механизмов координации и интеграции сетевого взаимодействия в работе с одаренными детьми и талантливой молодежью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-.создание необходимых условий полноценного и безопасного отдыха и оздоровления дете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Calibri"/>
              </a:rPr>
              <a:t>- повышение профессиональной компетентности педагогических и управленческих кадров, укрепление их социального статуса через разработку новой модели системы повышения  квалификации педагогических работников района, участие педагогов в конкурсах профессионального мастерств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0" y="0"/>
            <a:ext cx="9678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СОСТАВ МУНИЦИПАЛЬНОЙ ПРОГРАММ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«</a:t>
            </a:r>
            <a:r>
              <a:rPr b="1" lang="ru-RU" sz="1800" spc="-1" strike="noStrike">
                <a:solidFill>
                  <a:srgbClr val="c00000"/>
                </a:solidFill>
                <a:latin typeface="Georgia"/>
                <a:ea typeface="Calibri"/>
              </a:rPr>
              <a:t>РАЗВИТИЕ ОБРАЗОВАНИЯ НАВЛИНСКОГО РАЙОНА</a:t>
            </a: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92240" y="861840"/>
          <a:ext cx="9550080" cy="4668840"/>
        </p:xfrm>
        <a:graphic>
          <a:graphicData uri="http://schemas.openxmlformats.org/drawingml/2006/table">
            <a:tbl>
              <a:tblPr/>
              <a:tblGrid>
                <a:gridCol w="6476760"/>
                <a:gridCol w="1028880"/>
                <a:gridCol w="1052280"/>
                <a:gridCol w="992160"/>
              </a:tblGrid>
              <a:tr h="312840"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7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3128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дошко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 8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 8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 8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28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обще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 8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 9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 0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4269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ьно-техническое, финансовое, информационное обеспечение деятель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033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отдельных мероприятий в сфере образования и материально-техническое обеспечение прочих учреждений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6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4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4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981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ение отдельных государственных полномочий Брян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5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5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5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8268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организации временного   трудоустройства несовершеннолетних гражд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6015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совершенствованию системы   профилактики правонарушений и усиление борьбы с преступность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28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мероприятий по охране семьи и дет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8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8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8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128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проведению оздоровительной кампании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94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дополните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8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7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1248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 1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5 0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7 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1"/>
          <p:cNvSpPr/>
          <p:nvPr/>
        </p:nvSpPr>
        <p:spPr>
          <a:xfrm>
            <a:off x="0" y="0"/>
            <a:ext cx="967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«УПРАВЛЕНИЕ МУНИЦИПАЛЬНЫМИ ФИНАНСАМИ НАВЛИНСКОГО РАЙОНА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</a:rPr>
              <a:t>(тыс. руб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 5"/>
          <p:cNvSpPr/>
          <p:nvPr/>
        </p:nvSpPr>
        <p:spPr>
          <a:xfrm>
            <a:off x="85680" y="853920"/>
            <a:ext cx="9820440" cy="25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и программы -  обеспечение долгосрочной сбалансированности и устойчивости бюджетной системы муниципального образования «Навлинский район», создание условий для оптимизации и повышения эффективности расходов бюджета района, создание условий для эффективного выполнения полномочий органов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еализация мероприятий, направленных на сбалансированное управление расходами бюджета район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недрение современных методов и технологий управления муниципальными финансам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вышение прозрачности бюджетной системы муниципального образования «Навлинский район»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ыравнивание бюджетной обеспеченности муниципальных образований и поддержка мер по обеспечению сбалансированности местных бюджетов в Навлинском районе в рамках содействия органам местного самоуправления в осуществлении реализации полномочий по решению вопросов местного значе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76120" y="3552840"/>
          <a:ext cx="9352080" cy="2031840"/>
        </p:xfrm>
        <a:graphic>
          <a:graphicData uri="http://schemas.openxmlformats.org/drawingml/2006/table">
            <a:tbl>
              <a:tblPr/>
              <a:tblGrid>
                <a:gridCol w="6713640"/>
                <a:gridCol w="960480"/>
                <a:gridCol w="873000"/>
                <a:gridCol w="804960"/>
              </a:tblGrid>
              <a:tr h="402120">
                <a:tc>
                  <a:txBody>
                    <a:bodyPr lIns="17640" rIns="17640" tIns="18000" bIns="18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2946a"/>
                    </a:solidFill>
                  </a:tcPr>
                </a:tc>
                <a:tc>
                  <a:txBody>
                    <a:bodyPr lIns="17640" rIns="17640" tIns="18000" bIns="18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2946a"/>
                    </a:solidFill>
                  </a:tcPr>
                </a:tc>
                <a:tc>
                  <a:txBody>
                    <a:bodyPr lIns="17640" rIns="17640" tIns="18000" bIns="18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2946a"/>
                    </a:solidFill>
                  </a:tcPr>
                </a:tc>
                <a:tc>
                  <a:txBody>
                    <a:bodyPr lIns="17640" rIns="17640" tIns="18000" bIns="180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7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2946a"/>
                    </a:solidFill>
                  </a:tcPr>
                </a:tc>
              </a:tr>
              <a:tr h="456480">
                <a:tc>
                  <a:txBody>
                    <a:bodyPr lIns="17640" rIns="17640" tIns="18000" bIns="18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материально-техническому, финансовому и информационному обеспечению деятель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3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3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3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97080">
                <a:tc>
                  <a:txBody>
                    <a:bodyPr lIns="17640" rIns="17640" tIns="18000" bIns="18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мероприятий по межбюджетным отношениям с городскими и сельскими поселен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8000" bIns="1800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8000" bIns="1800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8000" bIns="1800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56480">
                <a:tc>
                  <a:txBody>
                    <a:bodyPr lIns="17640" rIns="17640" tIns="18000" bIns="18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юджетные отношения с муниципальными образованиями за счет средств бюджета Навлинского муниципального райо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8000" bIns="1800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8000" bIns="1800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8000" bIns="1800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320040">
                <a:tc>
                  <a:txBody>
                    <a:bodyPr lIns="17640" rIns="17640" tIns="18000" bIns="18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рямоугольник 1"/>
          <p:cNvSpPr/>
          <p:nvPr/>
        </p:nvSpPr>
        <p:spPr>
          <a:xfrm>
            <a:off x="0" y="0"/>
            <a:ext cx="967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«УПРАВЛЕНИЕ МУНИЦИПАЛЬНОЙ СОБСТВЕННОСТЬЮ НАВЛИНСКОГО РАЙОНА БРЯНСКОЙ ОБЛАСТИ» (тыс. руб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Прямоугольник 2"/>
          <p:cNvSpPr/>
          <p:nvPr/>
        </p:nvSpPr>
        <p:spPr>
          <a:xfrm>
            <a:off x="217440" y="830160"/>
            <a:ext cx="9461520" cy="31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ПРОГРАММЫ - обеспечение эффективного управления, распоряжения, а также рационального использования муниципального имущества Навлинского района Брянской  обла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беспечение функционирования системы учета муниципального  имущества Навлинского района Брянской области, управления, распоряжения и контроля за  его рациональным использованием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осуществление приватизации муниципального  имущества Навлинского района Брянской области и обеспечение системного и планового подхода к приватизационному процессу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рганизация и координация работы по  управлению и распоряжению земельными  участками, находящимися в собственности  Навлинского района Брянской област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распоряжение земельными участками, государственная собственность на которые не разграничена, находящимися на территории Навлинского района  Брян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91960" y="4175280"/>
          <a:ext cx="9461520" cy="1803240"/>
        </p:xfrm>
        <a:graphic>
          <a:graphicData uri="http://schemas.openxmlformats.org/drawingml/2006/table">
            <a:tbl>
              <a:tblPr/>
              <a:tblGrid>
                <a:gridCol w="5851800"/>
                <a:gridCol w="1108080"/>
                <a:gridCol w="1214280"/>
                <a:gridCol w="1287360"/>
              </a:tblGrid>
              <a:tr h="352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7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ьно-техническое и финансовое обеспечение деятельности отдела по управлению муниципальным имуще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5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5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5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49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эффективного управления и распоряжения муниципальным имуществом Навлинского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7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52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5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5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1"/>
          <p:cNvSpPr/>
          <p:nvPr/>
        </p:nvSpPr>
        <p:spPr>
          <a:xfrm>
            <a:off x="152280" y="0"/>
            <a:ext cx="967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ЭНЕРГОСБЕРЕЖЕНИЕ И ПОВЫШЕНИЕ ЭНЕРГЕТИЧЕСКОЙ ЭФФЕКТИВНОСТИ В НАВЛИНСКОГО РАЙОНА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(тыс. руб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Прямоугольник 4"/>
          <p:cNvSpPr/>
          <p:nvPr/>
        </p:nvSpPr>
        <p:spPr>
          <a:xfrm>
            <a:off x="235080" y="1077840"/>
            <a:ext cx="967104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algn="just">
              <a:lnSpc>
                <a:spcPct val="11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ЦЕЛЬ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algn="just">
              <a:lnSpc>
                <a:spcPct val="11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здание организационных основ для реализации системы мер по энергосбережению и повышению энергоэффективност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нижение показателей энергоемкости и энергопотребления учреждений, предприятий и организаций, создание условий для перевода экономики муниципального образования на энергосберегающий путь развит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- Проведение комплекса организационно-правовых мероприятий по управлению энергосбережением, в том числе создание системы показателей, характеризующих энергетическую эффективность при потреблении энергетических ресурсов, их мониторинга, а также сбора и анализа информации об энергоемкости экономики муниципального образова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- Разработка и реализация мероприятий направленных на энергосбережение и повышение энергетической эффективности учреждений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еспечение учета объемов потребляемых ТЭР и воды с использованием приборов учет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79520" y="4392720"/>
          <a:ext cx="9177120" cy="1216080"/>
        </p:xfrm>
        <a:graphic>
          <a:graphicData uri="http://schemas.openxmlformats.org/drawingml/2006/table">
            <a:tbl>
              <a:tblPr/>
              <a:tblGrid>
                <a:gridCol w="6308640"/>
                <a:gridCol w="1047600"/>
                <a:gridCol w="911520"/>
                <a:gridCol w="909360"/>
              </a:tblGrid>
              <a:tr h="296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7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622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мероприятий по повышению энергетической эффективности и обеспечению энергосбере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97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1"/>
          <p:cNvSpPr/>
          <p:nvPr/>
        </p:nvSpPr>
        <p:spPr>
          <a:xfrm>
            <a:off x="152280" y="0"/>
            <a:ext cx="967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ПОДДЕРЖКА МЕСТНЫХ ИНИЦИАТИВ ГРАЖДАН НА ТЕРРИТОРИИ НАВЛИНСКОГО РАЙОН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А  (тыс. руб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Прямоугольник 4"/>
          <p:cNvSpPr/>
          <p:nvPr/>
        </p:nvSpPr>
        <p:spPr>
          <a:xfrm>
            <a:off x="235080" y="1077840"/>
            <a:ext cx="967104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algn="just">
              <a:lnSpc>
                <a:spcPct val="11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ЦЕЛЬ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algn="just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социальной инфраструктуры поселений за счет выделения на конкурсной основе средств из бюджета муниципального образования «Навлинский район» на реализацию наиболее важных для городских и сельских территорий небольших проектов, инициированных население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правовых экономических условий для развития реализации ППМ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ешение конкретных социально-значимых проблем (восстановление и создание новых объектов социальной инфраструктуры поселения, повышение качества предоставления муниципальных услуг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вышение эффективности бюджетных расходов за счет вовлечения общественности в процессы принятия решений на местном уровне и усиления общественного контроля за действиями органов местного само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584280" y="4392720"/>
          <a:ext cx="9072360" cy="1216080"/>
        </p:xfrm>
        <a:graphic>
          <a:graphicData uri="http://schemas.openxmlformats.org/drawingml/2006/table">
            <a:tbl>
              <a:tblPr/>
              <a:tblGrid>
                <a:gridCol w="6203880"/>
                <a:gridCol w="1047600"/>
                <a:gridCol w="911520"/>
                <a:gridCol w="909360"/>
              </a:tblGrid>
              <a:tr h="296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7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622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держка местных инициатив граждан на территории Навлинского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97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2"/>
          <p:cNvSpPr/>
          <p:nvPr/>
        </p:nvSpPr>
        <p:spPr>
          <a:xfrm>
            <a:off x="312840" y="1095480"/>
            <a:ext cx="9174240" cy="31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 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программная часть бюджета на 2025 год определена в сумме 5 047,4тыс. рублей, или 0,8 процента всей расходной части бюджета, в нее вошли расходы на обеспечение деятельност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едставительного органа муниципального образования – Навлинский районный Совет народных депутатов в сумме 1 616 тыс. руб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контрольно-счётного органа муниципального образования – Контрольно-счётная палата Навлинского района в сумме 1 830тыс.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 проведение мероприятий в сфере общегосударственных вопросов – 101,4тыс.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зервный фонд администрации Навлинского района в объеме 1 500 тыс. руб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Прямоугольник 3"/>
          <p:cNvSpPr/>
          <p:nvPr/>
        </p:nvSpPr>
        <p:spPr>
          <a:xfrm>
            <a:off x="95400" y="157320"/>
            <a:ext cx="9629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  <a:ea typeface="Calibri"/>
              </a:rPr>
              <a:t>НЕПРОГРАММНАЯ ЧАСТЬ РАСХОДОВ БЮДЖ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1" descr=""/>
          <p:cNvPicPr/>
          <p:nvPr/>
        </p:nvPicPr>
        <p:blipFill>
          <a:blip r:embed="rId1"/>
          <a:stretch/>
        </p:blipFill>
        <p:spPr>
          <a:xfrm>
            <a:off x="1463760" y="743040"/>
            <a:ext cx="2284200" cy="15922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2" descr=""/>
          <p:cNvPicPr/>
          <p:nvPr/>
        </p:nvPicPr>
        <p:blipFill>
          <a:blip r:embed="rId2"/>
          <a:stretch/>
        </p:blipFill>
        <p:spPr>
          <a:xfrm>
            <a:off x="5670720" y="1346040"/>
            <a:ext cx="3382920" cy="17542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3" descr=""/>
          <p:cNvPicPr/>
          <p:nvPr/>
        </p:nvPicPr>
        <p:blipFill>
          <a:blip r:embed="rId3"/>
          <a:stretch/>
        </p:blipFill>
        <p:spPr>
          <a:xfrm>
            <a:off x="830160" y="3387600"/>
            <a:ext cx="2190960" cy="14749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4" descr=""/>
          <p:cNvPicPr/>
          <p:nvPr/>
        </p:nvPicPr>
        <p:blipFill>
          <a:blip r:embed="rId4"/>
          <a:stretch/>
        </p:blipFill>
        <p:spPr>
          <a:xfrm>
            <a:off x="4181400" y="3116160"/>
            <a:ext cx="1825560" cy="7336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5" descr=""/>
          <p:cNvPicPr/>
          <p:nvPr/>
        </p:nvPicPr>
        <p:blipFill>
          <a:blip r:embed="rId5"/>
          <a:stretch/>
        </p:blipFill>
        <p:spPr>
          <a:xfrm>
            <a:off x="4246560" y="4960800"/>
            <a:ext cx="1566720" cy="18108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6" descr=""/>
          <p:cNvPicPr/>
          <p:nvPr/>
        </p:nvPicPr>
        <p:blipFill>
          <a:blip r:embed="rId6"/>
          <a:stretch/>
        </p:blipFill>
        <p:spPr>
          <a:xfrm>
            <a:off x="6230880" y="3137040"/>
            <a:ext cx="2693880" cy="4413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7"/>
          <p:cNvSpPr/>
          <p:nvPr/>
        </p:nvSpPr>
        <p:spPr>
          <a:xfrm>
            <a:off x="903240" y="222120"/>
            <a:ext cx="8150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Georgia"/>
                <a:ea typeface="Cordia New"/>
              </a:rPr>
              <a:t>КАКИЕ БЫВАЮТ БЮДЖЕТ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Прямоугольник 8"/>
          <p:cNvSpPr/>
          <p:nvPr/>
        </p:nvSpPr>
        <p:spPr>
          <a:xfrm>
            <a:off x="9531360" y="1289160"/>
            <a:ext cx="57240" cy="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6dac43"/>
                </a:solidFill>
                <a:latin typeface="Times New Roman"/>
              </a:rPr>
              <a:t>У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Прямоугольник 9"/>
          <p:cNvSpPr/>
          <p:nvPr/>
        </p:nvSpPr>
        <p:spPr>
          <a:xfrm>
            <a:off x="306360" y="590400"/>
            <a:ext cx="1630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42f30"/>
                </a:solidFill>
                <a:latin typeface="Georgia"/>
              </a:rPr>
              <a:t>Бюджеты сем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Прямоугольник 10"/>
          <p:cNvSpPr/>
          <p:nvPr/>
        </p:nvSpPr>
        <p:spPr>
          <a:xfrm>
            <a:off x="357120" y="2268360"/>
            <a:ext cx="26640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11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42f30"/>
                </a:solidFill>
                <a:latin typeface="Georgia"/>
              </a:rPr>
              <a:t>Доходы: </a:t>
            </a:r>
            <a:r>
              <a:rPr b="0" lang="ru-RU" sz="1000" spc="-1" strike="noStrike">
                <a:solidFill>
                  <a:srgbClr val="342f30"/>
                </a:solidFill>
                <a:latin typeface="Georgia"/>
              </a:rPr>
              <a:t>заработная плата, премии и т.п. </a:t>
            </a:r>
            <a:r>
              <a:rPr b="1" lang="ru-RU" sz="1000" spc="-1" strike="noStrike">
                <a:solidFill>
                  <a:srgbClr val="342f30"/>
                </a:solidFill>
                <a:latin typeface="Georgia"/>
              </a:rPr>
              <a:t>Расходы: </a:t>
            </a:r>
            <a:r>
              <a:rPr b="0" lang="ru-RU" sz="1000" spc="-1" strike="noStrike">
                <a:solidFill>
                  <a:srgbClr val="342f30"/>
                </a:solidFill>
                <a:latin typeface="Georgia"/>
              </a:rPr>
              <a:t>оплата коммунальных услуг, расходы на питание, транспорт, налоги и т.п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1"/>
          <p:cNvSpPr/>
          <p:nvPr/>
        </p:nvSpPr>
        <p:spPr>
          <a:xfrm>
            <a:off x="5834160" y="917640"/>
            <a:ext cx="37177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42f30"/>
                </a:solidFill>
                <a:latin typeface="Georgia"/>
              </a:rPr>
              <a:t>Бюджеты публично-правовых образов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Прямоугольник 12"/>
          <p:cNvSpPr/>
          <p:nvPr/>
        </p:nvSpPr>
        <p:spPr>
          <a:xfrm>
            <a:off x="8199360" y="2063880"/>
            <a:ext cx="8892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a6a5"/>
                </a:solidFill>
                <a:latin typeface="Calibri"/>
              </a:rPr>
              <a:t>\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Прямоугольник 13"/>
          <p:cNvSpPr/>
          <p:nvPr/>
        </p:nvSpPr>
        <p:spPr>
          <a:xfrm>
            <a:off x="947880" y="3137040"/>
            <a:ext cx="23209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42f30"/>
                </a:solidFill>
                <a:latin typeface="Georgia"/>
              </a:rPr>
              <a:t>Бюджеты </a:t>
            </a:r>
            <a:r>
              <a:rPr b="1" lang="en-US" sz="1400" spc="-1" strike="noStrike">
                <a:solidFill>
                  <a:srgbClr val="342f30"/>
                </a:solidFill>
                <a:latin typeface="Georgia"/>
              </a:rPr>
              <a:t>организ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Прямоугольник 14"/>
          <p:cNvSpPr/>
          <p:nvPr/>
        </p:nvSpPr>
        <p:spPr>
          <a:xfrm>
            <a:off x="1936800" y="4930920"/>
            <a:ext cx="18763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1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42f30"/>
                </a:solidFill>
                <a:latin typeface="Georgia"/>
              </a:rPr>
              <a:t>Доходы: </a:t>
            </a:r>
            <a:r>
              <a:rPr b="0" lang="en-US" sz="900" spc="-1" strike="noStrike">
                <a:solidFill>
                  <a:srgbClr val="342f30"/>
                </a:solidFill>
                <a:latin typeface="Georgia"/>
              </a:rPr>
              <a:t>выручка от реализации и т.п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1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42f30"/>
                </a:solidFill>
                <a:latin typeface="Georgia"/>
              </a:rPr>
              <a:t>Расходы: </a:t>
            </a:r>
            <a:r>
              <a:rPr b="0" lang="en-US" sz="900" spc="-1" strike="noStrike">
                <a:solidFill>
                  <a:srgbClr val="342f30"/>
                </a:solidFill>
                <a:latin typeface="Georgia"/>
              </a:rPr>
              <a:t>выплата заработной платы рабочим, закупка материалов</a:t>
            </a:r>
            <a:r>
              <a:rPr b="0" lang="en-US" sz="900" spc="-1" strike="noStrike">
                <a:solidFill>
                  <a:srgbClr val="342f3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Прямоугольник 15"/>
          <p:cNvSpPr/>
          <p:nvPr/>
        </p:nvSpPr>
        <p:spPr>
          <a:xfrm>
            <a:off x="4400640" y="3921120"/>
            <a:ext cx="1225440" cy="101124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1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42f30"/>
                </a:solidFill>
                <a:latin typeface="Times New Roman"/>
              </a:rPr>
              <a:t>Российской Федераци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2f30"/>
                </a:solidFill>
                <a:latin typeface="Times New Roman"/>
              </a:rPr>
              <a:t>(федеральный бюджет, бюджеты государственных внебюджетных  РФ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Прямоугольник 18"/>
          <p:cNvSpPr/>
          <p:nvPr/>
        </p:nvSpPr>
        <p:spPr>
          <a:xfrm>
            <a:off x="6324480" y="3603600"/>
            <a:ext cx="1427400" cy="132876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1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42f30"/>
                </a:solidFill>
                <a:latin typeface="Times New Roman"/>
              </a:rPr>
              <a:t>Субъектов Российской Федераци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2f30"/>
                </a:solidFill>
                <a:latin typeface="Times New Roman"/>
              </a:rPr>
              <a:t>(региональные бюджеты, бюджет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1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2f30"/>
                </a:solidFill>
                <a:latin typeface="Times New Roman"/>
              </a:rPr>
              <a:t>территориальных фондов обязательного медицинского страхования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Прямоугольник 19"/>
          <p:cNvSpPr/>
          <p:nvPr/>
        </p:nvSpPr>
        <p:spPr>
          <a:xfrm>
            <a:off x="8199360" y="3578400"/>
            <a:ext cx="1422360" cy="126828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1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42f30"/>
                </a:solidFill>
                <a:latin typeface="Times New Roman"/>
              </a:rPr>
              <a:t>Муниципальны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42f30"/>
                </a:solidFill>
                <a:latin typeface="Times New Roman"/>
              </a:rPr>
              <a:t>образовани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42f30"/>
                </a:solidFill>
                <a:latin typeface="Times New Roman"/>
              </a:rPr>
              <a:t>(местные бюджеты муниципальных районов, муниципальных округов, городских округов, городских и сельских поселений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Овал 6"/>
          <p:cNvGrpSpPr/>
          <p:nvPr/>
        </p:nvGrpSpPr>
        <p:grpSpPr>
          <a:xfrm>
            <a:off x="2981160" y="2146320"/>
            <a:ext cx="3943440" cy="3352680"/>
            <a:chOff x="2981160" y="2146320"/>
            <a:chExt cx="3943440" cy="3352680"/>
          </a:xfrm>
        </p:grpSpPr>
        <p:pic>
          <p:nvPicPr>
            <p:cNvPr id="373" name="Овал 6" descr=""/>
            <p:cNvPicPr/>
            <p:nvPr/>
          </p:nvPicPr>
          <p:blipFill>
            <a:blip r:embed="rId1"/>
            <a:stretch/>
          </p:blipFill>
          <p:spPr>
            <a:xfrm>
              <a:off x="2981160" y="2146320"/>
              <a:ext cx="394344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3543480" y="2617920"/>
              <a:ext cx="2498400" cy="20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TextBox 5"/>
          <p:cNvSpPr/>
          <p:nvPr/>
        </p:nvSpPr>
        <p:spPr>
          <a:xfrm>
            <a:off x="1494000" y="2479680"/>
            <a:ext cx="681336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инансовое управление администрации Навлинского райо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чтовый адрес: 242130, п. Навл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л. Красных Партизан 21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акс: (4832) 21988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Тел.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(48342)21988, 8(48342)2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фициальный сайт администрации района: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admnav.ru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E-mail: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Times New Roman"/>
                <a:ea typeface="Tahoma"/>
                <a:hlinkClick r:id="rId3"/>
              </a:rPr>
              <a:t>nvlfinotdel@mail.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1958400" y="1101600"/>
            <a:ext cx="559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1" descr=""/>
          <p:cNvPicPr/>
          <p:nvPr/>
        </p:nvPicPr>
        <p:blipFill>
          <a:blip r:embed="rId1"/>
          <a:stretch/>
        </p:blipFill>
        <p:spPr>
          <a:xfrm>
            <a:off x="47520" y="1257480"/>
            <a:ext cx="3276720" cy="316512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2"/>
          <p:cNvSpPr/>
          <p:nvPr/>
        </p:nvSpPr>
        <p:spPr>
          <a:xfrm>
            <a:off x="216000" y="190440"/>
            <a:ext cx="96836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4370"/>
                </a:solidFill>
                <a:latin typeface="Georgia"/>
              </a:rPr>
              <a:t>СОСТАВЛЕНИЕ ПРОЕКТА БЮДЖЕ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4370"/>
                </a:solidFill>
                <a:latin typeface="Georgia"/>
              </a:rPr>
              <a:t>НАВЛИНСКОГО МУНИЦИПАЛЬНОГО РАЙО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3848040" y="1365120"/>
            <a:ext cx="5205600" cy="47808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2563"/>
              </a:spcBef>
              <a:spcAft>
                <a:spcPts val="34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ослание Президента Российской Федерации Федеральному собр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Прямоугольник 5"/>
          <p:cNvSpPr/>
          <p:nvPr/>
        </p:nvSpPr>
        <p:spPr>
          <a:xfrm>
            <a:off x="446040" y="2593800"/>
            <a:ext cx="21477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ts val="1749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На чем основано составление проекта бюджет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Прямоугольник 7"/>
          <p:cNvSpPr/>
          <p:nvPr/>
        </p:nvSpPr>
        <p:spPr>
          <a:xfrm>
            <a:off x="3906720" y="2160720"/>
            <a:ext cx="5297760" cy="78084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ts val="1562"/>
              </a:lnSpc>
              <a:spcBef>
                <a:spcPts val="34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сновные направления бюджетной и налоговой политики Устюженского муниципального округа на 2025 год и плановый период 2026 и 2027 год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Прямоугольник 9"/>
          <p:cNvSpPr/>
          <p:nvPr/>
        </p:nvSpPr>
        <p:spPr>
          <a:xfrm>
            <a:off x="3809880" y="3184560"/>
            <a:ext cx="5491440" cy="59040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lnSpc>
                <a:spcPts val="15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гноз социально-экономического развития Навлинского муниципального района на 2025 год и плановый период 2026 и 2027 год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Прямоугольник 10"/>
          <p:cNvSpPr/>
          <p:nvPr/>
        </p:nvSpPr>
        <p:spPr>
          <a:xfrm>
            <a:off x="3525840" y="3998880"/>
            <a:ext cx="5827680" cy="40320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ct val="100000"/>
              </a:lnSpc>
              <a:spcAft>
                <a:spcPts val="25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Муниципальные программы Навлинского муниципального район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оугольник 12"/>
          <p:cNvSpPr/>
          <p:nvPr/>
        </p:nvSpPr>
        <p:spPr>
          <a:xfrm>
            <a:off x="3324240" y="4686480"/>
            <a:ext cx="5892840" cy="68256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lnSpc>
                <a:spcPts val="1562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Указ Президента Российской Федераци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.05.2024 № 309 «О национальных целях развития Российской Федерации на период до 2030 года и на перспективу до 2036 года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Управляющая кнопка: назад 15">
            <a:hlinkClick r:id="" action="ppaction://hlinkshowjump?jump=previousslide"/>
          </p:cNvPr>
          <p:cNvSpPr/>
          <p:nvPr/>
        </p:nvSpPr>
        <p:spPr>
          <a:xfrm>
            <a:off x="2841480" y="1420920"/>
            <a:ext cx="914400" cy="480960"/>
          </a:xfrm>
          <a:custGeom>
            <a:avLst/>
            <a:gdLst>
              <a:gd name="textAreaLeft" fmla="*/ 30960 w 914400"/>
              <a:gd name="textAreaRight" fmla="*/ 883440 w 914400"/>
              <a:gd name="textAreaTop" fmla="*/ 30960 h 480960"/>
              <a:gd name="textAreaBottom" fmla="*/ 450000 h 48096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51" h="21600">
                <a:moveTo>
                  <a:pt x="13519" y="10800"/>
                </a:moveTo>
                <a:lnTo>
                  <a:pt x="27532" y="3794"/>
                </a:lnTo>
                <a:lnTo>
                  <a:pt x="27532" y="17806"/>
                </a:lnTo>
                <a:close/>
              </a:path>
            </a:pathLst>
          </a:custGeom>
          <a:solidFill>
            <a:srgbClr val="eef9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Управляющая кнопка: назад 16">
            <a:hlinkClick r:id="" action="ppaction://hlinkshowjump?jump=previousslide"/>
          </p:cNvPr>
          <p:cNvSpPr/>
          <p:nvPr/>
        </p:nvSpPr>
        <p:spPr>
          <a:xfrm>
            <a:off x="2933640" y="2243160"/>
            <a:ext cx="914400" cy="480960"/>
          </a:xfrm>
          <a:custGeom>
            <a:avLst/>
            <a:gdLst>
              <a:gd name="textAreaLeft" fmla="*/ 30960 w 914400"/>
              <a:gd name="textAreaRight" fmla="*/ 883440 w 914400"/>
              <a:gd name="textAreaTop" fmla="*/ 30960 h 480960"/>
              <a:gd name="textAreaBottom" fmla="*/ 450000 h 48096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51" h="21600">
                <a:moveTo>
                  <a:pt x="13519" y="10800"/>
                </a:moveTo>
                <a:lnTo>
                  <a:pt x="27532" y="3794"/>
                </a:lnTo>
                <a:lnTo>
                  <a:pt x="27532" y="17806"/>
                </a:lnTo>
                <a:close/>
              </a:path>
            </a:pathLst>
          </a:custGeom>
          <a:solidFill>
            <a:srgbClr val="eef9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Управляющая кнопка: назад 17">
            <a:hlinkClick r:id="" action="ppaction://hlinkshowjump?jump=previousslide"/>
          </p:cNvPr>
          <p:cNvSpPr/>
          <p:nvPr/>
        </p:nvSpPr>
        <p:spPr>
          <a:xfrm>
            <a:off x="2882880" y="3184560"/>
            <a:ext cx="914400" cy="482400"/>
          </a:xfrm>
          <a:custGeom>
            <a:avLst/>
            <a:gdLst>
              <a:gd name="textAreaLeft" fmla="*/ 30960 w 914400"/>
              <a:gd name="textAreaRight" fmla="*/ 883440 w 914400"/>
              <a:gd name="textAreaTop" fmla="*/ 30960 h 482400"/>
              <a:gd name="textAreaBottom" fmla="*/ 451440 h 482400"/>
            </a:gdLst>
            <a:ahLst/>
            <a:rect l="textAreaLeft" t="textAreaTop" r="textAreaRight" b="textAreaBottom"/>
            <a:pathLst>
              <a:path w="40929" h="21600">
                <a:moveTo>
                  <a:pt x="0" y="0"/>
                </a:moveTo>
                <a:lnTo>
                  <a:pt x="40929" y="0"/>
                </a:lnTo>
                <a:lnTo>
                  <a:pt x="40929" y="21600"/>
                </a:lnTo>
                <a:lnTo>
                  <a:pt x="0" y="21600"/>
                </a:lnTo>
                <a:close/>
              </a:path>
              <a:path fill="lightenLess" w="40929" h="21600">
                <a:moveTo>
                  <a:pt x="0" y="0"/>
                </a:moveTo>
                <a:lnTo>
                  <a:pt x="40929" y="0"/>
                </a:lnTo>
                <a:lnTo>
                  <a:pt x="39529" y="1400"/>
                </a:lnTo>
                <a:lnTo>
                  <a:pt x="1400" y="1400"/>
                </a:lnTo>
                <a:close/>
              </a:path>
              <a:path fill="darken" w="40929" h="21600">
                <a:moveTo>
                  <a:pt x="40929" y="0"/>
                </a:moveTo>
                <a:lnTo>
                  <a:pt x="40929" y="21600"/>
                </a:lnTo>
                <a:lnTo>
                  <a:pt x="39529" y="20200"/>
                </a:lnTo>
                <a:lnTo>
                  <a:pt x="39529" y="1400"/>
                </a:lnTo>
                <a:close/>
              </a:path>
              <a:path fill="darkenLess" w="40929" h="21600">
                <a:moveTo>
                  <a:pt x="40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29" y="20200"/>
                </a:lnTo>
                <a:close/>
              </a:path>
              <a:path fill="lighten" w="40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29" h="21600">
                <a:moveTo>
                  <a:pt x="13458" y="10800"/>
                </a:moveTo>
                <a:lnTo>
                  <a:pt x="27471" y="3794"/>
                </a:lnTo>
                <a:lnTo>
                  <a:pt x="27471" y="17806"/>
                </a:lnTo>
                <a:close/>
              </a:path>
            </a:pathLst>
          </a:custGeom>
          <a:solidFill>
            <a:srgbClr val="eef9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Управляющая кнопка: назад 18">
            <a:hlinkClick r:id="" action="ppaction://hlinkshowjump?jump=previousslide"/>
          </p:cNvPr>
          <p:cNvSpPr/>
          <p:nvPr/>
        </p:nvSpPr>
        <p:spPr>
          <a:xfrm>
            <a:off x="2239920" y="4762440"/>
            <a:ext cx="914400" cy="480960"/>
          </a:xfrm>
          <a:custGeom>
            <a:avLst/>
            <a:gdLst>
              <a:gd name="textAreaLeft" fmla="*/ 30960 w 914400"/>
              <a:gd name="textAreaRight" fmla="*/ 883440 w 914400"/>
              <a:gd name="textAreaTop" fmla="*/ 30960 h 480960"/>
              <a:gd name="textAreaBottom" fmla="*/ 450000 h 48096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51" h="21600">
                <a:moveTo>
                  <a:pt x="13519" y="10800"/>
                </a:moveTo>
                <a:lnTo>
                  <a:pt x="27532" y="3794"/>
                </a:lnTo>
                <a:lnTo>
                  <a:pt x="27532" y="17806"/>
                </a:lnTo>
                <a:close/>
              </a:path>
            </a:pathLst>
          </a:custGeom>
          <a:solidFill>
            <a:srgbClr val="eef9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Управляющая кнопка: назад 19">
            <a:hlinkClick r:id="" action="ppaction://hlinkshowjump?jump=previousslide"/>
          </p:cNvPr>
          <p:cNvSpPr/>
          <p:nvPr/>
        </p:nvSpPr>
        <p:spPr>
          <a:xfrm>
            <a:off x="2560680" y="3902040"/>
            <a:ext cx="914400" cy="480960"/>
          </a:xfrm>
          <a:custGeom>
            <a:avLst/>
            <a:gdLst>
              <a:gd name="textAreaLeft" fmla="*/ 30960 w 914400"/>
              <a:gd name="textAreaRight" fmla="*/ 883440 w 914400"/>
              <a:gd name="textAreaTop" fmla="*/ 30960 h 480960"/>
              <a:gd name="textAreaBottom" fmla="*/ 450000 h 480960"/>
            </a:gdLst>
            <a:ahLst/>
            <a:rect l="textAreaLeft" t="textAreaTop" r="textAreaRight" b="textAreaBottom"/>
            <a:pathLst>
              <a:path w="41051" h="21600">
                <a:moveTo>
                  <a:pt x="0" y="0"/>
                </a:moveTo>
                <a:lnTo>
                  <a:pt x="41051" y="0"/>
                </a:lnTo>
                <a:lnTo>
                  <a:pt x="41051" y="21600"/>
                </a:lnTo>
                <a:lnTo>
                  <a:pt x="0" y="21600"/>
                </a:lnTo>
                <a:close/>
              </a:path>
              <a:path fill="lightenLess" w="41051" h="21600">
                <a:moveTo>
                  <a:pt x="0" y="0"/>
                </a:moveTo>
                <a:lnTo>
                  <a:pt x="41051" y="0"/>
                </a:lnTo>
                <a:lnTo>
                  <a:pt x="39651" y="1400"/>
                </a:lnTo>
                <a:lnTo>
                  <a:pt x="1400" y="1400"/>
                </a:lnTo>
                <a:close/>
              </a:path>
              <a:path fill="darken" w="41051" h="21600">
                <a:moveTo>
                  <a:pt x="41051" y="0"/>
                </a:moveTo>
                <a:lnTo>
                  <a:pt x="41051" y="21600"/>
                </a:lnTo>
                <a:lnTo>
                  <a:pt x="39651" y="20200"/>
                </a:lnTo>
                <a:lnTo>
                  <a:pt x="39651" y="1400"/>
                </a:lnTo>
                <a:close/>
              </a:path>
              <a:path fill="darkenLess" w="41051" h="21600">
                <a:moveTo>
                  <a:pt x="4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51" y="20200"/>
                </a:lnTo>
                <a:close/>
              </a:path>
              <a:path fill="lighten" w="4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51" h="21600">
                <a:moveTo>
                  <a:pt x="13519" y="10800"/>
                </a:moveTo>
                <a:lnTo>
                  <a:pt x="27532" y="3794"/>
                </a:lnTo>
                <a:lnTo>
                  <a:pt x="27532" y="17806"/>
                </a:lnTo>
                <a:close/>
              </a:path>
            </a:pathLst>
          </a:custGeom>
          <a:solidFill>
            <a:srgbClr val="eef9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1" descr=""/>
          <p:cNvPicPr/>
          <p:nvPr/>
        </p:nvPicPr>
        <p:blipFill>
          <a:blip r:embed="rId1"/>
          <a:stretch/>
        </p:blipFill>
        <p:spPr>
          <a:xfrm>
            <a:off x="2687760" y="990720"/>
            <a:ext cx="3973320" cy="465588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3"/>
          <p:cNvSpPr/>
          <p:nvPr/>
        </p:nvSpPr>
        <p:spPr>
          <a:xfrm>
            <a:off x="766800" y="198360"/>
            <a:ext cx="848052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Georgia"/>
                <a:ea typeface="Cordia New"/>
              </a:rPr>
              <a:t>ОСНОВНЫЕ ПРИНЦИПЫ НАЛОГОВОЙ И БЮДЖЕТНОЙ ПОЛИ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Georgia"/>
                <a:ea typeface="Cordia New"/>
              </a:rPr>
              <a:t>НАВЛИНСКОГО МУНЦИПАЛЬНОГО РАЙОНА НА </a:t>
            </a:r>
            <a:r>
              <a:rPr b="1" lang="en-US" sz="1800" spc="-1" strike="noStrike">
                <a:solidFill>
                  <a:srgbClr val="002060"/>
                </a:solidFill>
                <a:latin typeface="Georgia"/>
                <a:ea typeface="Cordia New"/>
              </a:rPr>
              <a:t>2024 -2026 </a:t>
            </a:r>
            <a:r>
              <a:rPr b="1" lang="en-US" sz="1600" spc="-1" strike="noStrike">
                <a:solidFill>
                  <a:srgbClr val="002060"/>
                </a:solidFill>
                <a:latin typeface="Georgia"/>
                <a:ea typeface="Cordia New"/>
              </a:rPr>
              <a:t>ГО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13"/>
          <p:cNvSpPr/>
          <p:nvPr/>
        </p:nvSpPr>
        <p:spPr>
          <a:xfrm>
            <a:off x="6661080" y="3884760"/>
            <a:ext cx="2524320" cy="58392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261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стимулирование инвестиционной деятельност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Скругленный прямоугольник 1"/>
          <p:cNvSpPr/>
          <p:nvPr/>
        </p:nvSpPr>
        <p:spPr>
          <a:xfrm>
            <a:off x="142920" y="1184400"/>
            <a:ext cx="2874960" cy="1452600"/>
          </a:xfrm>
          <a:prstGeom prst="roundRect">
            <a:avLst>
              <a:gd name="adj" fmla="val 18421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устойчивость бюджета -обеспечение действующих расходных обязательств бюджета, обеспечение долгосрочной сбалансированности бюдже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Скругленный прямоугольник 16"/>
          <p:cNvSpPr/>
          <p:nvPr/>
        </p:nvSpPr>
        <p:spPr>
          <a:xfrm>
            <a:off x="6200640" y="1052640"/>
            <a:ext cx="3046680" cy="1576440"/>
          </a:xfrm>
          <a:prstGeom prst="roundRect">
            <a:avLst>
              <a:gd name="adj" fmla="val 18421"/>
            </a:avLst>
          </a:prstGeom>
          <a:solidFill>
            <a:srgbClr val="ff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обеспечение высокого уровня открытости и прозрачности бюджетного процесса Навлинского района и  высокого качества управления муниципальными финансам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Скругленный прямоугольник 18"/>
          <p:cNvSpPr/>
          <p:nvPr/>
        </p:nvSpPr>
        <p:spPr>
          <a:xfrm>
            <a:off x="120600" y="3098880"/>
            <a:ext cx="2897280" cy="1616040"/>
          </a:xfrm>
          <a:prstGeom prst="roundRect">
            <a:avLst>
              <a:gd name="adj" fmla="val 18421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совершенствование программного метода планирования расходов бюджета с целью повышения эффективности расходов и увязка с программными целями и задачам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Скругленный прямоугольник 21"/>
          <p:cNvSpPr/>
          <p:nvPr/>
        </p:nvSpPr>
        <p:spPr>
          <a:xfrm>
            <a:off x="604800" y="5424480"/>
            <a:ext cx="3254400" cy="1452600"/>
          </a:xfrm>
          <a:prstGeom prst="roundRect">
            <a:avLst>
              <a:gd name="adj" fmla="val 18421"/>
            </a:avLst>
          </a:prstGeom>
          <a:solidFill>
            <a:srgbClr val="f7fd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261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Georgia"/>
              </a:rPr>
              <a:t>сохранение социальной направленности бюджета -безусловное выполнение обязательств по социальной помощи и поддержке, обеспечение реализации указов Президента Российской Федерации о повышении оплаты труда работников бюджетной сфер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Скругленный прямоугольник 22"/>
          <p:cNvSpPr/>
          <p:nvPr/>
        </p:nvSpPr>
        <p:spPr>
          <a:xfrm>
            <a:off x="6048360" y="2955960"/>
            <a:ext cx="3137040" cy="1452600"/>
          </a:xfrm>
          <a:prstGeom prst="roundRect">
            <a:avLst>
              <a:gd name="adj" fmla="val 18421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Georgia"/>
              </a:rPr>
              <a:t>повышение открытости и прозрачности бюджетного процесса, повышение финансовой грамотности насел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Скругленный прямоугольник 25"/>
          <p:cNvSpPr/>
          <p:nvPr/>
        </p:nvSpPr>
        <p:spPr>
          <a:xfrm>
            <a:off x="6048360" y="4643280"/>
            <a:ext cx="3046320" cy="1003320"/>
          </a:xfrm>
          <a:prstGeom prst="roundRect">
            <a:avLst>
              <a:gd name="adj" fmla="val 18421"/>
            </a:avLst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повышение эффективности оказания муниципальных услу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Скругленный прямоугольник 29"/>
          <p:cNvSpPr/>
          <p:nvPr/>
        </p:nvSpPr>
        <p:spPr>
          <a:xfrm>
            <a:off x="4457880" y="5881680"/>
            <a:ext cx="5097240" cy="657360"/>
          </a:xfrm>
          <a:prstGeom prst="roundRect">
            <a:avLst>
              <a:gd name="adj" fmla="val 1842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Эффективное управление муниципальным долго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2"/>
          <p:cNvSpPr/>
          <p:nvPr/>
        </p:nvSpPr>
        <p:spPr>
          <a:xfrm>
            <a:off x="216000" y="190440"/>
            <a:ext cx="9085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370"/>
                </a:solidFill>
                <a:latin typeface="Georgia"/>
              </a:rPr>
              <a:t>НАВЛИНСКИЙ МУНИЦИПАЛЬНЫЙ РАЙОН БРЯН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оугольник 7"/>
          <p:cNvSpPr/>
          <p:nvPr/>
        </p:nvSpPr>
        <p:spPr>
          <a:xfrm>
            <a:off x="4457880" y="1189080"/>
            <a:ext cx="5108400" cy="241128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Расположен в юго-восточной части области,  на востоке граничит с Карачевским районом, частично с Орловской областью, на юге – с Брасовским и Суземским, на западе –  Трубчевским, на севере –  Выгоничским и Брянским районами област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оугольник 10"/>
          <p:cNvSpPr/>
          <p:nvPr/>
        </p:nvSpPr>
        <p:spPr>
          <a:xfrm>
            <a:off x="3249720" y="4508640"/>
            <a:ext cx="6143400" cy="996840"/>
          </a:xfrm>
          <a:prstGeom prst="rect">
            <a:avLst/>
          </a:prstGeom>
          <a:solidFill>
            <a:srgbClr val="dfe5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92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ерритория составляет 2011,9 км2. Численность населения насчитывает 26,6 тыс. челов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Рисунок 3" descr=""/>
          <p:cNvPicPr/>
          <p:nvPr/>
        </p:nvPicPr>
        <p:blipFill>
          <a:blip r:embed="rId1"/>
          <a:stretch/>
        </p:blipFill>
        <p:spPr>
          <a:xfrm>
            <a:off x="149400" y="630360"/>
            <a:ext cx="42289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2"/>
          <p:cNvSpPr/>
          <p:nvPr/>
        </p:nvSpPr>
        <p:spPr>
          <a:xfrm>
            <a:off x="87480" y="114480"/>
            <a:ext cx="9818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Georgia"/>
              </a:rPr>
              <a:t>ПРОГНОЗ СОЦИАЛЬНО-ЭКОНОМИЧЕСКОГО РАЗВИТИЯ НАВЛИНСКОГО МУНИЦИПАЛЬНОГО РАЙОНА НА </a:t>
            </a: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2025 </a:t>
            </a:r>
            <a:r>
              <a:rPr b="1" lang="ru-RU" sz="1400" spc="-1" strike="noStrike">
                <a:solidFill>
                  <a:srgbClr val="002060"/>
                </a:solidFill>
                <a:latin typeface="Georgia"/>
              </a:rPr>
              <a:t>ГОД И ПЛАНОВЫЙ ПЕРИОД </a:t>
            </a: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2026 </a:t>
            </a:r>
            <a:r>
              <a:rPr b="1" lang="ru-RU" sz="1400" spc="-1" strike="noStrike">
                <a:solidFill>
                  <a:srgbClr val="002060"/>
                </a:solidFill>
                <a:latin typeface="Georgia"/>
              </a:rPr>
              <a:t>И </a:t>
            </a:r>
            <a:r>
              <a:rPr b="1" lang="ru-RU" sz="1600" spc="-1" strike="noStrike">
                <a:solidFill>
                  <a:srgbClr val="002060"/>
                </a:solidFill>
                <a:latin typeface="Georgia"/>
              </a:rPr>
              <a:t>2027</a:t>
            </a:r>
            <a:r>
              <a:rPr b="1" lang="ru-RU" sz="1400" spc="-1" strike="noStrike">
                <a:solidFill>
                  <a:srgbClr val="002060"/>
                </a:solidFill>
                <a:latin typeface="Georgia"/>
              </a:rPr>
              <a:t> ГОД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96800" y="1143000"/>
          <a:ext cx="9264600" cy="4489560"/>
        </p:xfrm>
        <a:graphic>
          <a:graphicData uri="http://schemas.openxmlformats.org/drawingml/2006/table">
            <a:tbl>
              <a:tblPr/>
              <a:tblGrid>
                <a:gridCol w="3732480"/>
                <a:gridCol w="822240"/>
                <a:gridCol w="981000"/>
                <a:gridCol w="925560"/>
                <a:gridCol w="892080"/>
                <a:gridCol w="971640"/>
                <a:gridCol w="939600"/>
              </a:tblGrid>
              <a:tr h="291600">
                <a:tc rowSpan="2"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 rowSpan="2"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Е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з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фа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 gridSpan="3"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огн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4233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исленность населения (среднегодов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е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962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ъем отгруженной продукции обрабатывающих произво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лн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32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ъем сельскохозяйственной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лн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4568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ъем инвести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лн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213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реднемесячная заработная плата по полному кругу предпри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8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6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7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8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2028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реднемесячная заработная плата по крупным и  средним предприят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4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6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3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3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252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орот розничной торговл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лн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98040" y="-360"/>
            <a:ext cx="882828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ОСНОВНЫЕ ПОНЯТИЯ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КАК ДЕТАЛИЗИРУЮТСЯ РАСХОДЫ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7160" y="585720"/>
            <a:ext cx="9812520" cy="51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9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Вертикальный свиток 3"/>
          <p:cNvSpPr/>
          <p:nvPr/>
        </p:nvSpPr>
        <p:spPr>
          <a:xfrm>
            <a:off x="738360" y="1214280"/>
            <a:ext cx="2571480" cy="128592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рограммные  расх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Вертикальный свиток 4"/>
          <p:cNvSpPr/>
          <p:nvPr/>
        </p:nvSpPr>
        <p:spPr>
          <a:xfrm>
            <a:off x="6622920" y="1214280"/>
            <a:ext cx="3011760" cy="1285920"/>
          </a:xfrm>
          <a:prstGeom prst="verticalScroll">
            <a:avLst>
              <a:gd name="adj" fmla="val 12500"/>
            </a:avLst>
          </a:prstGeom>
          <a:solidFill>
            <a:srgbClr val="60c99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Муниципальные програм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Стрелка вправо 5"/>
          <p:cNvSpPr/>
          <p:nvPr/>
        </p:nvSpPr>
        <p:spPr>
          <a:xfrm>
            <a:off x="3699000" y="4506840"/>
            <a:ext cx="2600280" cy="8906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ccb79c"/>
          </a:solidFill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6 ГРБ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Стрелка влево 6"/>
          <p:cNvSpPr/>
          <p:nvPr/>
        </p:nvSpPr>
        <p:spPr>
          <a:xfrm>
            <a:off x="3763800" y="2995560"/>
            <a:ext cx="2379960" cy="85716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ccb79c"/>
          </a:solidFill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11 разде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Вертикальный свиток 8"/>
          <p:cNvSpPr/>
          <p:nvPr/>
        </p:nvSpPr>
        <p:spPr>
          <a:xfrm>
            <a:off x="573120" y="4317840"/>
            <a:ext cx="2736720" cy="128592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едомственная струк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Вертикальный свиток 9"/>
          <p:cNvSpPr/>
          <p:nvPr/>
        </p:nvSpPr>
        <p:spPr>
          <a:xfrm>
            <a:off x="573120" y="2805120"/>
            <a:ext cx="2571840" cy="128592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Направление сред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Вертикальный свиток 10"/>
          <p:cNvSpPr/>
          <p:nvPr/>
        </p:nvSpPr>
        <p:spPr>
          <a:xfrm>
            <a:off x="6711840" y="4292640"/>
            <a:ext cx="3194280" cy="149076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Главные распорядители бюджетных средст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Вертикальный свиток 11"/>
          <p:cNvSpPr/>
          <p:nvPr/>
        </p:nvSpPr>
        <p:spPr>
          <a:xfrm>
            <a:off x="6711840" y="2808360"/>
            <a:ext cx="3100320" cy="128592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Функциональная струк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Стрелка вправо 12"/>
          <p:cNvSpPr/>
          <p:nvPr/>
        </p:nvSpPr>
        <p:spPr>
          <a:xfrm>
            <a:off x="3699000" y="1438200"/>
            <a:ext cx="2600280" cy="95112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ccb79c"/>
          </a:solidFill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6 програ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2T04:33:03Z</dcterms:created>
  <dc:creator>Reanimator 98</dc:creator>
  <dc:description/>
  <dc:language>en-US</dc:language>
  <cp:lastModifiedBy>BARANOVA</cp:lastModifiedBy>
  <cp:lastPrinted>2024-11-12T09:36:31Z</cp:lastPrinted>
  <dcterms:modified xsi:type="dcterms:W3CDTF">2024-11-14T06:45:39Z</dcterms:modified>
  <cp:revision>1410</cp:revision>
  <dc:subject/>
  <dc:title>Презентация PowerPoint</dc:title>
</cp:coreProperties>
</file>