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5272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5272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A6662A-AC35-4EAF-A22C-BFF7DE58B6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2EB056-3328-4B50-A7AB-D68812EC0B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C8A6E3-E6B5-4787-B6C8-D0DCD1D08C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706320" y="741240"/>
            <a:ext cx="5384880" cy="3729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5980B90D-AAA2-454F-9292-CA52F058F8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B96B79-3727-4204-9955-04D3018B41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31D-760E-4F1B-81D0-2232D557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FA8-A856-49F9-83AC-901E6846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0ED-26EA-4FC3-991D-9C0F5E50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D94-5A3B-41A3-BE18-2F0985C6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A62-CC16-41DA-A2D1-ACB1C02A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4681-B0D9-4927-8FE0-B22D3673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BD67-A0A0-46AB-8BF0-DB0BF49E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202A-58E9-4AB7-B08B-6B1795C2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CBB4-7E87-477A-A267-B3973432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003E-91EF-493F-A20F-387CEE45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491-812E-41DC-9231-623A2711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ACB7-CA4B-43D0-9A34-3732D163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3BC1-3E2D-4C4C-A8FC-90653524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B969-57CB-447D-BFCE-4FFFDD2A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2727-7C37-4140-9DCE-BB1EA06A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71B6-7DF9-4C0B-932F-17C62F7E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FF4E-8858-4602-9A75-07B9A042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E4EA-C135-4213-AEFA-42EEF444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9FF-BB7E-4ADA-B8EB-FEDCB2CA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7DF-104D-45BE-987B-7CC0967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149-9915-495B-9D88-B3DD027A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8D5-BFBE-495F-A1F1-EB0FB1C8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6DE-DC46-450F-A17A-B7AB38B8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D80-08B2-4062-91FA-FC51AD3E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552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BA1E-66F8-4E62-BAE5-A240787001E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7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121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7C4F-9A11-4C50-80AF-E7A0B4BC3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finance 01p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B7B6-A77A-4183-804A-4A6A688BECF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2794-97B9-4F02-9571-E7817572B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images.yandex.ru/yandsearch?source=psearch&amp;text=&#1089;&#1087;&#1086;&#1088;&#1090;&amp;pos=8&amp;rpt=simage&amp;lr=7&amp;uinfo=sw-1180-sh-906-fw-955-fh-598-pd-1&amp;img_url=http%3A%2F%2Fwww.franklinliquors.com%2Fsports_link.jpg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www.admnav.ru/" TargetMode="External"/><Relationship Id="rId3" Type="http://schemas.openxmlformats.org/officeDocument/2006/relationships/hyperlink" Target="mailto:nvlfinotdel@mail.ru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141560" y="1327320"/>
            <a:ext cx="347004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716040" y="1773360"/>
            <a:ext cx="8638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НА ОСНОВЕ РЕШЕНИЯ НАВЛИНСКОГО РАЙОННОГО СОВЕТА НАРОДНЫХ ДЕПУТАТОВ ОТ 18.12.2023  №6-3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О БЮДЖЕТЕ НАВЛИНСКОГО МУНИЦИПАЛЬНОГО РАЙОНА БРЯНСКОЙ ОБЛАСТИ НА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024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ГОД И НА ПЛАНОВЫЙ ПЕРИОД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025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И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026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ГОДОВ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1"/>
          <p:cNvSpPr/>
          <p:nvPr/>
        </p:nvSpPr>
        <p:spPr>
          <a:xfrm>
            <a:off x="1417680" y="393840"/>
            <a:ext cx="80121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  <a:ea typeface="Calibri"/>
              </a:rPr>
              <a:t>БЮДЖЕТ ДЛЯ ГРАЖДА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герб навли"/>
          <p:cNvPicPr/>
          <p:nvPr/>
        </p:nvPicPr>
        <p:blipFill>
          <a:blip r:embed="rId1"/>
          <a:stretch/>
        </p:blipFill>
        <p:spPr>
          <a:xfrm>
            <a:off x="0" y="71280"/>
            <a:ext cx="1417680" cy="17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79360" y="259920"/>
            <a:ext cx="9220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ОСНОВНЫЕ ПАРАМЕТРЫ БЮДЖЕТА РАЙОНА НА 202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 rot="16200000">
            <a:off x="3863160" y="2159640"/>
            <a:ext cx="1728720" cy="2340000"/>
          </a:xfrm>
          <a:custGeom>
            <a:avLst/>
            <a:gdLst>
              <a:gd name="textAreaLeft" fmla="*/ 0 w 1728720"/>
              <a:gd name="textAreaRight" fmla="*/ 1729080 w 1728720"/>
              <a:gd name="textAreaTop" fmla="*/ 585000 h 2340000"/>
              <a:gd name="textAreaBottom" fmla="*/ 1755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a6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549600" y="1052640"/>
            <a:ext cx="2338560" cy="13683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ДОХОДЫ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 В РАСЧ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НА 1 ЧЕЛОВ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22 437,32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3527280" y="4314960"/>
            <a:ext cx="2338560" cy="1584360"/>
          </a:xfrm>
          <a:prstGeom prst="rect">
            <a:avLst/>
          </a:prstGeom>
          <a:solidFill>
            <a:srgbClr val="66ccff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РАСХОДЫ В РАСЧЕТЕ НА 1 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22 437,32 руб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Rectangle 7"/>
          <p:cNvGrpSpPr/>
          <p:nvPr/>
        </p:nvGrpSpPr>
        <p:grpSpPr>
          <a:xfrm>
            <a:off x="2730600" y="1006560"/>
            <a:ext cx="755640" cy="5162400"/>
            <a:chOff x="2730600" y="1006560"/>
            <a:chExt cx="755640" cy="5162400"/>
          </a:xfrm>
        </p:grpSpPr>
        <p:pic>
          <p:nvPicPr>
            <p:cNvPr id="230" name="Rectangle 7" descr=""/>
            <p:cNvPicPr/>
            <p:nvPr/>
          </p:nvPicPr>
          <p:blipFill>
            <a:blip r:embed="rId1"/>
            <a:stretch/>
          </p:blipFill>
          <p:spPr>
            <a:xfrm>
              <a:off x="2730600" y="1006560"/>
              <a:ext cx="75564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rot="10800000">
              <a:off x="2757240" y="1028520"/>
              <a:ext cx="701640" cy="51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ДОХОДЫ  - 599 996 </a:t>
              </a:r>
              <a:r>
                <a:rPr b="1" lang="ru-RU" sz="16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ТЫС. РУБ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8"/>
          <p:cNvSpPr/>
          <p:nvPr/>
        </p:nvSpPr>
        <p:spPr>
          <a:xfrm rot="10800000">
            <a:off x="5932080" y="1084320"/>
            <a:ext cx="701640" cy="4983120"/>
          </a:xfrm>
          <a:prstGeom prst="rect">
            <a:avLst/>
          </a:prstGeom>
          <a:solidFill>
            <a:srgbClr val="66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458d"/>
                </a:solidFill>
                <a:latin typeface="Times New Roman"/>
              </a:rPr>
              <a:t>РАСХОДЫ – 599 996 </a:t>
            </a:r>
            <a:r>
              <a:rPr b="1" lang="ru-RU" sz="1600" spc="-1" strike="noStrike">
                <a:solidFill>
                  <a:srgbClr val="43458d"/>
                </a:solidFill>
                <a:latin typeface="Times New Roman"/>
              </a:rPr>
              <a:t>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0" y="1141560"/>
            <a:ext cx="2719440" cy="1368360"/>
          </a:xfrm>
          <a:custGeom>
            <a:avLst/>
            <a:gdLst>
              <a:gd name="textAreaLeft" fmla="*/ 0 w 2719440"/>
              <a:gd name="textAreaRight" fmla="*/ 2719800 w 271944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7" y="0"/>
                </a:lnTo>
                <a:lnTo>
                  <a:pt x="21600" y="10800"/>
                </a:lnTo>
                <a:lnTo>
                  <a:pt x="166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1 970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0" y="4389480"/>
            <a:ext cx="2697120" cy="136836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07" y="0"/>
                </a:lnTo>
                <a:lnTo>
                  <a:pt x="21600" y="10800"/>
                </a:lnTo>
                <a:lnTo>
                  <a:pt x="16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0 487 тыс. 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0" y="2825640"/>
            <a:ext cx="2698920" cy="1368360"/>
          </a:xfrm>
          <a:custGeom>
            <a:avLst/>
            <a:gdLst>
              <a:gd name="textAreaLeft" fmla="*/ 0 w 2698920"/>
              <a:gd name="textAreaRight" fmla="*/ 2699280 w 26989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0" y="0"/>
                </a:lnTo>
                <a:lnTo>
                  <a:pt x="21600" y="10800"/>
                </a:lnTo>
                <a:lnTo>
                  <a:pt x="166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539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2"/>
          <p:cNvSpPr/>
          <p:nvPr/>
        </p:nvSpPr>
        <p:spPr>
          <a:xfrm rot="10800000">
            <a:off x="6721200" y="1020240"/>
            <a:ext cx="3173400" cy="41760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раз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98 656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7"/>
          <p:cNvSpPr/>
          <p:nvPr/>
        </p:nvSpPr>
        <p:spPr>
          <a:xfrm rot="10800000">
            <a:off x="6633720" y="5392800"/>
            <a:ext cx="3249720" cy="365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1" y="0"/>
                </a:lnTo>
                <a:lnTo>
                  <a:pt x="21600" y="10800"/>
                </a:lnTo>
                <a:lnTo>
                  <a:pt x="183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МБТ поселения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 086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8"/>
          <p:cNvSpPr/>
          <p:nvPr/>
        </p:nvSpPr>
        <p:spPr>
          <a:xfrm rot="10800000">
            <a:off x="6633720" y="4411440"/>
            <a:ext cx="3272040" cy="447480"/>
          </a:xfrm>
          <a:custGeom>
            <a:avLst/>
            <a:gdLst>
              <a:gd name="textAreaLeft" fmla="*/ 0 w 3272040"/>
              <a:gd name="textAreaRight" fmla="*/ 3272400 w 327204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5" y="0"/>
                </a:lnTo>
                <a:lnTo>
                  <a:pt x="21600" y="10800"/>
                </a:lnTo>
                <a:lnTo>
                  <a:pt x="181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Культура и кинематограф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36 453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9"/>
          <p:cNvSpPr/>
          <p:nvPr/>
        </p:nvSpPr>
        <p:spPr>
          <a:xfrm rot="10800000">
            <a:off x="6700320" y="3218040"/>
            <a:ext cx="3219480" cy="65232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8" y="0"/>
                </a:lnTo>
                <a:lnTo>
                  <a:pt x="21600" y="10800"/>
                </a:lnTo>
                <a:lnTo>
                  <a:pt x="187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ционал</a:t>
            </a:r>
            <a:r>
              <a:rPr b="0" lang="ru-RU" sz="1300" spc="-1" strike="noStrike">
                <a:solidFill>
                  <a:srgbClr val="43458d"/>
                </a:solidFill>
                <a:latin typeface="Times New Roman"/>
              </a:rPr>
              <a:t>ь</a:t>
            </a: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 безопасность и правоохранительная деятельность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5 828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21"/>
          <p:cNvSpPr/>
          <p:nvPr/>
        </p:nvSpPr>
        <p:spPr>
          <a:xfrm rot="10800000">
            <a:off x="6700320" y="2377800"/>
            <a:ext cx="3219480" cy="34128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34" y="0"/>
                </a:lnTo>
                <a:lnTo>
                  <a:pt x="21600" y="10800"/>
                </a:lnTo>
                <a:lnTo>
                  <a:pt x="189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Социальная поли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75 637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22"/>
          <p:cNvSpPr/>
          <p:nvPr/>
        </p:nvSpPr>
        <p:spPr>
          <a:xfrm rot="10800000">
            <a:off x="6700680" y="3921120"/>
            <a:ext cx="3197520" cy="447840"/>
          </a:xfrm>
          <a:custGeom>
            <a:avLst/>
            <a:gdLst>
              <a:gd name="textAreaLeft" fmla="*/ 0 w 3197520"/>
              <a:gd name="textAreaRight" fmla="*/ 3197880 w 31975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64" y="0"/>
                </a:lnTo>
                <a:lnTo>
                  <a:pt x="21600" y="10800"/>
                </a:lnTo>
                <a:lnTo>
                  <a:pt x="189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Жилищно-коммунальное хозя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 115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23"/>
          <p:cNvSpPr/>
          <p:nvPr/>
        </p:nvSpPr>
        <p:spPr>
          <a:xfrm rot="10800000">
            <a:off x="6661080" y="1461240"/>
            <a:ext cx="3245040" cy="412920"/>
          </a:xfrm>
          <a:custGeom>
            <a:avLst/>
            <a:gdLst>
              <a:gd name="textAreaLeft" fmla="*/ 0 w 3245040"/>
              <a:gd name="textAreaRight" fmla="*/ 3245400 w 324504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46" y="0"/>
                </a:lnTo>
                <a:lnTo>
                  <a:pt x="21600" y="10800"/>
                </a:lnTo>
                <a:lnTo>
                  <a:pt x="18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щегосударственные вопро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46 753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2"/>
          <p:cNvSpPr/>
          <p:nvPr/>
        </p:nvSpPr>
        <p:spPr>
          <a:xfrm rot="10800000">
            <a:off x="6744960" y="2760480"/>
            <a:ext cx="3174840" cy="417240"/>
          </a:xfrm>
          <a:custGeom>
            <a:avLst/>
            <a:gdLst>
              <a:gd name="textAreaLeft" fmla="*/ 0 w 3174840"/>
              <a:gd name="textAreaRight" fmla="*/ 3175200 w 317484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3" y="0"/>
                </a:lnTo>
                <a:lnTo>
                  <a:pt x="21600" y="10800"/>
                </a:lnTo>
                <a:lnTo>
                  <a:pt x="191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Национальная эконом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22 717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20"/>
          <p:cNvSpPr/>
          <p:nvPr/>
        </p:nvSpPr>
        <p:spPr>
          <a:xfrm rot="10800000">
            <a:off x="6622560" y="4908240"/>
            <a:ext cx="3272040" cy="439560"/>
          </a:xfrm>
          <a:custGeom>
            <a:avLst/>
            <a:gdLst>
              <a:gd name="textAreaLeft" fmla="*/ 0 w 3272040"/>
              <a:gd name="textAreaRight" fmla="*/ 3272400 w 327204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44" y="0"/>
                </a:lnTo>
                <a:lnTo>
                  <a:pt x="21600" y="10800"/>
                </a:lnTo>
                <a:lnTo>
                  <a:pt x="18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Физическая культура и 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9 404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21"/>
          <p:cNvSpPr/>
          <p:nvPr/>
        </p:nvSpPr>
        <p:spPr>
          <a:xfrm rot="10800000">
            <a:off x="6654960" y="1917360"/>
            <a:ext cx="3257280" cy="415800"/>
          </a:xfrm>
          <a:custGeom>
            <a:avLst/>
            <a:gdLst>
              <a:gd name="textAreaLeft" fmla="*/ 0 w 3257280"/>
              <a:gd name="textAreaRight" fmla="*/ 3257640 w 32572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6" y="0"/>
                </a:lnTo>
                <a:lnTo>
                  <a:pt x="21600" y="10800"/>
                </a:lnTo>
                <a:lnTo>
                  <a:pt x="187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Национальная обор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5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7"/>
          <p:cNvSpPr/>
          <p:nvPr/>
        </p:nvSpPr>
        <p:spPr>
          <a:xfrm rot="10800000">
            <a:off x="6656040" y="5802480"/>
            <a:ext cx="3249720" cy="365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1" y="0"/>
                </a:lnTo>
                <a:lnTo>
                  <a:pt x="21600" y="10800"/>
                </a:lnTo>
                <a:lnTo>
                  <a:pt x="183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храна окружающей сре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42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6920" y="90000"/>
            <a:ext cx="8069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ДОХОДЫ БЮДЖЕТА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384120" y="627120"/>
            <a:ext cx="898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Доходы бюджета - поступающие в бюджет денежные средства, за исключением средств, являющихся источниками финансирования дефицита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Скругленный прямоугольник 2"/>
          <p:cNvSpPr/>
          <p:nvPr/>
        </p:nvSpPr>
        <p:spPr>
          <a:xfrm>
            <a:off x="3503520" y="1498680"/>
            <a:ext cx="265428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619440" y="162720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Доходы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Скругленный прямоугольник 5"/>
          <p:cNvSpPr/>
          <p:nvPr/>
        </p:nvSpPr>
        <p:spPr>
          <a:xfrm>
            <a:off x="636480" y="2484360"/>
            <a:ext cx="2340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Скругленный прямоугольник 421"/>
          <p:cNvSpPr/>
          <p:nvPr/>
        </p:nvSpPr>
        <p:spPr>
          <a:xfrm>
            <a:off x="3436920" y="2558880"/>
            <a:ext cx="265428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Скругленный прямоугольник 422"/>
          <p:cNvSpPr/>
          <p:nvPr/>
        </p:nvSpPr>
        <p:spPr>
          <a:xfrm>
            <a:off x="6603840" y="2484360"/>
            <a:ext cx="26528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Скругленный прямоугольник 7"/>
          <p:cNvSpPr/>
          <p:nvPr/>
        </p:nvSpPr>
        <p:spPr>
          <a:xfrm>
            <a:off x="388800" y="3354480"/>
            <a:ext cx="26006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Скругленный прямоугольник 424"/>
          <p:cNvSpPr/>
          <p:nvPr/>
        </p:nvSpPr>
        <p:spPr>
          <a:xfrm>
            <a:off x="3379680" y="3354480"/>
            <a:ext cx="28130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Скругленный прямоугольник 425"/>
          <p:cNvSpPr/>
          <p:nvPr/>
        </p:nvSpPr>
        <p:spPr>
          <a:xfrm>
            <a:off x="6602400" y="3354480"/>
            <a:ext cx="282888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600120" y="248436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3503520" y="257328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Неналоговые</a:t>
            </a:r>
            <a:r>
              <a:rPr b="0" lang="ru-RU" sz="1800" spc="-1" strike="noStrike">
                <a:solidFill>
                  <a:srgbClr val="0066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10"/>
          <p:cNvSpPr/>
          <p:nvPr/>
        </p:nvSpPr>
        <p:spPr>
          <a:xfrm>
            <a:off x="6700680" y="248436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Безвозмездные</a:t>
            </a:r>
            <a:r>
              <a:rPr b="0" lang="ru-RU" sz="1800" spc="-1" strike="noStrike">
                <a:solidFill>
                  <a:srgbClr val="0066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4735440" y="2133720"/>
            <a:ext cx="0" cy="42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14"/>
          <p:cNvSpPr/>
          <p:nvPr/>
        </p:nvSpPr>
        <p:spPr>
          <a:xfrm flipV="1">
            <a:off x="178272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433"/>
          <p:cNvSpPr/>
          <p:nvPr/>
        </p:nvSpPr>
        <p:spPr>
          <a:xfrm flipV="1">
            <a:off x="796284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ая соединительная линия 16"/>
          <p:cNvSpPr/>
          <p:nvPr/>
        </p:nvSpPr>
        <p:spPr>
          <a:xfrm>
            <a:off x="1781280" y="2255760"/>
            <a:ext cx="619272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401760" y="3402000"/>
            <a:ext cx="25747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Поступления от уплаты налогов, установленных Налоговым кодексом Российской Федерации</a:t>
            </a:r>
            <a:r>
              <a:rPr b="1" lang="en-US" sz="1000" spc="-1" strike="noStrike">
                <a:solidFill>
                  <a:srgbClr val="00664d"/>
                </a:solidFill>
                <a:latin typeface="Georgia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- налог на доходы физических ли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664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акциз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664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налог, взимаемый в связи с применением патентной системы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- иные налог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19"/>
          <p:cNvSpPr/>
          <p:nvPr/>
        </p:nvSpPr>
        <p:spPr>
          <a:xfrm>
            <a:off x="3476520" y="3498840"/>
            <a:ext cx="279108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664d"/>
                </a:solidFill>
                <a:latin typeface="Georgia"/>
              </a:rPr>
              <a:t>Поступления доходов от использования государственного (муниципального) имущества, от платных услуг, оказываемых казенными учреждениями, штрафных санкций за нарушение законодательства, иных неналоговых платеж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6691320" y="3402000"/>
            <a:ext cx="2717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4d"/>
                </a:solidFill>
                <a:latin typeface="Georgia"/>
              </a:rPr>
              <a:t>Поступления доходы в виде финансовой помощи, полученной от бюджетов других уровней бюджетной системы РФ (межбюджетные трансферты), безвозмездные поступления от организаций и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440" y="71280"/>
            <a:ext cx="96868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ОСТУПЛЕНИЯ ДОХОДОВ БЮДЖЕТА В 2024-2026ГГ</a:t>
            </a:r>
            <a:br>
              <a:rPr sz="20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ыс. руб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Object 7"/>
          <p:cNvGraphicFramePr/>
          <p:nvPr/>
        </p:nvGraphicFramePr>
        <p:xfrm>
          <a:off x="136440" y="658800"/>
          <a:ext cx="9464760" cy="52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658800"/>
                    <a:ext cx="94647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22000" y="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Ы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ЧИСЛЕНИЙ НАЛОГОВЫХ И НЕНАЛОГОВЫХ ДОХОДОВ В РАЙОННЫЙ 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712800"/>
          <a:ext cx="9914040" cy="6350040"/>
        </p:xfrm>
        <a:graphic>
          <a:graphicData uri="http://schemas.openxmlformats.org/drawingml/2006/table">
            <a:tbl>
              <a:tblPr/>
              <a:tblGrid>
                <a:gridCol w="4726080"/>
                <a:gridCol w="1068120"/>
                <a:gridCol w="4119840"/>
              </a:tblGrid>
              <a:tr h="961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 год (на территориях городских/сельских поселени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о-правовой акт, устанавливающий норматив в бюджет района на 2024-2026г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735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/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 (5% и 13% сельских территорий ), проект закона Брянской области «Об областном бюджете на 2024 год и на плановый период 2025 и 2026 годов» (47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 произведенным на территорий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закона Брянской области «Об областном бюджете на 2024 год и на плановый период 2025 и 2026 годов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649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4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6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, сбо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30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ередачи в аренду земельных участков, государственная собственность на которые не разгранич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7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оступления от использования имущ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8413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ь прибыли муниципальных унитарных предприятий, остающейся после уплаты налогов и иных обязательных платеж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юджетный кодекс РФ, проект решения районного Совета народных депутатов «О бюджете Навлинского муниципального района Брянской области на 2024 год и на плановый период 2025 и 2026 годов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6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45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реализации имущ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22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земельных участков государственная собственность на которые не разграниче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779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й затрат государ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20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44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1120" y="195120"/>
            <a:ext cx="9282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</a:rPr>
              <a:t>СТРУКТУРА НАЛОГОВЫХ И НЕНАЛОГОВЫХ ДОХОДОВ В БЮДЖЕТ НАВЛИН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Объект 10"/>
          <p:cNvGraphicFramePr/>
          <p:nvPr/>
        </p:nvGraphicFramePr>
        <p:xfrm>
          <a:off x="2878200" y="1090440"/>
          <a:ext cx="4149720" cy="22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8200" y="1090440"/>
                    <a:ext cx="414972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Объект 6"/>
          <p:cNvGraphicFramePr/>
          <p:nvPr/>
        </p:nvGraphicFramePr>
        <p:xfrm>
          <a:off x="752400" y="3373560"/>
          <a:ext cx="4125960" cy="238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6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00" y="3373560"/>
                    <a:ext cx="412596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Объект 10"/>
          <p:cNvGraphicFramePr/>
          <p:nvPr/>
        </p:nvGraphicFramePr>
        <p:xfrm>
          <a:off x="5721480" y="3378240"/>
          <a:ext cx="4057560" cy="2389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78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1480" y="3378240"/>
                    <a:ext cx="405756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5240" y="757080"/>
            <a:ext cx="8420040" cy="1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НАЛОГ НА ДОХОДЫ ФИЗИЧЕСКИХ ЛИЦ, млн. рублей</a:t>
            </a:r>
            <a:br>
              <a:rPr sz="23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Объект 20"/>
          <p:cNvGraphicFramePr/>
          <p:nvPr/>
        </p:nvGraphicFramePr>
        <p:xfrm>
          <a:off x="582480" y="585720"/>
          <a:ext cx="614844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Объект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480" y="585720"/>
                    <a:ext cx="614844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 txBox="1"/>
          <p:nvPr/>
        </p:nvSpPr>
        <p:spPr>
          <a:xfrm>
            <a:off x="7192440" y="814320"/>
            <a:ext cx="23828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Дополнительный норматив от НДФЛ взамен дотации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в 2023 году- 47% ; на 2024 год - 47%; на 2025 год - 47%; на 2026 год - 47%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Факторы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361"/>
              </a:lnSpc>
              <a:spcBef>
                <a:spcPts val="275"/>
              </a:spcBef>
              <a:spcAft>
                <a:spcPts val="213"/>
              </a:spcAft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индексация заработной платы работникам организаций в связи с инфляцией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412"/>
              </a:lnSpc>
              <a:spcBef>
                <a:spcPts val="275"/>
              </a:spcBef>
              <a:spcAft>
                <a:spcPts val="213"/>
              </a:spcAft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увеличение с 01.01.2024 г. МРОТ (19 242 руб.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386"/>
              </a:lnSpc>
              <a:spcBef>
                <a:spcPts val="2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увеличение на 2024 год величины социальных налоговых вычетов на обучение до 110 тыс. рублей и прочих социальных вычетов до 150 тыс. </a:t>
            </a:r>
            <a:r>
              <a:rPr b="1" i="1" lang="ru-RU" sz="1100" spc="-1" strike="noStrike">
                <a:solidFill>
                  <a:srgbClr val="002060"/>
                </a:solidFill>
                <a:latin typeface="Georgia"/>
              </a:rPr>
              <a:t>р</a:t>
            </a: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уб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Объект 20"/>
          <p:cNvGraphicFramePr/>
          <p:nvPr/>
        </p:nvGraphicFramePr>
        <p:xfrm>
          <a:off x="1166760" y="3154320"/>
          <a:ext cx="5626080" cy="2560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4" name="Объект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6760" y="3154320"/>
                    <a:ext cx="56260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9000" y="241200"/>
            <a:ext cx="934740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ОТДЕЛЬНЫЕ НАЛОГОВЫЕ И НЕНАЛОГОВЫЕ ДОХОДЫ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(млн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Объект 6"/>
          <p:cNvGraphicFramePr/>
          <p:nvPr/>
        </p:nvGraphicFramePr>
        <p:xfrm>
          <a:off x="279360" y="828720"/>
          <a:ext cx="5060880" cy="22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828720"/>
                    <a:ext cx="506088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Объект 10"/>
          <p:cNvGraphicFramePr/>
          <p:nvPr/>
        </p:nvGraphicFramePr>
        <p:xfrm>
          <a:off x="5391000" y="828720"/>
          <a:ext cx="4388040" cy="2270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9" name="Объект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1000" y="828720"/>
                    <a:ext cx="438804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Объект 6"/>
          <p:cNvGraphicFramePr/>
          <p:nvPr/>
        </p:nvGraphicFramePr>
        <p:xfrm>
          <a:off x="479520" y="3284640"/>
          <a:ext cx="4860720" cy="2270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91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20" y="3284640"/>
                    <a:ext cx="48607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Объект 10"/>
          <p:cNvGraphicFramePr/>
          <p:nvPr/>
        </p:nvGraphicFramePr>
        <p:xfrm>
          <a:off x="5543640" y="3378240"/>
          <a:ext cx="4235400" cy="2176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93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3378240"/>
                    <a:ext cx="423540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"/>
          <p:cNvPicPr/>
          <p:nvPr/>
        </p:nvPicPr>
        <p:blipFill>
          <a:blip r:embed="rId1"/>
          <a:stretch/>
        </p:blipFill>
        <p:spPr>
          <a:xfrm>
            <a:off x="7651800" y="1022400"/>
            <a:ext cx="1654200" cy="177012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2"/>
          <p:cNvSpPr/>
          <p:nvPr/>
        </p:nvSpPr>
        <p:spPr>
          <a:xfrm>
            <a:off x="826920" y="331920"/>
            <a:ext cx="8374320" cy="63000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МЕЖБЮДЖЕТНЫЕ ТРАНСФЕР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 3"/>
          <p:cNvSpPr/>
          <p:nvPr/>
        </p:nvSpPr>
        <p:spPr>
          <a:xfrm>
            <a:off x="919080" y="1395360"/>
            <a:ext cx="6553440" cy="1046160"/>
          </a:xfrm>
          <a:prstGeom prst="rect">
            <a:avLst/>
          </a:prstGeom>
          <a:solidFill>
            <a:srgbClr val="b3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ежбюджетные трансферты (безвозмездные поступления) - это средства одного бюджета бюджетной системы РФ, перечисляемые другому бюджету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17480" y="2629080"/>
          <a:ext cx="8345520" cy="4120920"/>
        </p:xfrm>
        <a:graphic>
          <a:graphicData uri="http://schemas.openxmlformats.org/drawingml/2006/table">
            <a:tbl>
              <a:tblPr/>
              <a:tblGrid>
                <a:gridCol w="2830680"/>
                <a:gridCol w="2751120"/>
                <a:gridCol w="2763720"/>
              </a:tblGrid>
              <a:tr h="1646280"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Дотации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(от лат.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«Dotatio»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- дар, пожертво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d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Субсидии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(от лат.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«Subsidium»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-поддерж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Субвенции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(от лат.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«Subvenire»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-приходить на помощ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880720">
                <a:tc>
                  <a:txBody>
                    <a:bodyPr lIns="0" rIns="0" tIns="0" bIns="0" anchor="t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Предоставляются без определенияконкретной цели их исполь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d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Предоставляются на финансирование «переданных» другим публично-правовым образованиям полном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БЕЗВОЗМЕЗДНЫЕ ПОСТУП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ТЫС.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Объект 3"/>
          <p:cNvGraphicFramePr/>
          <p:nvPr/>
        </p:nvGraphicFramePr>
        <p:xfrm>
          <a:off x="1104840" y="662040"/>
          <a:ext cx="8521920" cy="53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662040"/>
                    <a:ext cx="852192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14"/>
          <p:cNvSpPr/>
          <p:nvPr/>
        </p:nvSpPr>
        <p:spPr>
          <a:xfrm>
            <a:off x="905040" y="28404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Arial"/>
              </a:rPr>
              <a:t>РАСХОДЫ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4" descr="0c0632cc76566fe8dd5db3601f5a0970"/>
          <p:cNvPicPr/>
          <p:nvPr/>
        </p:nvPicPr>
        <p:blipFill>
          <a:blip r:embed="rId1"/>
          <a:stretch/>
        </p:blipFill>
        <p:spPr>
          <a:xfrm>
            <a:off x="-33480" y="1484280"/>
            <a:ext cx="3370320" cy="2502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7"/>
          <p:cNvSpPr/>
          <p:nvPr/>
        </p:nvSpPr>
        <p:spPr>
          <a:xfrm>
            <a:off x="1685880" y="3809880"/>
            <a:ext cx="8134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Бюджет района на 2024-2026 гг. является социально ориентирован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сходы на образование, культуру, социальную политику, физическую культуру и спорт в 2024 году составят 520 150 тыс.руб. (86,7% от общего объема запланированных расходов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9" descr="spor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25680" y="166860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3836084211"/>
          <p:cNvPicPr/>
          <p:nvPr/>
        </p:nvPicPr>
        <p:blipFill>
          <a:blip r:embed="rId4"/>
          <a:stretch/>
        </p:blipFill>
        <p:spPr>
          <a:xfrm>
            <a:off x="6513480" y="1413000"/>
            <a:ext cx="2884680" cy="1998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9"/>
          <p:cNvSpPr/>
          <p:nvPr/>
        </p:nvSpPr>
        <p:spPr>
          <a:xfrm>
            <a:off x="114480" y="838080"/>
            <a:ext cx="9520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2228b"/>
                </a:solidFill>
                <a:latin typeface="Tahoma"/>
              </a:rPr>
              <a:t>Расходы бюджета – выплачиваемые из бюджета денежные средства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30120" y="165240"/>
            <a:ext cx="92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66"/>
                </a:solidFill>
                <a:latin typeface="Times New Roman"/>
              </a:rPr>
              <a:t>Уважаемые жители!</a:t>
            </a:r>
            <a:r>
              <a:rPr b="1" lang="ru-RU" sz="1800" spc="-1" strike="noStrike">
                <a:solidFill>
                  <a:srgbClr val="191966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5" descr=""/>
          <p:cNvPicPr/>
          <p:nvPr/>
        </p:nvPicPr>
        <p:blipFill>
          <a:blip r:embed="rId1"/>
          <a:stretch/>
        </p:blipFill>
        <p:spPr>
          <a:xfrm>
            <a:off x="6829560" y="4484520"/>
            <a:ext cx="3076560" cy="2016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330120" y="647640"/>
            <a:ext cx="89265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Перед Вами информационный материал – «Бюджет для граждан», где в доступной и понятной форме отражены основные параметры бюджета Навлинского муниципального района на 2024 год и плановый период 2025 и 2026 год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Создавая «Бюджет для граждан», мы стремились обеспечить реализацию принципов прозрачности и открытости бюджетных данны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Размещенная информация даст Вам возможность составить представление о направлениях расходования бюджетных средств. Каждый житель имеет возможность получить информацию о том, сколько поступает доходов в бюджет района, сколько и куда тратится средст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Надеемся, что данный материал станет для Вас значимым подспорьем в знакомстве с бюджетом Навлинского муниципального райо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2960" y="-103320"/>
            <a:ext cx="9615240" cy="944640"/>
          </a:xfrm>
          <a:prstGeom prst="rect">
            <a:avLst/>
          </a:prstGeom>
          <a:gradFill rotWithShape="0">
            <a:gsLst>
              <a:gs pos="0">
                <a:srgbClr val="a3a3e4"/>
              </a:gs>
              <a:gs pos="100000">
                <a:srgbClr val="8181de"/>
              </a:gs>
            </a:gsLst>
            <a:lin ang="5400000"/>
          </a:gradFill>
          <a:ln w="648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БЮДЖЕТА,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3320" y="1273320"/>
          <a:ext cx="9615240" cy="4533840"/>
        </p:xfrm>
        <a:graphic>
          <a:graphicData uri="http://schemas.openxmlformats.org/drawingml/2006/table">
            <a:tbl>
              <a:tblPr/>
              <a:tblGrid>
                <a:gridCol w="4709880"/>
                <a:gridCol w="1684440"/>
                <a:gridCol w="1577880"/>
                <a:gridCol w="1643040"/>
              </a:tblGrid>
              <a:tr h="49824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84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 7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 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75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 7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 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 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К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8 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 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57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4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07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5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1 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534960" y="147600"/>
            <a:ext cx="89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«ОБЩЕГОСУДАРСТВЕННЫЕ РАСХОДЫ»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11240" y="781200"/>
          <a:ext cx="9686880" cy="5735520"/>
        </p:xfrm>
        <a:graphic>
          <a:graphicData uri="http://schemas.openxmlformats.org/drawingml/2006/table">
            <a:tbl>
              <a:tblPr/>
              <a:tblGrid>
                <a:gridCol w="6607080"/>
                <a:gridCol w="1111320"/>
                <a:gridCol w="1004760"/>
                <a:gridCol w="963720"/>
              </a:tblGrid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1 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9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 7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 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82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1143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5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84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роведения выборов и референд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5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357120" y="1216080"/>
          <a:ext cx="9433080" cy="3879720"/>
        </p:xfrm>
        <a:graphic>
          <a:graphicData uri="http://schemas.openxmlformats.org/drawingml/2006/table">
            <a:tbl>
              <a:tblPr/>
              <a:tblGrid>
                <a:gridCol w="5932440"/>
                <a:gridCol w="1438560"/>
                <a:gridCol w="1014120"/>
                <a:gridCol w="1047960"/>
              </a:tblGrid>
              <a:tr h="63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1 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билизационная подготовка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2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920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пожарная безопас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312" name="Прямоугольник 5"/>
          <p:cNvSpPr/>
          <p:nvPr/>
        </p:nvSpPr>
        <p:spPr>
          <a:xfrm>
            <a:off x="133200" y="147600"/>
            <a:ext cx="950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ОБОРОН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БЕЗОПАСНОСТЬ И ПРАВООХРАНИТЕЛЬНАЯ ДЕЯТЕЛЬНОСТЬ»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5"/>
          <p:cNvSpPr/>
          <p:nvPr/>
        </p:nvSpPr>
        <p:spPr>
          <a:xfrm>
            <a:off x="501480" y="147600"/>
            <a:ext cx="913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ЭКОНОМИК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и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ЖИЛИЩНО-КОММУНАЛЬНОЕ ХОЗЯЙСТВО»,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 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15920" y="1076400"/>
          <a:ext cx="9748800" cy="5295960"/>
        </p:xfrm>
        <a:graphic>
          <a:graphicData uri="http://schemas.openxmlformats.org/drawingml/2006/table">
            <a:tbl>
              <a:tblPr/>
              <a:tblGrid>
                <a:gridCol w="4949640"/>
                <a:gridCol w="1595520"/>
                <a:gridCol w="1560600"/>
                <a:gridCol w="1643040"/>
              </a:tblGrid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1 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 7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 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 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льское хозяйство и рыболов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9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8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7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храны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5"/>
          <p:cNvSpPr/>
          <p:nvPr/>
        </p:nvSpPr>
        <p:spPr>
          <a:xfrm>
            <a:off x="501480" y="147600"/>
            <a:ext cx="91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НА СОЦИАЛЬНО-КУЛЬТУРНУЮ СФЕРУ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44440" y="747720"/>
          <a:ext cx="9582120" cy="5621400"/>
        </p:xfrm>
        <a:graphic>
          <a:graphicData uri="http://schemas.openxmlformats.org/drawingml/2006/table">
            <a:tbl>
              <a:tblPr/>
              <a:tblGrid>
                <a:gridCol w="4965840"/>
                <a:gridCol w="1466640"/>
                <a:gridCol w="1479600"/>
                <a:gridCol w="1670040"/>
              </a:tblGrid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1 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2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8 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 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 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2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2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2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4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8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9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 высших дости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5"/>
          <p:cNvSpPr/>
          <p:nvPr/>
        </p:nvSpPr>
        <p:spPr>
          <a:xfrm>
            <a:off x="501480" y="147600"/>
            <a:ext cx="913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МЕЖБЮДЖЕТНЫЕ ТРАНСФЕРТЫ ОБЩЕГО ХАРАКТЕРА БЮДЖЕТАМ БЮДЖЕТНОЙ СИСТЕМЫ РОССИЙСКОЙ ФЕДЕРАЦИИ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14480" y="1170000"/>
          <a:ext cx="9520200" cy="4608360"/>
        </p:xfrm>
        <a:graphic>
          <a:graphicData uri="http://schemas.openxmlformats.org/drawingml/2006/table">
            <a:tbl>
              <a:tblPr/>
              <a:tblGrid>
                <a:gridCol w="6189480"/>
                <a:gridCol w="1181160"/>
                <a:gridCol w="1087560"/>
                <a:gridCol w="1062000"/>
              </a:tblGrid>
              <a:tr h="73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96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ЖБЮДЖЕТНЫЕ ТРАНСФЕРТЫ  БЮДЖЕТАМ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68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тации на выравнивание бюджетной обеспеченности бюджетов поселений из обла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96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ые трансферты на обеспечение сбалансированности бюджетов поселений из район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68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роприятия по поддержке местных инициатив граж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246240" y="79200"/>
            <a:ext cx="93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РАСХОДЫ НА ИСПОЛНЕНИЕ ПУБЛИЧНЫХ НОРМАТИВНЫХ ОБЯЗАТЕЛЬСТВ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46240" y="1023840"/>
          <a:ext cx="9590040" cy="4837320"/>
        </p:xfrm>
        <a:graphic>
          <a:graphicData uri="http://schemas.openxmlformats.org/drawingml/2006/table">
            <a:tbl>
              <a:tblPr/>
              <a:tblGrid>
                <a:gridCol w="6372000"/>
                <a:gridCol w="1109880"/>
                <a:gridCol w="1079280"/>
                <a:gridCol w="1028880"/>
              </a:tblGrid>
              <a:tr h="713160"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8850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я и осуществление деятельности по опеке и попечительству, выплата ежемесячных денежных средств на содержание и проезд ребенка, переданного на воспитание в семью опекуна (попечителя), приемную семью, вознаграждения приемным родителям, подготовку лиц, желающих принять на воспитание в свою семью ребенка, оставшегося без попечения родителей (выплата ежемесячных денежных средств на содержание и проезд ребенка, переданного на воспитание в семью опекуна (попечителя), приемную семью, вознаграждения приемным родител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64728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плата муниципальных пенсий (доплат к государственным пенси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59184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Блок-схема: перфолента 4"/>
          <p:cNvGrpSpPr/>
          <p:nvPr/>
        </p:nvGrpSpPr>
        <p:grpSpPr>
          <a:xfrm>
            <a:off x="858960" y="334800"/>
            <a:ext cx="7967520" cy="5407200"/>
            <a:chOff x="858960" y="334800"/>
            <a:chExt cx="7967520" cy="5407200"/>
          </a:xfrm>
        </p:grpSpPr>
        <p:pic>
          <p:nvPicPr>
            <p:cNvPr id="322" name="Блок-схема: перфолента 4" descr=""/>
            <p:cNvPicPr/>
            <p:nvPr/>
          </p:nvPicPr>
          <p:blipFill>
            <a:blip r:embed="rId1"/>
            <a:stretch/>
          </p:blipFill>
          <p:spPr>
            <a:xfrm>
              <a:off x="858960" y="334800"/>
              <a:ext cx="7967520" cy="54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63640" y="1420920"/>
              <a:ext cx="7951680" cy="32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БЮДЖЕТ 2024-2026 годы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ПРОГРАММНЫЙ БЮДЖЕ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Схема 1" descr=""/>
          <p:cNvPicPr/>
          <p:nvPr/>
        </p:nvPicPr>
        <p:blipFill>
          <a:blip r:embed="rId1"/>
          <a:stretch/>
        </p:blipFill>
        <p:spPr>
          <a:xfrm>
            <a:off x="1116000" y="426960"/>
            <a:ext cx="82407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-76320" y="228600"/>
            <a:ext cx="99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«РЕАЛИЗАЦИЯ ПОЛНОМОЧИЙ АДМИНИСТРАЦИИ НАВЛИНСКОГО РАЙОНА»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2"/>
          <p:cNvSpPr/>
          <p:nvPr/>
        </p:nvSpPr>
        <p:spPr>
          <a:xfrm>
            <a:off x="414360" y="1220760"/>
            <a:ext cx="930132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Эффективное исполнение полномочий по решению  вопросов местного значения и отдельных государственных полномочий Брянской области, переданных в соответствии с законами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реализация полномочий администрации Навлинского района  по решению вопросов местного значения Навлинского муниципального района Брянской области, а также отдельных государственных полномочий Брянской области, переданных в соответствии с законами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создание условий для оптимизации и повышения эффективности расходов бюджета Навлинского муниципального района в части расходов администрации Навлинского 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формирование условий для обеспечения комплексного социально-экономического разви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ЯТИЕ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12920" y="585360"/>
            <a:ext cx="924552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Бюджет — форма образования и расходования денежных средств, предназначенных для финансового обеспечения задач и функций государственного и местного само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Доходы бюджета - поступающие в бюджет денежные средства, за исключением средств, являющихся в соответствии    с    Бюджетным    кодексом    источниками    финансирования    дефицита   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Расходы бюджета - выплачиваемые из бюджета денежные средства, за исключением средств, являющихся в соответствии    с    Бюджетным    кодексом    источниками    финансирования    дефицита   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Сбалансированность бюджета по доходам и расходам - основополагающее требование предъявляемое к органам, составляющим и утверждающим бюджет (возможно три различных вариант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9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412920" y="4433760"/>
            <a:ext cx="2749320" cy="1349640"/>
          </a:xfrm>
          <a:prstGeom prst="rect">
            <a:avLst/>
          </a:prstGeom>
          <a:solidFill>
            <a:srgbClr val="4b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algn="ctr"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Дефицит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algn="ctr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Расходы превышают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3914640" y="4816440"/>
            <a:ext cx="2670480" cy="1276560"/>
          </a:xfrm>
          <a:prstGeom prst="rect">
            <a:avLst/>
          </a:prstGeom>
          <a:solidFill>
            <a:srgbClr val="42c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8280" algn="ctr"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рофицит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8280" algn="ctr"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Доходы превышают рас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6794640" y="4290840"/>
            <a:ext cx="2863800" cy="1378080"/>
          </a:xfrm>
          <a:prstGeom prst="rect">
            <a:avLst/>
          </a:prstGeom>
          <a:solidFill>
            <a:srgbClr val="8acc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1520" algn="ctr"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Сбалансирова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1520" algn="ctr">
              <a:lnSpc>
                <a:spcPts val="28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бюджет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- Расходы бюджета равны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1"/>
          <p:cNvSpPr/>
          <p:nvPr/>
        </p:nvSpPr>
        <p:spPr>
          <a:xfrm>
            <a:off x="0" y="0"/>
            <a:ext cx="9678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РЕАЛИЗАЦИЯ ПОЛНОМОЧИЙ АДМИНИСТРАЦИИ НАВЛИНСКОГО РАЙОНА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43000" y="914400"/>
          <a:ext cx="9623160" cy="5335560"/>
        </p:xfrm>
        <a:graphic>
          <a:graphicData uri="http://schemas.openxmlformats.org/drawingml/2006/table">
            <a:tbl>
              <a:tblPr/>
              <a:tblGrid>
                <a:gridCol w="7388280"/>
                <a:gridCol w="828360"/>
                <a:gridCol w="692280"/>
                <a:gridCol w="714240"/>
              </a:tblGrid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538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проект «Чистая вода» (брянская област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17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 и финансовому обеспечению  деятельности аппарата администрац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8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1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158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защите населения и территории от чрезвычайных ситуаций природного и техногенного характера, гражданская оборо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8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7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реализации стратегической роли культуры как духовно-нравственного основания развития личности и государства, сохранения культурного и исторического насле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2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0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8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поддержке сельскохозяйственных товаропроизводи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реализации единой социальной политики на территор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успешной самореализации молоде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58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вовлечению в занятия физической культурой и массовом спортом, участие в соревнованиях различного уров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667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существлению отдельных государственных полномочий Брянской обл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2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53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в сфере охраны окружающей ср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области жилищно-коммунального хозяй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для эффективной деятельности многофункционального цен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обилизационной подготовки эконом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5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системы управления пассажирскими перевоз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9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9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7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отношения с муниципальными образованиями за счет средств бюджета Навлинского муниципальн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1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574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мероприятий в сфере местного само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7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5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обеспечению жильем молодых сем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 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8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1"/>
          <p:cNvSpPr/>
          <p:nvPr/>
        </p:nvSpPr>
        <p:spPr>
          <a:xfrm>
            <a:off x="0" y="0"/>
            <a:ext cx="967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МУНИЦИПАЛЬНАЯ ПРОГРАМ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Calibri"/>
              </a:rPr>
              <a:t>РАЗВИТИЕ ОБРАЗОВАНИЯ НАВЛИНСКОГО РАЙОНА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728640" y="839880"/>
            <a:ext cx="895032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Цель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 - Обеспечение высокого качества образования в соответствии с меняющимися запросами населения и перспективными задачами развития российского общества и экономи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формирование экономических условий, обеспечивающих муниципальную систему образования финансовыми, материально-техническими ресурс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обновление содержания и структуры образования на основе новых стандартов общего образования второго поколения. Повышение качества образования на основе развития инновационных процессов. Развитие системы оценки качества образования на каждом его уров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осуществление комплексных мер по стимулированию инновационной деятельности образовательных учреждений и педагогических работ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создание механизмов координации и интеграции сетевого взаимодействия в работе с одаренными детьми и талантливой молодежь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.создание необходимых условий полноценного и безопасного отдыха и оздоровления дет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повышение профессиональной компетентности педагогических и управленческих кадров, укрепление их социального статуса через разработку новой модели системы повышения  квалификации педагогических работников района, участие педагогов в конкурсах профессионального мастер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0" y="0"/>
            <a:ext cx="967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Georgia"/>
                <a:ea typeface="Calibri"/>
              </a:rPr>
              <a:t>РАЗВИТИЕ ОБРАЗОВАНИЯ НАВЛИНСКОГО РАЙОНА</a:t>
            </a: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92240" y="861840"/>
          <a:ext cx="9550080" cy="5083200"/>
        </p:xfrm>
        <a:graphic>
          <a:graphicData uri="http://schemas.openxmlformats.org/drawingml/2006/table">
            <a:tbl>
              <a:tblPr/>
              <a:tblGrid>
                <a:gridCol w="6476760"/>
                <a:gridCol w="1028880"/>
                <a:gridCol w="1052280"/>
                <a:gridCol w="992160"/>
              </a:tblGrid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шко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 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обще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 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 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 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841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, финансовое, информационное обеспечение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4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10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тдельных мероприятий в сфере образования и материально-техническое обеспечение прочих учреждений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571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отдельных государственных полномочий Брян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27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рганизации временного   трудоустройства несовершеннолетних гражд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5392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вершенствованию системы   профилактики правонарушений и усиление борьбы с преступность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11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охране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8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проведению оздоровительной кампании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полните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8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554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проект «Патриотическое воспитание граждан Российской Федерации (Брянская область)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377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государственной политики в сфере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 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8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9 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 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1"/>
          <p:cNvSpPr/>
          <p:nvPr/>
        </p:nvSpPr>
        <p:spPr>
          <a:xfrm>
            <a:off x="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«УПРАВЛЕНИЕ МУНИЦИПАЛЬНЫМИ ФИНАНСАМИ НАВЛИНСКОГО РАЙОНА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(тыс. 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Прямоугольник 5"/>
          <p:cNvSpPr/>
          <p:nvPr/>
        </p:nvSpPr>
        <p:spPr>
          <a:xfrm>
            <a:off x="85680" y="853920"/>
            <a:ext cx="982044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и программы -  обеспечение долгосрочной сбалансированности и устойчивости бюджетной системы Навлинского муниципального района Брянской области, создание условий для оптимизации и повышения эффективности расходов бюджета района, создание условий для эффективного выполнения полномочий органов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ализация мероприятий, направленных на сбалансированное управление расходами бюджета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недрение современных методов и технологий управления муниципальными финанса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прозрачности бюджетной системы Навлинский муниципального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внивание бюджетной обеспеченности муниципальных образований и поддержка мер по обеспечению сбалансированности местных бюджетов в Навлинском районе в рамках содействия органам местного самоуправления в осуществлении реализации полномочий по решению вопросов местного знач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76120" y="3552840"/>
          <a:ext cx="9352080" cy="2036880"/>
        </p:xfrm>
        <a:graphic>
          <a:graphicData uri="http://schemas.openxmlformats.org/drawingml/2006/table">
            <a:tbl>
              <a:tblPr/>
              <a:tblGrid>
                <a:gridCol w="6713640"/>
                <a:gridCol w="960480"/>
                <a:gridCol w="873000"/>
                <a:gridCol w="804960"/>
              </a:tblGrid>
              <a:tr h="40248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</a:tr>
              <a:tr h="4579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, финансовому и информационному обеспечению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996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межбюджетным отношениям с городскими и сельскими посе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579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отношения с муниципальными образованиями за счет средств бюджета Навлинского муниципального райо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200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«УПРАВЛЕНИЕ МУНИЦИПАЛЬНОЙ СОБСТВЕННОСТЬЮ НАВЛИНСКОГО РАЙОНА БРЯНСКОЙ ОБЛАСТИ»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217440" y="830160"/>
            <a:ext cx="946152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 - обеспечение эффективного управления, распоряжения, а также рационального использования муниципального имущества Навлинского района Брянской  обла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еспечение функционирования системы учета муниципального  имущества Навлинского района Брянской области, управления, распоряжения и контроля за  его рациональным использованием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существление приватизации муниципального  имущества Навлинского района Брянской области и обеспечение системного и планового подхода к приватизационному процессу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рганизация и координация работы по  управлению и распоряжению земельными  участками, находящимися в собственности  Навлинского района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аспоряжение земельными участками, государственная собственность на которые не разграничена, находящимися на территории Навлинского района 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91960" y="4175280"/>
          <a:ext cx="9461520" cy="1803240"/>
        </p:xfrm>
        <a:graphic>
          <a:graphicData uri="http://schemas.openxmlformats.org/drawingml/2006/table">
            <a:tbl>
              <a:tblPr/>
              <a:tblGrid>
                <a:gridCol w="5851800"/>
                <a:gridCol w="1108080"/>
                <a:gridCol w="1214280"/>
                <a:gridCol w="1287360"/>
              </a:tblGrid>
              <a:tr h="352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 и финансовое обеспечение деятельности отдела по управлению муниципальным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эффективного управления и распоряжения муниципальным имуществом Навл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52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15228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ЭНЕРГОСБЕРЕЖЕНИЕ И ПОВЫШЕНИЕ ЭНЕРГЕТИЧЕСКОЙ ЭФФЕКТИВНОСТИ В НАВЛИНСКОГО РАЙОНА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235080" y="1077840"/>
            <a:ext cx="967104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ние организационных основ для реализации системы мер по энергосбережению и повышению энергоэффективно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нижение показателей энергоемкости и энергопотребления учреждений, предприятий и организаций, создание условий для перевода экономики муниципального образования на энергосберегающий путь разви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оведение комплекса организационно-правовых мероприятий по управлению энергосбережением, в том числе создание системы показателей, характеризующих энергетическую эффективность при потреблении энергетических ресурсов, их мониторинга, а также сбора и анализа информации об энергоемкости экономики муниципального образ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 Разработка и реализация мероприятий направленных на энергосбережение и повышение энергетической эффективности учреждени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учета объемов потребляемых ТЭР и воды с использованием приборов уче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79520" y="4392720"/>
          <a:ext cx="9177120" cy="1216080"/>
        </p:xfrm>
        <a:graphic>
          <a:graphicData uri="http://schemas.openxmlformats.org/drawingml/2006/table">
            <a:tbl>
              <a:tblPr/>
              <a:tblGrid>
                <a:gridCol w="6308640"/>
                <a:gridCol w="1047600"/>
                <a:gridCol w="911520"/>
                <a:gridCol w="909360"/>
              </a:tblGrid>
              <a:tr h="296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622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повышению энергетической эффективности и обеспечению энергосбере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9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1"/>
          <p:cNvSpPr/>
          <p:nvPr/>
        </p:nvSpPr>
        <p:spPr>
          <a:xfrm>
            <a:off x="15228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ПОДДЕРЖКА МЕСТНЫХ ИНИЦИАТИВ ГРАЖДАН НА ТЕРРИТОРИИ НАВЛИНСКОГО РАЙОН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А 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Прямоугольник 4"/>
          <p:cNvSpPr/>
          <p:nvPr/>
        </p:nvSpPr>
        <p:spPr>
          <a:xfrm>
            <a:off x="235080" y="1077840"/>
            <a:ext cx="967104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социальной инфраструктуры поселений за счет выделения на конкурсной основе средств из бюджета Навлинского муниципального района на реализацию наиболее важных для городских и сельских территорий небольших проектов, инициированных населени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правовых экономических условий для развития реализации ПП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шение конкретных социально-значимых проблем (восстановление и создание новых объектов социальной инфраструктуры поселения, повышение качества предоставления муниципальных услуг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эффективности бюджетных расходов за счет вовлечения общественности в процессы принятия решений на местном уровне и усиления общественного контроля за действиями органов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84280" y="4392720"/>
          <a:ext cx="9072360" cy="1216080"/>
        </p:xfrm>
        <a:graphic>
          <a:graphicData uri="http://schemas.openxmlformats.org/drawingml/2006/table">
            <a:tbl>
              <a:tblPr/>
              <a:tblGrid>
                <a:gridCol w="6203880"/>
                <a:gridCol w="1047600"/>
                <a:gridCol w="911520"/>
                <a:gridCol w="909360"/>
              </a:tblGrid>
              <a:tr h="296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622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держка местных инициатив граждан на территории Навл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9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2"/>
          <p:cNvSpPr/>
          <p:nvPr/>
        </p:nvSpPr>
        <p:spPr>
          <a:xfrm>
            <a:off x="312840" y="1095480"/>
            <a:ext cx="917424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Непрограммная часть бюджета на 2024 год определена в сумме 2 723,3тыс. рублей, или 0,5 процента всей расходной части бюджета, в нее вошли расходы на обеспечение деятельност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представительного органа муниципального образования – Навлинский районный Совет народных депутатов в сумме 993,7 тыс. руб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контрольно-счётного органа муниципального образования – Контрольно-счётная палата Навлинского района в сумме 1 262,3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На проведение выборов – 167,3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резервный фонд администрации Навлинского района в объеме 300 тыс. 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95400" y="157320"/>
            <a:ext cx="9629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Calibri"/>
              </a:rPr>
              <a:t>НЕПРОГРАММНАЯ ЧАСТЬ РАСХОДОВ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Овал 6"/>
          <p:cNvGrpSpPr/>
          <p:nvPr/>
        </p:nvGrpSpPr>
        <p:grpSpPr>
          <a:xfrm>
            <a:off x="2981160" y="2146320"/>
            <a:ext cx="3943440" cy="3352680"/>
            <a:chOff x="2981160" y="2146320"/>
            <a:chExt cx="3943440" cy="3352680"/>
          </a:xfrm>
        </p:grpSpPr>
        <p:pic>
          <p:nvPicPr>
            <p:cNvPr id="348" name="Овал 6" descr=""/>
            <p:cNvPicPr/>
            <p:nvPr/>
          </p:nvPicPr>
          <p:blipFill>
            <a:blip r:embed="rId1"/>
            <a:stretch/>
          </p:blipFill>
          <p:spPr>
            <a:xfrm>
              <a:off x="2981160" y="2146320"/>
              <a:ext cx="394344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543480" y="2617920"/>
              <a:ext cx="2498400" cy="20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TextBox 5"/>
          <p:cNvSpPr/>
          <p:nvPr/>
        </p:nvSpPr>
        <p:spPr>
          <a:xfrm>
            <a:off x="1494000" y="2479680"/>
            <a:ext cx="68133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нансовое управление администрации Навлинск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чтовый адрес: 242130, п. Навл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. Красных Партизан 21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кс: (4832) 21988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Тел.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(48342)21988, 8(48342)2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фициальный сайт администрации района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admnav.ru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E-mail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ea typeface="Tahoma"/>
                <a:hlinkClick r:id="rId3"/>
              </a:rPr>
              <a:t>nvlfinotdel@mail.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1958400" y="1101600"/>
            <a:ext cx="55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1463760" y="743040"/>
            <a:ext cx="2284200" cy="1592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" descr=""/>
          <p:cNvPicPr/>
          <p:nvPr/>
        </p:nvPicPr>
        <p:blipFill>
          <a:blip r:embed="rId2"/>
          <a:stretch/>
        </p:blipFill>
        <p:spPr>
          <a:xfrm>
            <a:off x="5670720" y="1346040"/>
            <a:ext cx="3382920" cy="1754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3" descr=""/>
          <p:cNvPicPr/>
          <p:nvPr/>
        </p:nvPicPr>
        <p:blipFill>
          <a:blip r:embed="rId3"/>
          <a:stretch/>
        </p:blipFill>
        <p:spPr>
          <a:xfrm>
            <a:off x="830160" y="3387600"/>
            <a:ext cx="2190960" cy="1474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"/>
          <p:cNvPicPr/>
          <p:nvPr/>
        </p:nvPicPr>
        <p:blipFill>
          <a:blip r:embed="rId4"/>
          <a:stretch/>
        </p:blipFill>
        <p:spPr>
          <a:xfrm>
            <a:off x="4181400" y="3116160"/>
            <a:ext cx="1825560" cy="7336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"/>
          <p:cNvPicPr/>
          <p:nvPr/>
        </p:nvPicPr>
        <p:blipFill>
          <a:blip r:embed="rId5"/>
          <a:stretch/>
        </p:blipFill>
        <p:spPr>
          <a:xfrm>
            <a:off x="4246560" y="4960800"/>
            <a:ext cx="1566720" cy="1810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6" descr=""/>
          <p:cNvPicPr/>
          <p:nvPr/>
        </p:nvPicPr>
        <p:blipFill>
          <a:blip r:embed="rId6"/>
          <a:stretch/>
        </p:blipFill>
        <p:spPr>
          <a:xfrm>
            <a:off x="6230880" y="3137040"/>
            <a:ext cx="2693880" cy="4413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7"/>
          <p:cNvSpPr/>
          <p:nvPr/>
        </p:nvSpPr>
        <p:spPr>
          <a:xfrm>
            <a:off x="903240" y="222120"/>
            <a:ext cx="815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eorgia"/>
                <a:ea typeface="Cordia New"/>
              </a:rPr>
              <a:t>КАКИЕ БЫВАЮТ БЮДЖЕТ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9531360" y="1289160"/>
            <a:ext cx="57240" cy="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6dac43"/>
                </a:solidFill>
                <a:latin typeface="Times New Roman"/>
              </a:rPr>
              <a:t>У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9"/>
          <p:cNvSpPr/>
          <p:nvPr/>
        </p:nvSpPr>
        <p:spPr>
          <a:xfrm>
            <a:off x="306360" y="590400"/>
            <a:ext cx="1630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42f30"/>
                </a:solidFill>
                <a:latin typeface="Georgia"/>
              </a:rPr>
              <a:t>Бюджеты сем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357120" y="2268360"/>
            <a:ext cx="26640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42f30"/>
                </a:solidFill>
                <a:latin typeface="Georgia"/>
              </a:rPr>
              <a:t>Доходы: </a:t>
            </a:r>
            <a:r>
              <a:rPr b="0" lang="ru-RU" sz="1000" spc="-1" strike="noStrike">
                <a:solidFill>
                  <a:srgbClr val="342f30"/>
                </a:solidFill>
                <a:latin typeface="Georgia"/>
              </a:rPr>
              <a:t>заработная плата, премии и т.п. </a:t>
            </a:r>
            <a:r>
              <a:rPr b="1" lang="ru-RU" sz="1000" spc="-1" strike="noStrike">
                <a:solidFill>
                  <a:srgbClr val="342f30"/>
                </a:solidFill>
                <a:latin typeface="Georgia"/>
              </a:rPr>
              <a:t>Расходы: </a:t>
            </a:r>
            <a:r>
              <a:rPr b="0" lang="ru-RU" sz="1000" spc="-1" strike="noStrike">
                <a:solidFill>
                  <a:srgbClr val="342f30"/>
                </a:solidFill>
                <a:latin typeface="Georgia"/>
              </a:rPr>
              <a:t>оплата коммунальных услуг, расходы на питание, транспорт, налоги и т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5834160" y="917640"/>
            <a:ext cx="3717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42f30"/>
                </a:solidFill>
                <a:latin typeface="Georgia"/>
              </a:rPr>
              <a:t>Бюджеты публично-правовых образ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12"/>
          <p:cNvSpPr/>
          <p:nvPr/>
        </p:nvSpPr>
        <p:spPr>
          <a:xfrm>
            <a:off x="8199360" y="2063880"/>
            <a:ext cx="889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6a5"/>
                </a:solidFill>
                <a:latin typeface="Calibri"/>
              </a:rPr>
              <a:t>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947880" y="3137040"/>
            <a:ext cx="2320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42f30"/>
                </a:solidFill>
                <a:latin typeface="Georgia"/>
              </a:rPr>
              <a:t>Бюджеты </a:t>
            </a:r>
            <a:r>
              <a:rPr b="1" lang="en-US" sz="1400" spc="-1" strike="noStrike">
                <a:solidFill>
                  <a:srgbClr val="342f30"/>
                </a:solidFill>
                <a:latin typeface="Georgia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оугольник 14"/>
          <p:cNvSpPr/>
          <p:nvPr/>
        </p:nvSpPr>
        <p:spPr>
          <a:xfrm>
            <a:off x="1936800" y="4930920"/>
            <a:ext cx="18763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Georgia"/>
              </a:rPr>
              <a:t>Доходы: </a:t>
            </a:r>
            <a:r>
              <a:rPr b="0" lang="en-US" sz="900" spc="-1" strike="noStrike">
                <a:solidFill>
                  <a:srgbClr val="342f30"/>
                </a:solidFill>
                <a:latin typeface="Georgia"/>
              </a:rPr>
              <a:t>выручка от реализации и т.п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Georgia"/>
              </a:rPr>
              <a:t>Расходы: </a:t>
            </a:r>
            <a:r>
              <a:rPr b="0" lang="en-US" sz="900" spc="-1" strike="noStrike">
                <a:solidFill>
                  <a:srgbClr val="342f30"/>
                </a:solidFill>
                <a:latin typeface="Georgia"/>
              </a:rPr>
              <a:t>выплата заработной платы рабочим, закупка материалов</a:t>
            </a: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15"/>
          <p:cNvSpPr/>
          <p:nvPr/>
        </p:nvSpPr>
        <p:spPr>
          <a:xfrm>
            <a:off x="4400640" y="3921120"/>
            <a:ext cx="1225440" cy="101124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Российской Федер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(федеральный бюджет, бюджеты государственных внебюджетных  РФ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6324480" y="3603600"/>
            <a:ext cx="1427400" cy="132876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Субъектов Российской Федер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(региональные бюджеты, бюджет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территориальных фондов обязательного медицинского страхования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8199360" y="3578400"/>
            <a:ext cx="1422360" cy="126828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Муниципальны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образовани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(местные бюджеты муниципальных районов, муниципальных округов, городских округов, городских и сельских поселений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"/>
          <p:cNvPicPr/>
          <p:nvPr/>
        </p:nvPicPr>
        <p:blipFill>
          <a:blip r:embed="rId1"/>
          <a:stretch/>
        </p:blipFill>
        <p:spPr>
          <a:xfrm>
            <a:off x="2687760" y="990720"/>
            <a:ext cx="3973320" cy="465588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3"/>
          <p:cNvSpPr/>
          <p:nvPr/>
        </p:nvSpPr>
        <p:spPr>
          <a:xfrm>
            <a:off x="766800" y="198360"/>
            <a:ext cx="84805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Cordia New"/>
              </a:rPr>
              <a:t>ОСНОВНЫЕ ПРИНЦИПЫ НАЛОГОВОЙ И БЮДЖЕТНОЙ ПОЛИ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Cordia New"/>
              </a:rPr>
              <a:t>НАВЛИНСКОГО МУНЦИПАЛЬНОГО РАЙОНА НА </a:t>
            </a:r>
            <a:r>
              <a:rPr b="1" lang="en-US" sz="1800" spc="-1" strike="noStrike">
                <a:solidFill>
                  <a:srgbClr val="002060"/>
                </a:solidFill>
                <a:latin typeface="Georgia"/>
                <a:ea typeface="Cordia New"/>
              </a:rPr>
              <a:t>2024 -2026 </a:t>
            </a: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Cordia New"/>
              </a:rPr>
              <a:t>Г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13"/>
          <p:cNvSpPr/>
          <p:nvPr/>
        </p:nvSpPr>
        <p:spPr>
          <a:xfrm>
            <a:off x="6661080" y="3884760"/>
            <a:ext cx="2524320" cy="58392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261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стимулирование инвестиционной деятель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Скругленный прямоугольник 1"/>
          <p:cNvSpPr/>
          <p:nvPr/>
        </p:nvSpPr>
        <p:spPr>
          <a:xfrm>
            <a:off x="142920" y="1184400"/>
            <a:ext cx="2874960" cy="1452600"/>
          </a:xfrm>
          <a:prstGeom prst="roundRect">
            <a:avLst>
              <a:gd name="adj" fmla="val 18421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стойчивость бюджета -обеспечение действующих расходных обязательств бюджета, обеспечение долгосрочной сбалансированности бюдже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Скругленный прямоугольник 16"/>
          <p:cNvSpPr/>
          <p:nvPr/>
        </p:nvSpPr>
        <p:spPr>
          <a:xfrm>
            <a:off x="6200640" y="1052640"/>
            <a:ext cx="3046680" cy="1576440"/>
          </a:xfrm>
          <a:prstGeom prst="roundRect">
            <a:avLst>
              <a:gd name="adj" fmla="val 18421"/>
            </a:avLst>
          </a:prstGeom>
          <a:solidFill>
            <a:srgbClr val="ff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обеспечение высокого уровня открытости и прозрачности бюджетного процесса Навлинского района и  высокого качества управления муниципальными финанса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Скругленный прямоугольник 18"/>
          <p:cNvSpPr/>
          <p:nvPr/>
        </p:nvSpPr>
        <p:spPr>
          <a:xfrm>
            <a:off x="120600" y="3098880"/>
            <a:ext cx="2897280" cy="1616040"/>
          </a:xfrm>
          <a:prstGeom prst="roundRect">
            <a:avLst>
              <a:gd name="adj" fmla="val 1842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совершенствование программного метода планирования расходов бюджета с целью повышения эффективности расходов и увязка с программными целями и задача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Скругленный прямоугольник 21"/>
          <p:cNvSpPr/>
          <p:nvPr/>
        </p:nvSpPr>
        <p:spPr>
          <a:xfrm>
            <a:off x="604800" y="5424480"/>
            <a:ext cx="3254400" cy="1452600"/>
          </a:xfrm>
          <a:prstGeom prst="roundRect">
            <a:avLst>
              <a:gd name="adj" fmla="val 18421"/>
            </a:avLst>
          </a:prstGeom>
          <a:solidFill>
            <a:srgbClr val="f7fd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261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Georgia"/>
              </a:rPr>
              <a:t>сохранение социальной направленности бюджета -безусловное выполнение обязательств по социальной помощи и поддержке, обеспечение реализации указов Президента Российской Федерации о повышении оплаты труда работников бюджетной сфе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Скругленный прямоугольник 22"/>
          <p:cNvSpPr/>
          <p:nvPr/>
        </p:nvSpPr>
        <p:spPr>
          <a:xfrm>
            <a:off x="6048360" y="2955960"/>
            <a:ext cx="3137040" cy="1452600"/>
          </a:xfrm>
          <a:prstGeom prst="roundRect">
            <a:avLst>
              <a:gd name="adj" fmla="val 1842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повышение открытости и прозрачности бюджетного процесса, повышение финансовой грамотности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Скругленный прямоугольник 25"/>
          <p:cNvSpPr/>
          <p:nvPr/>
        </p:nvSpPr>
        <p:spPr>
          <a:xfrm>
            <a:off x="6048360" y="4643280"/>
            <a:ext cx="3046320" cy="1003320"/>
          </a:xfrm>
          <a:prstGeom prst="roundRect">
            <a:avLst>
              <a:gd name="adj" fmla="val 18421"/>
            </a:avLst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овышение эффективности оказания муниципальных услу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Скругленный прямоугольник 29"/>
          <p:cNvSpPr/>
          <p:nvPr/>
        </p:nvSpPr>
        <p:spPr>
          <a:xfrm>
            <a:off x="4457880" y="5881680"/>
            <a:ext cx="5097240" cy="657360"/>
          </a:xfrm>
          <a:prstGeom prst="roundRect">
            <a:avLst>
              <a:gd name="adj" fmla="val 1842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Эффективное управление муниципальным долг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2"/>
          <p:cNvSpPr/>
          <p:nvPr/>
        </p:nvSpPr>
        <p:spPr>
          <a:xfrm>
            <a:off x="216000" y="190440"/>
            <a:ext cx="9085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370"/>
                </a:solidFill>
                <a:latin typeface="Georgia"/>
              </a:rPr>
              <a:t>НАВЛИНСКИЙ МУНИЦИПАЛЬНЫЙ РАЙОН БРЯН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4457880" y="1189080"/>
            <a:ext cx="5108400" cy="241128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сположен в юго-восточной части области,  на востоке граничит с Карачевским районом, частично с Орловской областью, на юге – с Брасовским и Суземским, на западе –  Трубчевским, на севере –  Выгоничским и Брянским районами обла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оугольник 10"/>
          <p:cNvSpPr/>
          <p:nvPr/>
        </p:nvSpPr>
        <p:spPr>
          <a:xfrm>
            <a:off x="3249720" y="4508640"/>
            <a:ext cx="6143400" cy="99684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92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рритория составляет 2011,9 км2. Численность населения насчитывает 26,5 тыс.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Рисунок 3" descr=""/>
          <p:cNvPicPr/>
          <p:nvPr/>
        </p:nvPicPr>
        <p:blipFill>
          <a:blip r:embed="rId1"/>
          <a:stretch/>
        </p:blipFill>
        <p:spPr>
          <a:xfrm>
            <a:off x="149400" y="630360"/>
            <a:ext cx="42289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2"/>
          <p:cNvSpPr/>
          <p:nvPr/>
        </p:nvSpPr>
        <p:spPr>
          <a:xfrm>
            <a:off x="87480" y="114480"/>
            <a:ext cx="9818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ПРОГНОЗ СОЦИАЛЬНО-ЭКОНОМИЧЕСКОГО РАЗВИТИЯ НАВЛИНСКОГО МУНИЦИПАЛЬНОГО РАЙОНА НА 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2024 </a:t>
            </a: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ГОД И ПЛАНОВЫЙ ПЕРИОД 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2025 </a:t>
            </a: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И 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2026</a:t>
            </a: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 Г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96800" y="1143000"/>
          <a:ext cx="9021960" cy="4489560"/>
        </p:xfrm>
        <a:graphic>
          <a:graphicData uri="http://schemas.openxmlformats.org/drawingml/2006/table">
            <a:tbl>
              <a:tblPr/>
              <a:tblGrid>
                <a:gridCol w="4576680"/>
                <a:gridCol w="1008360"/>
                <a:gridCol w="1092240"/>
                <a:gridCol w="1191960"/>
                <a:gridCol w="1152720"/>
              </a:tblGrid>
              <a:tr h="291600"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gridSpan="3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г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23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сленность населения (среднегодов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962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м отгруженной продукции обрабатывающих произво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м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456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м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1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немесячная заработная плата по полному кругу пред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02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немесячная заработная плата по крупным и  средним предприят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25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орот розничной торговл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ОСНОВНЫЕ ПОНЯТИЯ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КАК ДЕТАЛИЗИРУЮТСЯ РАСХОД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7160" y="585720"/>
            <a:ext cx="981252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9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Вертикальный свиток 3"/>
          <p:cNvSpPr/>
          <p:nvPr/>
        </p:nvSpPr>
        <p:spPr>
          <a:xfrm>
            <a:off x="738360" y="1214280"/>
            <a:ext cx="257148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ограммные  рас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Вертикальный свиток 4"/>
          <p:cNvSpPr/>
          <p:nvPr/>
        </p:nvSpPr>
        <p:spPr>
          <a:xfrm>
            <a:off x="6622920" y="1214280"/>
            <a:ext cx="3011760" cy="1285920"/>
          </a:xfrm>
          <a:prstGeom prst="verticalScroll">
            <a:avLst>
              <a:gd name="adj" fmla="val 12500"/>
            </a:avLst>
          </a:prstGeom>
          <a:solidFill>
            <a:srgbClr val="60c99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униципальные п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Стрелка вправо 5"/>
          <p:cNvSpPr/>
          <p:nvPr/>
        </p:nvSpPr>
        <p:spPr>
          <a:xfrm>
            <a:off x="3699000" y="4506840"/>
            <a:ext cx="2600280" cy="890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6 ГРБ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Стрелка влево 6"/>
          <p:cNvSpPr/>
          <p:nvPr/>
        </p:nvSpPr>
        <p:spPr>
          <a:xfrm>
            <a:off x="3763800" y="2995560"/>
            <a:ext cx="2379960" cy="85716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1 разде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Вертикальный свиток 8"/>
          <p:cNvSpPr/>
          <p:nvPr/>
        </p:nvSpPr>
        <p:spPr>
          <a:xfrm>
            <a:off x="573120" y="4317840"/>
            <a:ext cx="2736720" cy="12859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едомствен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Вертикальный свиток 9"/>
          <p:cNvSpPr/>
          <p:nvPr/>
        </p:nvSpPr>
        <p:spPr>
          <a:xfrm>
            <a:off x="573120" y="2805120"/>
            <a:ext cx="2571840" cy="12859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правление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Вертикальный свиток 10"/>
          <p:cNvSpPr/>
          <p:nvPr/>
        </p:nvSpPr>
        <p:spPr>
          <a:xfrm>
            <a:off x="6711840" y="4292640"/>
            <a:ext cx="3194280" cy="14907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Главные распорядители бюджетных сред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Вертикальный свиток 11"/>
          <p:cNvSpPr/>
          <p:nvPr/>
        </p:nvSpPr>
        <p:spPr>
          <a:xfrm>
            <a:off x="6711840" y="2808360"/>
            <a:ext cx="310032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ункциональ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Стрелка вправо 12"/>
          <p:cNvSpPr/>
          <p:nvPr/>
        </p:nvSpPr>
        <p:spPr>
          <a:xfrm>
            <a:off x="3699000" y="1438200"/>
            <a:ext cx="2600280" cy="9511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6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87480" y="0"/>
            <a:ext cx="9818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БЮДЖЕ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НАВЛИНСКОГО МУНИЦИПАЛЬНОГО РАЙОНА БРЯНСКОЙ ОБЛАСТИ на 2024 год и на плановый период 2025 и 2026 годов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1246320"/>
          <a:ext cx="9421920" cy="4491000"/>
        </p:xfrm>
        <a:graphic>
          <a:graphicData uri="http://schemas.openxmlformats.org/drawingml/2006/table">
            <a:tbl>
              <a:tblPr/>
              <a:tblGrid>
                <a:gridCol w="2523960"/>
                <a:gridCol w="1420920"/>
                <a:gridCol w="1584360"/>
                <a:gridCol w="1170000"/>
                <a:gridCol w="1471680"/>
                <a:gridCol w="1251000"/>
              </a:tblGrid>
              <a:tr h="1218960"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2024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2025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5276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бюджета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, в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20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3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61 382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2,8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0452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69 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81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7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4 20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7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0488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0 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8 6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,9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67 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9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500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99 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20 125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3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61 382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2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0488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ефицит (-), профицит 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04:33:03Z</dcterms:created>
  <dc:creator>Reanimator 98</dc:creator>
  <dc:description/>
  <dc:language>en-US</dc:language>
  <cp:lastModifiedBy>BARANOVA</cp:lastModifiedBy>
  <cp:lastPrinted>2023-11-24T13:39:45Z</cp:lastPrinted>
  <dcterms:modified xsi:type="dcterms:W3CDTF">2023-12-19T06:24:07Z</dcterms:modified>
  <cp:revision>1372</cp:revision>
  <dc:subject/>
  <dc:title>Презентация PowerPoint</dc:title>
</cp:coreProperties>
</file>