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png" ContentType="image/png"/>
  <Override PartName="/ppt/media/image19.jpeg" ContentType="image/jpeg"/>
  <Override PartName="/ppt/media/image21.png" ContentType="image/png"/>
  <Override PartName="/ppt/media/image20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52720" y="-36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709560" y="744120"/>
            <a:ext cx="537840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4464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52720" y="942768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3C7C163-EF2D-49C9-940A-A5D5BF620C7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Номер слайда 3"/>
          <p:cNvSpPr/>
          <p:nvPr/>
        </p:nvSpPr>
        <p:spPr>
          <a:xfrm>
            <a:off x="3852720" y="9428040"/>
            <a:ext cx="2944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FC4262D-5B9A-4629-9C22-CDA9BD1A3AE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52720" y="9428040"/>
            <a:ext cx="2944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3D493B02-5CA7-47E8-9540-185D68F391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709560" y="744480"/>
            <a:ext cx="5378400" cy="37242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06480" y="4718160"/>
            <a:ext cx="498456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52720" y="9428040"/>
            <a:ext cx="2944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F37D13-FD22-4CA4-8148-8A953D5F4C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706320" y="741240"/>
            <a:ext cx="5384880" cy="3729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0760" y="471600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5128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8560"/>
                <a:tab algn="l" pos="1797120"/>
                <a:tab algn="l" pos="2695680"/>
                <a:tab algn="l" pos="3594240"/>
                <a:tab algn="l" pos="4492800"/>
                <a:tab algn="l" pos="5391000"/>
                <a:tab algn="l" pos="6289560"/>
                <a:tab algn="l" pos="7188120"/>
                <a:tab algn="l" pos="8086680"/>
                <a:tab algn="l" pos="8985240"/>
                <a:tab algn="l" pos="9883800"/>
                <a:tab algn="l" pos="10782360"/>
              </a:tabLst>
            </a:pPr>
            <a:fld id="{7B84E048-CDDE-44FB-9748-57729F560E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6348-2C8E-470D-BC2B-E5C5F4BDE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55240" y="37497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D49C-458A-4B11-B1B8-05479276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552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698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8009-DCE1-4F7D-9BA8-5B5809698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02480" y="1600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49360" y="1600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55240" y="3749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02480" y="3749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849360" y="3749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3445-3BED-4F24-8ABB-967595CD8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F1EB0-5FB6-499B-96BD-FBD9F73C4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5524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DA12-1592-4F57-B2F8-8ACE7D5A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CB76-5E3E-44EC-A6DB-BCE60509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03DF-9941-44D5-A793-F34830C3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7D57C-6B77-46B5-A5D9-AA71688B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55240" y="2282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B3C1-5841-4512-9C3A-73B4879D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552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2EE6-79EF-4BA9-9D79-EABD830B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5524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A144-1AC2-4D81-B021-17CEBAB8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4698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C00E5-86A0-4CBF-9B19-1680F212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55240" y="37497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8AFA-02FB-4495-A989-C55642E3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55240" y="37497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D539-06E7-4F0C-88D2-D92121026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552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4698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FD197-3E64-4623-A12A-FEB66268F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002480" y="1600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49360" y="16002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55240" y="3749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002480" y="3749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849360" y="3749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AC8F-9D67-4D29-8589-ACF8D8185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1DFA-6839-4217-B6AE-F7C95D0F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5322-97C0-470D-A558-EFF1BFB4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7E44-BB5C-4302-BC3D-4FE56858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55240" y="2282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B6FA-069E-4F70-A32E-9A7C8CDE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552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09A3-FD0E-4C7F-A3C6-0F47A821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69840" y="3749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F7AF-185E-4B25-AEB0-E5548C41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552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69840" y="16002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55240" y="37497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0E5D-746E-4E13-90BC-E54F2D1C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edf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finance 01p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5524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1552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2362-E9CB-4438-9C44-FBF45D3218F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9728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1212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404F-9875-4405-9164-33FA8BA0F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edf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finance 01p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finance 01p"/>
          <p:cNvPicPr/>
          <p:nvPr/>
        </p:nvPicPr>
        <p:blipFill>
          <a:blip r:embed="rId3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155240" y="16002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23840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0549-6D98-492A-94A0-521AE6297EF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8797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5942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FE15-A570-4417-AF03-33D5F20AE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images.yandex.ru/yandsearch?source=psearch&amp;text=&#1089;&#1087;&#1086;&#1088;&#1090;&amp;pos=8&amp;rpt=simage&amp;lr=7&amp;uinfo=sw-1180-sh-906-fw-955-fh-598-pd-1&amp;img_url=http%3A%2F%2Fwww.franklinliquors.com%2Fsports_link.jpg" TargetMode="External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admnav.ru/" TargetMode="External"/><Relationship Id="rId3" Type="http://schemas.openxmlformats.org/officeDocument/2006/relationships/hyperlink" Target="mailto:nvlfinotdel@mail.ru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1141560" y="1327320"/>
            <a:ext cx="347004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2441520" y="133200"/>
            <a:ext cx="655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АДМИНИСТРАЦИЯ НАВЛИНСКОГО РАЙО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БРЯНСКОЙ ОБЛА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8"/>
          <p:cNvSpPr/>
          <p:nvPr/>
        </p:nvSpPr>
        <p:spPr>
          <a:xfrm>
            <a:off x="704880" y="2746440"/>
            <a:ext cx="46101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imes New Roman"/>
              </a:rPr>
              <a:t>по проекту решения Навлинского районного Совета народных депутатов «О бюджете Навлинского муниципального района Брянской области на 2021 год и на плановый период 2022 и 2023 годов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8"/>
          <p:cNvSpPr/>
          <p:nvPr/>
        </p:nvSpPr>
        <p:spPr>
          <a:xfrm>
            <a:off x="1569960" y="4962600"/>
            <a:ext cx="41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Путеводитель по бюджет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5456160" y="1050840"/>
            <a:ext cx="4105440" cy="43689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1"/>
          <p:cNvSpPr/>
          <p:nvPr/>
        </p:nvSpPr>
        <p:spPr>
          <a:xfrm>
            <a:off x="179280" y="1733400"/>
            <a:ext cx="600084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Times New Roman"/>
                <a:ea typeface="Calibri"/>
              </a:rPr>
              <a:t>БЮДЖЕТ ДЛЯ ГРАЖДА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герб навли"/>
          <p:cNvPicPr/>
          <p:nvPr/>
        </p:nvPicPr>
        <p:blipFill>
          <a:blip r:embed="rId2"/>
          <a:stretch/>
        </p:blipFill>
        <p:spPr>
          <a:xfrm>
            <a:off x="179280" y="0"/>
            <a:ext cx="1071720" cy="132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Номер слайда 5"/>
          <p:cNvSpPr/>
          <p:nvPr/>
        </p:nvSpPr>
        <p:spPr>
          <a:xfrm>
            <a:off x="7099200" y="627840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627360" y="4365720"/>
            <a:ext cx="5850000" cy="67464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Публичные обсуждения муниципальных програм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4"/>
          <p:cNvSpPr/>
          <p:nvPr/>
        </p:nvSpPr>
        <p:spPr>
          <a:xfrm rot="5400000">
            <a:off x="2757240" y="4376880"/>
            <a:ext cx="880920" cy="858600"/>
          </a:xfrm>
          <a:custGeom>
            <a:avLst/>
            <a:gdLst>
              <a:gd name="textAreaLeft" fmla="*/ 0 w 880920"/>
              <a:gd name="textAreaRight" fmla="*/ 881280 w 880920"/>
              <a:gd name="textAreaTop" fmla="*/ 0 h 858600"/>
              <a:gd name="textAreaBottom" fmla="*/ 858960 h 85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341" y="0"/>
                </a:lnTo>
                <a:lnTo>
                  <a:pt x="21600" y="10800"/>
                </a:lnTo>
                <a:lnTo>
                  <a:pt x="16341" y="21600"/>
                </a:lnTo>
                <a:lnTo>
                  <a:pt x="0" y="21600"/>
                </a:lnTo>
                <a:lnTo>
                  <a:pt x="5259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1676520" y="2744640"/>
            <a:ext cx="5771880" cy="74628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611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Публичные слушания по отчету об исполнении бюджета район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3392640" y="1125360"/>
            <a:ext cx="5771880" cy="76536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Tahoma"/>
              </a:rPr>
              <a:t>Публичные слушания по проекту бюджета райо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3"/>
          <p:cNvSpPr/>
          <p:nvPr/>
        </p:nvSpPr>
        <p:spPr>
          <a:xfrm rot="5400000">
            <a:off x="770040" y="2782800"/>
            <a:ext cx="955440" cy="857520"/>
          </a:xfrm>
          <a:custGeom>
            <a:avLst/>
            <a:gdLst>
              <a:gd name="textAreaLeft" fmla="*/ 0 w 955440"/>
              <a:gd name="textAreaRight" fmla="*/ 955800 w 955440"/>
              <a:gd name="textAreaTop" fmla="*/ 0 h 857520"/>
              <a:gd name="textAreaBottom" fmla="*/ 857880 h 857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17" y="0"/>
                </a:lnTo>
                <a:lnTo>
                  <a:pt x="21600" y="10800"/>
                </a:lnTo>
                <a:lnTo>
                  <a:pt x="16717" y="21600"/>
                </a:lnTo>
                <a:lnTo>
                  <a:pt x="0" y="21600"/>
                </a:lnTo>
                <a:lnTo>
                  <a:pt x="4883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4"/>
          <p:cNvSpPr/>
          <p:nvPr/>
        </p:nvSpPr>
        <p:spPr>
          <a:xfrm rot="5400000">
            <a:off x="2471400" y="1188720"/>
            <a:ext cx="984600" cy="857520"/>
          </a:xfrm>
          <a:custGeom>
            <a:avLst/>
            <a:gdLst>
              <a:gd name="textAreaLeft" fmla="*/ 0 w 984600"/>
              <a:gd name="textAreaRight" fmla="*/ 984960 w 984600"/>
              <a:gd name="textAreaTop" fmla="*/ 0 h 857520"/>
              <a:gd name="textAreaBottom" fmla="*/ 857880 h 857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25" y="0"/>
                </a:lnTo>
                <a:lnTo>
                  <a:pt x="21600" y="10800"/>
                </a:lnTo>
                <a:lnTo>
                  <a:pt x="16825" y="21600"/>
                </a:lnTo>
                <a:lnTo>
                  <a:pt x="0" y="21600"/>
                </a:lnTo>
                <a:lnTo>
                  <a:pt x="4775" y="10800"/>
                </a:lnTo>
                <a:close/>
              </a:path>
            </a:pathLst>
          </a:custGeom>
          <a:solidFill>
            <a:srgbClr val="99ccff"/>
          </a:solidFill>
          <a:ln w="1584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69012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ВОЗМОЖНОСТИ ВЛИЯНИЯ ГРАЖДАНИНА НА СОСТАВ БЮДЖЕ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21" descr=""/>
          <p:cNvPicPr/>
          <p:nvPr/>
        </p:nvPicPr>
        <p:blipFill>
          <a:blip r:embed="rId1"/>
          <a:stretch/>
        </p:blipFill>
        <p:spPr>
          <a:xfrm>
            <a:off x="7448400" y="2244600"/>
            <a:ext cx="2457720" cy="1744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2" descr=""/>
          <p:cNvPicPr/>
          <p:nvPr/>
        </p:nvPicPr>
        <p:blipFill>
          <a:blip r:embed="rId2"/>
          <a:stretch/>
        </p:blipFill>
        <p:spPr>
          <a:xfrm>
            <a:off x="60480" y="674640"/>
            <a:ext cx="2474640" cy="169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1"/>
          <p:cNvSpPr/>
          <p:nvPr/>
        </p:nvSpPr>
        <p:spPr>
          <a:xfrm>
            <a:off x="431640" y="19080"/>
            <a:ext cx="91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КАЗАТЕЛИ ПРОГНОЗА СОЦИАЛЬНО-ЭКОНОМИЧЕСКОГО РАЗВИТИЯ РАЙОНА НА 2021 И НА ПЛАНОВЫЙ ПЕРИОД 2022 И 2023 ГОД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0" y="739800"/>
          <a:ext cx="9809280" cy="4344840"/>
        </p:xfrm>
        <a:graphic>
          <a:graphicData uri="http://schemas.openxmlformats.org/drawingml/2006/table">
            <a:tbl>
              <a:tblPr/>
              <a:tblGrid>
                <a:gridCol w="3705120"/>
                <a:gridCol w="795600"/>
                <a:gridCol w="760320"/>
                <a:gridCol w="941400"/>
                <a:gridCol w="895320"/>
                <a:gridCol w="861840"/>
                <a:gridCol w="939960"/>
                <a:gridCol w="909720"/>
              </a:tblGrid>
              <a:tr h="258120">
                <a:tc rowSpan="2"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 rowSpan="2"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 gridSpan="2"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ц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 gridSpan="3"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но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37620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енность населения (среднегодова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9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5044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отгруженной продукции обрабатывающих произво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8736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сельскохозяйственной проду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9492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м инвести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332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овень зарегистрированной безработиц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5044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емесячная заработная плата по полному кругу предприят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3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6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7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8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5044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емесячная заработная плата по крупным и  средним предприят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7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6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9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2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65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0140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орот розничной торговли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лн.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5"/>
          <p:cNvSpPr/>
          <p:nvPr/>
        </p:nvSpPr>
        <p:spPr>
          <a:xfrm>
            <a:off x="7099200" y="627840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рямоугольник 5"/>
          <p:cNvSpPr/>
          <p:nvPr/>
        </p:nvSpPr>
        <p:spPr>
          <a:xfrm>
            <a:off x="458640" y="0"/>
            <a:ext cx="930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ОСНОВНЫЕ НАПРАВЛЕНИЯ БЮДЖЕТНОЙ И НАЛОГОВОЙ ПОЛИТИК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Прямоугольник 1"/>
          <p:cNvSpPr/>
          <p:nvPr/>
        </p:nvSpPr>
        <p:spPr>
          <a:xfrm>
            <a:off x="287280" y="566640"/>
            <a:ext cx="9379080" cy="45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5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доходной базы консолидированного бюджета Навлинского муниципального района Брянской области за счет наращивания стабильных источников и мобилизации в бюджет имеющихся резервов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администрирования доходов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мулирование инвестиционной деятельности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епление и развитие налогового потенциала Навлинского муниципального района Брянской области, обеспечение роста доходов консолидированного бюджета района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мероприятий, направленных на выполнение поступлений, запланированных в местных бюджетах налоговых доходов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в полном объеме перехода налогоплательщиков на патентную систему, в связи с отменой единого налога на вмененный доход для отдельных видов деятельности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методики оценки эффективности местных налоговых расходов (льгот) и принятие решений о продлении действия (предоставлении новой льготы), снижении налоговой ставки или иного стимулирующего механизма с учетом результата оценки эффективности налоговых льгот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ершенствование налогового законодательства в части поддержки приоритетных инвестиционных проектов, субъектов малого и среднего бизнеса, направленной на стимулирование экономического роста и развитие налоговой базы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сбалансированности бюджета в рамках принятых обязательств в соответствии с заключенными с Департаментом финансов Брянской области соглашениями, включая применение мер, направленных на ограничение дефицита и уровня муниципального долга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ое обеспечение принятых расходных обязательств с учетом проведения мероприятий по их оптимизации, сокращению неэффективных расходов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е целей и целевых показателей районных проектов, входящих в состав региональных проектов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spcBef>
                <a:spcPts val="275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программы роста доходов, оптимизации расходов бюджета Навлинского муниципального района Брянской области, совершенствования управления муниципальным внутренним долгом и оздоровления муниципальных финансов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Номер слайда 5"/>
          <p:cNvSpPr/>
          <p:nvPr/>
        </p:nvSpPr>
        <p:spPr>
          <a:xfrm>
            <a:off x="7099200" y="627840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Прямоугольник 5"/>
          <p:cNvSpPr/>
          <p:nvPr/>
        </p:nvSpPr>
        <p:spPr>
          <a:xfrm>
            <a:off x="458640" y="0"/>
            <a:ext cx="930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ОСНОВНЫЕ НАПРАВЛЕНИЯ БЮДЖЕТНОЙ И НАЛОГОВОЙ ПОЛИТИК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Box 5"/>
          <p:cNvSpPr/>
          <p:nvPr/>
        </p:nvSpPr>
        <p:spPr>
          <a:xfrm>
            <a:off x="704880" y="566640"/>
            <a:ext cx="8953560" cy="46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.   Реализация мероприятий, обеспечивающих положительное влияние на социально-экономическое развитие района и уровень жизни населения в             долгосрочной перспективе, в том числе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доступности и повышение качества образования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массового спорта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культуры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социальной инфраструктуры, в том числе создание новых мест в образовательных и дошкольных организациях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едение в нормативное состояние сети муниципальных дорог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жилищно-коммунального хозяйства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агропромышленного комплекса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Совершенствование методов проектного управления в деятельности органов местного самоуправлени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 Развитие системы межбюджетных отношений, расширение финансовой самостоятельности муниципалитетов, ориентация финансовой поддержки на достижение конечных результатов в сфере полномочий органов местного самоуправления поселений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финансовой дисциплины местных администраций и главных распорядителей бюджетных средств муниципальных образований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чшение финансовых показателей местных бюджетов, контроль соблюдения условий заключенных соглашений о мерах по социально-экономическому развитию и оздоровлению муниципальных финансов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. Совершенствование нормативного правового регулирования и методологии управления общественными финансами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 Модернизация информационных систем управления общественными финансами с целью создания единого информационного пространства формирования и исполнения бюджетов на территории района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. Повышение прозрачности и открытости бюджетной системы, в том числе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ение информации в государственной интегрированной системе управления общественными финансами «Электронный бюджет»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«Бюджета для граждан»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 Повышение роли граждан и общественных институтов в процессе формирования приоритетов бюджетной политики и направлений расходов бюджета, реализация проектов инициативного бюджетирования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79360" y="259920"/>
            <a:ext cx="9220320" cy="3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ОСНОВНЫЕ ПАРАМЕТРЫ БЮДЖЕТА РАЙОНА НА 2021 ГОД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4"/>
          <p:cNvSpPr/>
          <p:nvPr/>
        </p:nvSpPr>
        <p:spPr>
          <a:xfrm rot="16200000">
            <a:off x="3863160" y="2159640"/>
            <a:ext cx="1728720" cy="2340000"/>
          </a:xfrm>
          <a:custGeom>
            <a:avLst/>
            <a:gdLst>
              <a:gd name="textAreaLeft" fmla="*/ 0 w 1728720"/>
              <a:gd name="textAreaRight" fmla="*/ 1729080 w 1728720"/>
              <a:gd name="textAreaTop" fmla="*/ 585000 h 2340000"/>
              <a:gd name="textAreaBottom" fmla="*/ 1755000 h 2340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fa6e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ЮДЖ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549600" y="1052640"/>
            <a:ext cx="2338560" cy="1368360"/>
          </a:xfrm>
          <a:prstGeom prst="rect">
            <a:avLst/>
          </a:prstGeom>
          <a:solidFill>
            <a:srgbClr val="92d050"/>
          </a:solidFill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458d"/>
                </a:solidFill>
                <a:latin typeface="Times New Roman"/>
                <a:ea typeface="Times New Roman"/>
              </a:rPr>
              <a:t>ДОХОДЫ</a:t>
            </a:r>
            <a:r>
              <a:rPr b="1" lang="ru-RU" sz="1800" spc="-1" strike="noStrike">
                <a:solidFill>
                  <a:srgbClr val="43458d"/>
                </a:solidFill>
                <a:latin typeface="Times New Roman"/>
              </a:rPr>
              <a:t> В РАСЧЕ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458d"/>
                </a:solidFill>
                <a:latin typeface="Times New Roman"/>
              </a:rPr>
              <a:t>НА 1 ЧЕЛОВЕК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458d"/>
                </a:solidFill>
                <a:latin typeface="Times New Roman"/>
              </a:rPr>
              <a:t>15 017,82 </a:t>
            </a:r>
            <a:r>
              <a:rPr b="1" lang="ru-RU" sz="1800" spc="-1" strike="noStrike">
                <a:solidFill>
                  <a:srgbClr val="43458d"/>
                </a:solidFill>
                <a:latin typeface="Times New Roman"/>
              </a:rPr>
              <a:t>руб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527280" y="4314960"/>
            <a:ext cx="2338560" cy="1584360"/>
          </a:xfrm>
          <a:prstGeom prst="rect">
            <a:avLst/>
          </a:prstGeom>
          <a:solidFill>
            <a:srgbClr val="66ccff"/>
          </a:solidFill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3458d"/>
                </a:solidFill>
                <a:latin typeface="Times New Roman"/>
              </a:rPr>
              <a:t>РАСХОДЫ В РАСЧЕТЕ НА 1 ЧЕЛОВЕ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3458d"/>
                </a:solidFill>
                <a:latin typeface="Times New Roman"/>
              </a:rPr>
              <a:t>15 017,82</a:t>
            </a:r>
            <a:r>
              <a:rPr b="1" lang="ru-RU" sz="1800" spc="-1" strike="noStrike">
                <a:solidFill>
                  <a:srgbClr val="43458d"/>
                </a:solidFill>
                <a:latin typeface="Times New Roman"/>
              </a:rPr>
              <a:t>руб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Rectangle 7"/>
          <p:cNvGrpSpPr/>
          <p:nvPr/>
        </p:nvGrpSpPr>
        <p:grpSpPr>
          <a:xfrm>
            <a:off x="2730600" y="1006560"/>
            <a:ext cx="755640" cy="5162400"/>
            <a:chOff x="2730600" y="1006560"/>
            <a:chExt cx="755640" cy="5162400"/>
          </a:xfrm>
        </p:grpSpPr>
        <p:pic>
          <p:nvPicPr>
            <p:cNvPr id="168" name="Rectangle 7" descr=""/>
            <p:cNvPicPr/>
            <p:nvPr/>
          </p:nvPicPr>
          <p:blipFill>
            <a:blip r:embed="rId1"/>
            <a:stretch/>
          </p:blipFill>
          <p:spPr>
            <a:xfrm>
              <a:off x="2730600" y="1006560"/>
              <a:ext cx="755640" cy="516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 rot="10800000">
              <a:off x="2757240" y="1028520"/>
              <a:ext cx="701640" cy="51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43458d"/>
                  </a:solidFill>
                  <a:latin typeface="Times New Roman"/>
                  <a:ea typeface="Times New Roman"/>
                </a:rPr>
                <a:t>ДОХОДЫ  - 391 965 </a:t>
              </a:r>
              <a:r>
                <a:rPr b="1" lang="ru-RU" sz="1600" spc="-1" strike="noStrike">
                  <a:solidFill>
                    <a:srgbClr val="43458d"/>
                  </a:solidFill>
                  <a:latin typeface="Times New Roman"/>
                  <a:ea typeface="Times New Roman"/>
                </a:rPr>
                <a:t>ТЫС. РУБ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Rectangle 8"/>
          <p:cNvSpPr/>
          <p:nvPr/>
        </p:nvSpPr>
        <p:spPr>
          <a:xfrm rot="10800000">
            <a:off x="5932080" y="1084320"/>
            <a:ext cx="701640" cy="4983120"/>
          </a:xfrm>
          <a:prstGeom prst="rect">
            <a:avLst/>
          </a:prstGeom>
          <a:solidFill>
            <a:srgbClr val="66cc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458d"/>
                </a:solidFill>
                <a:latin typeface="Times New Roman"/>
              </a:rPr>
              <a:t>РАСХОДЫ – 391 965 </a:t>
            </a:r>
            <a:r>
              <a:rPr b="1" lang="ru-RU" sz="1600" spc="-1" strike="noStrike">
                <a:solidFill>
                  <a:srgbClr val="43458d"/>
                </a:solidFill>
                <a:latin typeface="Times New Roman"/>
              </a:rPr>
              <a:t>ТЫС. РУ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9"/>
          <p:cNvSpPr/>
          <p:nvPr/>
        </p:nvSpPr>
        <p:spPr>
          <a:xfrm>
            <a:off x="0" y="1141560"/>
            <a:ext cx="2719440" cy="1368360"/>
          </a:xfrm>
          <a:custGeom>
            <a:avLst/>
            <a:gdLst>
              <a:gd name="textAreaLeft" fmla="*/ 0 w 2719440"/>
              <a:gd name="textAreaRight" fmla="*/ 2719800 w 271944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647" y="0"/>
                </a:lnTo>
                <a:lnTo>
                  <a:pt x="21600" y="10800"/>
                </a:lnTo>
                <a:lnTo>
                  <a:pt x="1664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НАЛОГОВЫЕ ДОХ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6 214 тыс. ру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10"/>
          <p:cNvSpPr/>
          <p:nvPr/>
        </p:nvSpPr>
        <p:spPr>
          <a:xfrm>
            <a:off x="0" y="4389480"/>
            <a:ext cx="2697120" cy="1368360"/>
          </a:xfrm>
          <a:custGeom>
            <a:avLst/>
            <a:gdLst>
              <a:gd name="textAreaLeft" fmla="*/ 0 w 2697120"/>
              <a:gd name="textAreaRight" fmla="*/ 2697120 w 269712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607" y="0"/>
                </a:lnTo>
                <a:lnTo>
                  <a:pt x="21600" y="10800"/>
                </a:lnTo>
                <a:lnTo>
                  <a:pt x="166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ЗВОЗМЕЗДНЫЕ ПОСТУП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80 838тыс. руб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11"/>
          <p:cNvSpPr/>
          <p:nvPr/>
        </p:nvSpPr>
        <p:spPr>
          <a:xfrm>
            <a:off x="0" y="2825640"/>
            <a:ext cx="2698920" cy="1368360"/>
          </a:xfrm>
          <a:custGeom>
            <a:avLst/>
            <a:gdLst>
              <a:gd name="textAreaLeft" fmla="*/ 0 w 2698920"/>
              <a:gd name="textAreaRight" fmla="*/ 2699280 w 269892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610" y="0"/>
                </a:lnTo>
                <a:lnTo>
                  <a:pt x="21600" y="10800"/>
                </a:lnTo>
                <a:lnTo>
                  <a:pt x="166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НАЛОГОВЫЕ ДОХ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 913 тыс. ру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12"/>
          <p:cNvSpPr/>
          <p:nvPr/>
        </p:nvSpPr>
        <p:spPr>
          <a:xfrm rot="10800000">
            <a:off x="6710040" y="1028160"/>
            <a:ext cx="2940120" cy="549000"/>
          </a:xfrm>
          <a:custGeom>
            <a:avLst/>
            <a:gdLst>
              <a:gd name="textAreaLeft" fmla="*/ 0 w 2940120"/>
              <a:gd name="textAreaRight" fmla="*/ 2940120 w 2940120"/>
              <a:gd name="textAreaTop" fmla="*/ 0 h 549000"/>
              <a:gd name="textAreaBottom" fmla="*/ 549360 h 54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78" y="0"/>
                </a:lnTo>
                <a:lnTo>
                  <a:pt x="21600" y="10800"/>
                </a:lnTo>
                <a:lnTo>
                  <a:pt x="1607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Образов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273 267 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17"/>
          <p:cNvSpPr/>
          <p:nvPr/>
        </p:nvSpPr>
        <p:spPr>
          <a:xfrm rot="10800000">
            <a:off x="6634080" y="5281200"/>
            <a:ext cx="3060720" cy="476280"/>
          </a:xfrm>
          <a:custGeom>
            <a:avLst/>
            <a:gdLst>
              <a:gd name="textAreaLeft" fmla="*/ 0 w 3060720"/>
              <a:gd name="textAreaRight" fmla="*/ 3061080 w 306072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79" y="0"/>
                </a:lnTo>
                <a:lnTo>
                  <a:pt x="21600" y="10800"/>
                </a:lnTo>
                <a:lnTo>
                  <a:pt x="164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rot="10800000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МБТ поселения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1419 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18"/>
          <p:cNvSpPr/>
          <p:nvPr/>
        </p:nvSpPr>
        <p:spPr>
          <a:xfrm rot="10800000">
            <a:off x="6634080" y="4314600"/>
            <a:ext cx="3060720" cy="447480"/>
          </a:xfrm>
          <a:custGeom>
            <a:avLst/>
            <a:gdLst>
              <a:gd name="textAreaLeft" fmla="*/ 0 w 3060720"/>
              <a:gd name="textAreaRight" fmla="*/ 3061080 w 306072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648" y="0"/>
                </a:lnTo>
                <a:lnTo>
                  <a:pt x="21600" y="10800"/>
                </a:lnTo>
                <a:lnTo>
                  <a:pt x="1664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  <a:ea typeface="Times New Roman"/>
              </a:rPr>
              <a:t>Культура и кинематограф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  <a:ea typeface="Times New Roman"/>
              </a:rPr>
              <a:t>27 257 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19"/>
          <p:cNvSpPr/>
          <p:nvPr/>
        </p:nvSpPr>
        <p:spPr>
          <a:xfrm rot="10800000">
            <a:off x="6686280" y="3181320"/>
            <a:ext cx="3219480" cy="503280"/>
          </a:xfrm>
          <a:custGeom>
            <a:avLst/>
            <a:gdLst>
              <a:gd name="textAreaLeft" fmla="*/ 0 w 3219480"/>
              <a:gd name="textAreaRight" fmla="*/ 3219840 w 32194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30" y="0"/>
                </a:lnTo>
                <a:lnTo>
                  <a:pt x="21600" y="10800"/>
                </a:lnTo>
                <a:lnTo>
                  <a:pt x="1673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rot="10800000">
            <a:normAutofit fontScale="6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43458d"/>
                </a:solidFill>
                <a:latin typeface="Times New Roman"/>
              </a:rPr>
              <a:t>Национал</a:t>
            </a:r>
            <a:r>
              <a:rPr b="0" lang="ru-RU" sz="1300" spc="-1" strike="noStrike">
                <a:solidFill>
                  <a:srgbClr val="43458d"/>
                </a:solidFill>
                <a:latin typeface="Times New Roman"/>
              </a:rPr>
              <a:t>ь</a:t>
            </a:r>
            <a:r>
              <a:rPr b="1" lang="ru-RU" sz="1300" spc="-1" strike="noStrike">
                <a:solidFill>
                  <a:srgbClr val="43458d"/>
                </a:solidFill>
                <a:latin typeface="Times New Roman"/>
              </a:rPr>
              <a:t>на безопасность и правоохранительная деятельность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3 906 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21"/>
          <p:cNvSpPr/>
          <p:nvPr/>
        </p:nvSpPr>
        <p:spPr>
          <a:xfrm rot="10800000">
            <a:off x="6708600" y="2166840"/>
            <a:ext cx="2965680" cy="447840"/>
          </a:xfrm>
          <a:custGeom>
            <a:avLst/>
            <a:gdLst>
              <a:gd name="textAreaLeft" fmla="*/ 0 w 2965680"/>
              <a:gd name="textAreaRight" fmla="*/ 2966040 w 2965680"/>
              <a:gd name="textAreaTop" fmla="*/ 0 h 447840"/>
              <a:gd name="textAreaBottom" fmla="*/ 448200 h 447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57" y="0"/>
                </a:lnTo>
                <a:lnTo>
                  <a:pt x="21600" y="10800"/>
                </a:lnTo>
                <a:lnTo>
                  <a:pt x="1805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Социальная полит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32 050 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22"/>
          <p:cNvSpPr/>
          <p:nvPr/>
        </p:nvSpPr>
        <p:spPr>
          <a:xfrm rot="10800000">
            <a:off x="6708240" y="3747960"/>
            <a:ext cx="2986200" cy="503280"/>
          </a:xfrm>
          <a:custGeom>
            <a:avLst/>
            <a:gdLst>
              <a:gd name="textAreaLeft" fmla="*/ 0 w 2986200"/>
              <a:gd name="textAreaRight" fmla="*/ 2986560 w 298620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506" y="0"/>
                </a:lnTo>
                <a:lnTo>
                  <a:pt x="21600" y="10800"/>
                </a:lnTo>
                <a:lnTo>
                  <a:pt x="155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Жилищно-коммунальное хозяйств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604 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23"/>
          <p:cNvSpPr/>
          <p:nvPr/>
        </p:nvSpPr>
        <p:spPr>
          <a:xfrm rot="10800000">
            <a:off x="6661080" y="1607760"/>
            <a:ext cx="3245040" cy="514440"/>
          </a:xfrm>
          <a:custGeom>
            <a:avLst/>
            <a:gdLst>
              <a:gd name="textAreaLeft" fmla="*/ 0 w 3245040"/>
              <a:gd name="textAreaRight" fmla="*/ 3245400 w 3245040"/>
              <a:gd name="textAreaTop" fmla="*/ 0 h 514440"/>
              <a:gd name="textAreaBottom" fmla="*/ 514800 h 51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732" y="0"/>
                </a:lnTo>
                <a:lnTo>
                  <a:pt x="21600" y="10800"/>
                </a:lnTo>
                <a:lnTo>
                  <a:pt x="1373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Общегосударственные вопрос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37 121 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22"/>
          <p:cNvSpPr/>
          <p:nvPr/>
        </p:nvSpPr>
        <p:spPr>
          <a:xfrm rot="10800000">
            <a:off x="6730560" y="2644560"/>
            <a:ext cx="2963880" cy="476280"/>
          </a:xfrm>
          <a:custGeom>
            <a:avLst/>
            <a:gdLst>
              <a:gd name="textAreaLeft" fmla="*/ 0 w 2963880"/>
              <a:gd name="textAreaRight" fmla="*/ 2964240 w 296388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222" y="0"/>
                </a:lnTo>
                <a:lnTo>
                  <a:pt x="21600" y="10800"/>
                </a:lnTo>
                <a:lnTo>
                  <a:pt x="1522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Национальная эконом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15 364 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20"/>
          <p:cNvSpPr/>
          <p:nvPr/>
        </p:nvSpPr>
        <p:spPr>
          <a:xfrm rot="10800000">
            <a:off x="6634080" y="4795560"/>
            <a:ext cx="3060720" cy="439560"/>
          </a:xfrm>
          <a:custGeom>
            <a:avLst/>
            <a:gdLst>
              <a:gd name="textAreaLeft" fmla="*/ 0 w 3060720"/>
              <a:gd name="textAreaRight" fmla="*/ 3061080 w 3060720"/>
              <a:gd name="textAreaTop" fmla="*/ 0 h 439560"/>
              <a:gd name="textAreaBottom" fmla="*/ 439920 h 439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755" y="0"/>
                </a:lnTo>
                <a:lnTo>
                  <a:pt x="21600" y="10800"/>
                </a:lnTo>
                <a:lnTo>
                  <a:pt x="1475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cc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Физическая культура и спор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3458d"/>
                </a:solidFill>
                <a:latin typeface="Times New Roman"/>
              </a:rPr>
              <a:t>263 тыс. руб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7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7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1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10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11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1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2000" y="95400"/>
            <a:ext cx="930132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Основные параметры бюджета рай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2081"/>
          <p:cNvSpPr/>
          <p:nvPr/>
        </p:nvSpPr>
        <p:spPr>
          <a:xfrm>
            <a:off x="7184880" y="544680"/>
            <a:ext cx="1816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ыс.руб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52360" y="925560"/>
          <a:ext cx="9488520" cy="4825800"/>
        </p:xfrm>
        <a:graphic>
          <a:graphicData uri="http://schemas.openxmlformats.org/drawingml/2006/table">
            <a:tbl>
              <a:tblPr/>
              <a:tblGrid>
                <a:gridCol w="5764320"/>
                <a:gridCol w="1317600"/>
                <a:gridCol w="1251000"/>
                <a:gridCol w="1155600"/>
              </a:tblGrid>
              <a:tr h="3200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3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281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ы 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91 9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0 4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1 7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45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овые и неналоговые доходы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 1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 9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9 8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45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7 6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 9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 6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45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кциз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7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3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4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45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 на совокупный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2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3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89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равочно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ы дорожного фонда Навлинского рай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7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3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4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45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возмездные поступления, 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0 8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5 4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1 9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887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я на выравнивание бюджетной обеспеч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 2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 5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899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я на поддержку мер по обеспечению сбалансированности 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3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45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4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 2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45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6 8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5 8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5 3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45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7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7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 79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80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чие безвозмездные поступ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281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ды 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91 9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0 4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1 7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792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фицит / профици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86920" y="90000"/>
            <a:ext cx="80694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ДОХОДЫ БЮДЖЕТА РАЙ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29"/>
          <p:cNvSpPr/>
          <p:nvPr/>
        </p:nvSpPr>
        <p:spPr>
          <a:xfrm>
            <a:off x="388800" y="773280"/>
            <a:ext cx="89870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c00000"/>
                </a:solidFill>
                <a:latin typeface="Times New Roman"/>
              </a:rPr>
              <a:t>Доходы бюджета - поступающие в бюджет денежные средства, за исключением средств, являющихся источниками финансирования дефицита бюджета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Скругленный прямоугольник 2"/>
          <p:cNvSpPr/>
          <p:nvPr/>
        </p:nvSpPr>
        <p:spPr>
          <a:xfrm>
            <a:off x="3503520" y="1498680"/>
            <a:ext cx="2654280" cy="635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0d0d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3619440" y="1627200"/>
            <a:ext cx="25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4d"/>
                </a:solidFill>
                <a:latin typeface="Tahoma"/>
              </a:rPr>
              <a:t>Доходы бюдже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Скругленный прямоугольник 5"/>
          <p:cNvSpPr/>
          <p:nvPr/>
        </p:nvSpPr>
        <p:spPr>
          <a:xfrm>
            <a:off x="636480" y="2484360"/>
            <a:ext cx="234000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0d0d0"/>
              </a:gs>
            </a:gsLst>
            <a:lin ang="5400000"/>
          </a:gra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Скругленный прямоугольник 421"/>
          <p:cNvSpPr/>
          <p:nvPr/>
        </p:nvSpPr>
        <p:spPr>
          <a:xfrm>
            <a:off x="3436920" y="2558880"/>
            <a:ext cx="265428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0d0d0"/>
              </a:gs>
            </a:gsLst>
            <a:lin ang="5400000"/>
          </a:gra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Скругленный прямоугольник 422"/>
          <p:cNvSpPr/>
          <p:nvPr/>
        </p:nvSpPr>
        <p:spPr>
          <a:xfrm>
            <a:off x="6603840" y="2484360"/>
            <a:ext cx="265284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0d0d0"/>
              </a:gs>
            </a:gsLst>
            <a:lin ang="5400000"/>
          </a:gra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Скругленный прямоугольник 7"/>
          <p:cNvSpPr/>
          <p:nvPr/>
        </p:nvSpPr>
        <p:spPr>
          <a:xfrm>
            <a:off x="388800" y="3354480"/>
            <a:ext cx="2600640" cy="247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0d0d0"/>
              </a:gs>
            </a:gsLst>
            <a:lin ang="5400000"/>
          </a:gra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Скругленный прямоугольник 424"/>
          <p:cNvSpPr/>
          <p:nvPr/>
        </p:nvSpPr>
        <p:spPr>
          <a:xfrm>
            <a:off x="3379680" y="3354480"/>
            <a:ext cx="2813040" cy="247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0d0d0"/>
              </a:gs>
            </a:gsLst>
            <a:lin ang="5400000"/>
          </a:gra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Скругленный прямоугольник 425"/>
          <p:cNvSpPr/>
          <p:nvPr/>
        </p:nvSpPr>
        <p:spPr>
          <a:xfrm>
            <a:off x="6602400" y="3354480"/>
            <a:ext cx="2828880" cy="247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0d0d0"/>
              </a:gs>
            </a:gsLst>
            <a:lin ang="5400000"/>
          </a:gra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Box 8"/>
          <p:cNvSpPr/>
          <p:nvPr/>
        </p:nvSpPr>
        <p:spPr>
          <a:xfrm>
            <a:off x="600120" y="2484360"/>
            <a:ext cx="235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4d"/>
                </a:solidFill>
                <a:latin typeface="Tahoma"/>
              </a:rPr>
              <a:t>Налоговые дох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3503520" y="2573280"/>
            <a:ext cx="262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4d"/>
                </a:solidFill>
                <a:latin typeface="Tahoma"/>
              </a:rPr>
              <a:t>Неналоговые</a:t>
            </a:r>
            <a:r>
              <a:rPr b="0" lang="ru-RU" sz="1800" spc="-1" strike="noStrike">
                <a:solidFill>
                  <a:srgbClr val="00664d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664d"/>
                </a:solidFill>
                <a:latin typeface="Tahoma"/>
              </a:rPr>
              <a:t>дох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700680" y="2484360"/>
            <a:ext cx="25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4d"/>
                </a:solidFill>
                <a:latin typeface="Tahoma"/>
              </a:rPr>
              <a:t>Безвозмездные</a:t>
            </a:r>
            <a:r>
              <a:rPr b="0" lang="ru-RU" sz="1800" spc="-1" strike="noStrike">
                <a:solidFill>
                  <a:srgbClr val="00664d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664d"/>
                </a:solidFill>
                <a:latin typeface="Tahoma"/>
              </a:rPr>
              <a:t>поступ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Прямая соединительная линия 12"/>
          <p:cNvSpPr/>
          <p:nvPr/>
        </p:nvSpPr>
        <p:spPr>
          <a:xfrm>
            <a:off x="4735440" y="2133720"/>
            <a:ext cx="0" cy="425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Прямая соединительная линия 14"/>
          <p:cNvSpPr/>
          <p:nvPr/>
        </p:nvSpPr>
        <p:spPr>
          <a:xfrm flipV="1">
            <a:off x="1782720" y="2268000"/>
            <a:ext cx="0" cy="20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Прямая соединительная линия 433"/>
          <p:cNvSpPr/>
          <p:nvPr/>
        </p:nvSpPr>
        <p:spPr>
          <a:xfrm flipV="1">
            <a:off x="7962840" y="2268000"/>
            <a:ext cx="0" cy="20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Прямая соединительная линия 16"/>
          <p:cNvSpPr/>
          <p:nvPr/>
        </p:nvSpPr>
        <p:spPr>
          <a:xfrm>
            <a:off x="1781280" y="2255760"/>
            <a:ext cx="6192720" cy="12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Box 18"/>
          <p:cNvSpPr/>
          <p:nvPr/>
        </p:nvSpPr>
        <p:spPr>
          <a:xfrm>
            <a:off x="401760" y="3402000"/>
            <a:ext cx="25747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4d"/>
                </a:solidFill>
                <a:latin typeface="Tahoma"/>
              </a:rPr>
              <a:t>Поступления от уплаты налогов, установленных Налоговым кодексом Российской Федерации</a:t>
            </a:r>
            <a:r>
              <a:rPr b="1" lang="en-US" sz="1400" spc="-1" strike="noStrike">
                <a:solidFill>
                  <a:srgbClr val="00664d"/>
                </a:solidFill>
                <a:latin typeface="Tahom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4d"/>
                </a:solidFill>
                <a:latin typeface="Tahoma"/>
              </a:rPr>
              <a:t>- налог на доходы физических ли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4d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4d"/>
                </a:solidFill>
                <a:latin typeface="Tahoma"/>
              </a:rPr>
              <a:t>акциз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664d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4d"/>
                </a:solidFill>
                <a:latin typeface="Tahoma"/>
              </a:rPr>
              <a:t>налог, взимаемый в связи с применением патентной системы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4d"/>
                </a:solidFill>
                <a:latin typeface="Tahoma"/>
              </a:rPr>
              <a:t>- иные налог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Box 19"/>
          <p:cNvSpPr/>
          <p:nvPr/>
        </p:nvSpPr>
        <p:spPr>
          <a:xfrm>
            <a:off x="3379680" y="3402000"/>
            <a:ext cx="27910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4d"/>
                </a:solidFill>
                <a:latin typeface="Tahoma"/>
              </a:rPr>
              <a:t>Поступления доходов от использования государственного (муниципального) имущества, от платных услуг, оказываемых казенными учреждениями, штрафных санкций за нарушение законодательства, иных неналоговых платеж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Box 20"/>
          <p:cNvSpPr/>
          <p:nvPr/>
        </p:nvSpPr>
        <p:spPr>
          <a:xfrm>
            <a:off x="6691320" y="3402000"/>
            <a:ext cx="27176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4d"/>
                </a:solidFill>
                <a:latin typeface="Tahoma"/>
              </a:rPr>
              <a:t>Поступления доходы в виде финансовой помощи, полученной от бюджетов других уровней бюджетной системы РФ (межбюджетные трансферты), безвозмездные поступления от организаций и гражда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8838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ДИНАМИКА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ПОСТУПЛЕНИЯ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 ДОХОДОВ БЮДЖЕТА  </a:t>
            </a:r>
            <a:br>
              <a:rPr sz="2000"/>
            </a:b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                 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ыс. руб.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5081760"/>
            <a:ext cx="9782280" cy="9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ые факторы формирования доходной части бюджета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изменением бюджетного законодательства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изменение областного законодательства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неполное включение в бюджет областных межбюджетных трансфертов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Object 7"/>
          <p:cNvGraphicFramePr/>
          <p:nvPr/>
        </p:nvGraphicFramePr>
        <p:xfrm>
          <a:off x="728640" y="649440"/>
          <a:ext cx="8523360" cy="510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640" y="649440"/>
                    <a:ext cx="8523360" cy="51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AutoShape 24"/>
          <p:cNvSpPr/>
          <p:nvPr/>
        </p:nvSpPr>
        <p:spPr>
          <a:xfrm>
            <a:off x="3112920" y="3583080"/>
            <a:ext cx="314640" cy="542880"/>
          </a:xfrm>
          <a:prstGeom prst="upArrow">
            <a:avLst>
              <a:gd name="adj1" fmla="val 43435"/>
              <a:gd name="adj2" fmla="val 39333"/>
            </a:avLst>
          </a:prstGeom>
          <a:gradFill rotWithShape="0">
            <a:gsLst>
              <a:gs pos="0">
                <a:srgbClr val="66ff66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-90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42"/>
          <p:cNvSpPr/>
          <p:nvPr/>
        </p:nvSpPr>
        <p:spPr>
          <a:xfrm>
            <a:off x="6532560" y="3743280"/>
            <a:ext cx="1114560" cy="285840"/>
          </a:xfrm>
          <a:prstGeom prst="rect">
            <a:avLst/>
          </a:prstGeom>
          <a:gradFill rotWithShape="0">
            <a:gsLst>
              <a:gs pos="0">
                <a:srgbClr val="5e5e76"/>
              </a:gs>
              <a:gs pos="50000">
                <a:srgbClr val="ccccff"/>
              </a:gs>
              <a:gs pos="100000">
                <a:srgbClr val="5e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1e32"/>
                </a:solidFill>
                <a:latin typeface="Arial"/>
              </a:rPr>
              <a:t>477 73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43"/>
          <p:cNvSpPr/>
          <p:nvPr/>
        </p:nvSpPr>
        <p:spPr>
          <a:xfrm>
            <a:off x="7365960" y="4322880"/>
            <a:ext cx="919080" cy="28548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1e32"/>
                </a:solidFill>
                <a:latin typeface="Arial"/>
              </a:rPr>
              <a:t>415 08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44"/>
          <p:cNvSpPr/>
          <p:nvPr/>
        </p:nvSpPr>
        <p:spPr>
          <a:xfrm>
            <a:off x="3156120" y="2844720"/>
            <a:ext cx="314280" cy="577800"/>
          </a:xfrm>
          <a:prstGeom prst="upArrow">
            <a:avLst>
              <a:gd name="adj1" fmla="val 50000"/>
              <a:gd name="adj2" fmla="val 45962"/>
            </a:avLst>
          </a:prstGeom>
          <a:gradFill rotWithShape="0">
            <a:gsLst>
              <a:gs pos="0">
                <a:srgbClr val="00ff99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-133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48"/>
          <p:cNvSpPr/>
          <p:nvPr/>
        </p:nvSpPr>
        <p:spPr>
          <a:xfrm>
            <a:off x="4821120" y="3106800"/>
            <a:ext cx="341280" cy="577800"/>
          </a:xfrm>
          <a:prstGeom prst="upArrow">
            <a:avLst>
              <a:gd name="adj1" fmla="val 52889"/>
              <a:gd name="adj2" fmla="val 61780"/>
            </a:avLst>
          </a:prstGeom>
          <a:gradFill rotWithShape="0">
            <a:gsLst>
              <a:gs pos="0">
                <a:srgbClr val="ffcc00"/>
              </a:gs>
              <a:gs pos="100000">
                <a:srgbClr val="66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-8443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49"/>
          <p:cNvSpPr/>
          <p:nvPr/>
        </p:nvSpPr>
        <p:spPr>
          <a:xfrm>
            <a:off x="4749840" y="3930480"/>
            <a:ext cx="361800" cy="603360"/>
          </a:xfrm>
          <a:prstGeom prst="upArrow">
            <a:avLst>
              <a:gd name="adj1" fmla="val 52889"/>
              <a:gd name="adj2" fmla="val 61812"/>
            </a:avLst>
          </a:prstGeom>
          <a:gradFill rotWithShape="0">
            <a:gsLst>
              <a:gs pos="0">
                <a:srgbClr val="ffc000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+ 7168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51"/>
          <p:cNvSpPr/>
          <p:nvPr/>
        </p:nvSpPr>
        <p:spPr>
          <a:xfrm flipH="1" flipV="1">
            <a:off x="7040160" y="3978360"/>
            <a:ext cx="304920" cy="46656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53"/>
          <p:cNvSpPr/>
          <p:nvPr/>
        </p:nvSpPr>
        <p:spPr>
          <a:xfrm flipH="1" flipV="1">
            <a:off x="6376680" y="3483000"/>
            <a:ext cx="361800" cy="495360"/>
          </a:xfrm>
          <a:prstGeom prst="line">
            <a:avLst/>
          </a:prstGeom>
          <a:ln w="9360">
            <a:solidFill>
              <a:srgbClr val="99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57"/>
          <p:cNvSpPr/>
          <p:nvPr/>
        </p:nvSpPr>
        <p:spPr>
          <a:xfrm>
            <a:off x="7495200" y="3938760"/>
            <a:ext cx="67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33cc"/>
                </a:solidFill>
                <a:latin typeface="Arial"/>
              </a:rPr>
              <a:t>+ 62 65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58"/>
          <p:cNvSpPr/>
          <p:nvPr/>
        </p:nvSpPr>
        <p:spPr>
          <a:xfrm>
            <a:off x="7102440" y="333684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33cc"/>
                </a:solidFill>
                <a:latin typeface="Arial"/>
              </a:rPr>
              <a:t>-85 77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61"/>
          <p:cNvSpPr/>
          <p:nvPr/>
        </p:nvSpPr>
        <p:spPr>
          <a:xfrm>
            <a:off x="5878440" y="3197160"/>
            <a:ext cx="1114560" cy="260280"/>
          </a:xfrm>
          <a:prstGeom prst="rect">
            <a:avLst/>
          </a:prstGeom>
          <a:gradFill rotWithShape="0">
            <a:gsLst>
              <a:gs pos="0">
                <a:srgbClr val="5e5e76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1e32"/>
                </a:solidFill>
                <a:latin typeface="Arial"/>
              </a:rPr>
              <a:t>391 96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49"/>
          <p:cNvSpPr/>
          <p:nvPr/>
        </p:nvSpPr>
        <p:spPr>
          <a:xfrm>
            <a:off x="3147840" y="2225520"/>
            <a:ext cx="246240" cy="587520"/>
          </a:xfrm>
          <a:prstGeom prst="upArrow">
            <a:avLst>
              <a:gd name="adj1" fmla="val 52889"/>
              <a:gd name="adj2" fmla="val 61748"/>
            </a:avLst>
          </a:prstGeom>
          <a:gradFill rotWithShape="0">
            <a:gsLst>
              <a:gs pos="0">
                <a:srgbClr val="765e00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Arial"/>
              </a:rPr>
              <a:t>+384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edf">
            <a:alpha val="9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22000" y="0"/>
            <a:ext cx="891540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РМАТИВЫ </a:t>
            </a:r>
            <a:br>
              <a:rPr sz="1600"/>
            </a:b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ЧИСЛЕНИЙ НАЛОГОВЫХ И НЕНАЛОГОВЫХ ДОХОДОВ В РАЙОННЫЙ БЮДЖ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0" y="712800"/>
          <a:ext cx="9914040" cy="6012000"/>
        </p:xfrm>
        <a:graphic>
          <a:graphicData uri="http://schemas.openxmlformats.org/drawingml/2006/table">
            <a:tbl>
              <a:tblPr/>
              <a:tblGrid>
                <a:gridCol w="4726080"/>
                <a:gridCol w="1068120"/>
                <a:gridCol w="4119840"/>
              </a:tblGrid>
              <a:tr h="629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 год </a:t>
                      </a: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на территориях городских/сельских поселений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рмативно-правовой акт, устанавливающий норматив в бюджет района на 2021-2023г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73260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/6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 (5% и 13% сельских территорий ), проект закона Брянской области «Об областном бюджете на 2021 год и на плановый период 2022 и 2023 годов» (48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4201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цизы по подакцизным товарам (продукции) произведенным на территорий Р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74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 закона Брянской области «Об областном бюджете на 2021 год и на плановый период 2022 и 2023 годов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2631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ый налог на вмененный доход для отдельных видов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2149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/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2149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енная пошлина, сбо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4287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передачи в аренду земельных участков, государственная собственность на которые не разграниче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/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4201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использования имущества, находящегося в муниципальной собствен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21636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поступления от использования имущ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839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асть прибыли муниципальных унитарных предприятий, остающейся после уплаты налогов и иных обязательных платеж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юджетный кодекс РФ, проект решения районного Совета народных депутатов «О бюджете Навлинского муниципального района Брянской области на 2021 год и на плановый период 2022 и 2023 годов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2149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245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реализации имущ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4208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продажи земельных участков государственная собственность на которые не разграничен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/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27792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от оказания платных услуг и компенсаций затрат государ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2192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афы, санкции, возмещение ущерб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2368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е неналоговы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й кодекс Р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f9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Номер слайда 7"/>
          <p:cNvSpPr/>
          <p:nvPr/>
        </p:nvSpPr>
        <p:spPr>
          <a:xfrm>
            <a:off x="7099200" y="627840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9320" y="0"/>
            <a:ext cx="9210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НАЛОГОВЫЕ ДОХОДЫ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, тыс. руб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Object 3"/>
          <p:cNvGraphicFramePr/>
          <p:nvPr/>
        </p:nvGraphicFramePr>
        <p:xfrm>
          <a:off x="728640" y="692280"/>
          <a:ext cx="9099720" cy="517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640" y="692280"/>
                    <a:ext cx="9099720" cy="51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Заголовок 1"/>
          <p:cNvSpPr/>
          <p:nvPr/>
        </p:nvSpPr>
        <p:spPr>
          <a:xfrm>
            <a:off x="452520" y="52560"/>
            <a:ext cx="9144000" cy="750600"/>
          </a:xfrm>
          <a:prstGeom prst="rect">
            <a:avLst/>
          </a:prstGeom>
          <a:solidFill>
            <a:srgbClr val="ddf3ea"/>
          </a:solidFill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00040" y="803160"/>
          <a:ext cx="9075600" cy="4538880"/>
        </p:xfrm>
        <a:graphic>
          <a:graphicData uri="http://schemas.openxmlformats.org/drawingml/2006/table">
            <a:tbl>
              <a:tblPr/>
              <a:tblGrid>
                <a:gridCol w="7356600"/>
                <a:gridCol w="1719000"/>
              </a:tblGrid>
              <a:tr h="544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лай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603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ые по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ые показатели прогноза СЭ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10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ые направления налоговой и бюджетной поли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71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новные показатели бюдж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-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55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ы бюдж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-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ды бюдже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-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90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нансирование муниципальных програм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-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тактная информ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5240" y="228600"/>
            <a:ext cx="8420040" cy="4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НЕНАЛОГОВЫЕ  ДОХОДЫ, тыс. руб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Объект 3"/>
          <p:cNvGraphicFramePr/>
          <p:nvPr/>
        </p:nvGraphicFramePr>
        <p:xfrm>
          <a:off x="85680" y="797040"/>
          <a:ext cx="9541080" cy="496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680" y="797040"/>
                    <a:ext cx="9541080" cy="49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5240" y="228240"/>
            <a:ext cx="842004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БЕЗВОЗМЕЗДНЫЕ ПОСТУПЛЕНИЯ,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(тыс. руб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Объект 3"/>
          <p:cNvGraphicFramePr/>
          <p:nvPr/>
        </p:nvGraphicFramePr>
        <p:xfrm>
          <a:off x="1104840" y="662040"/>
          <a:ext cx="8521920" cy="510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3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662040"/>
                    <a:ext cx="852192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14"/>
          <p:cNvSpPr/>
          <p:nvPr/>
        </p:nvSpPr>
        <p:spPr>
          <a:xfrm>
            <a:off x="939960" y="189000"/>
            <a:ext cx="82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ahoma"/>
                <a:ea typeface="Arial"/>
              </a:rPr>
              <a:t>РАСХОДЫ БЮДЖ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4" descr="0c0632cc76566fe8dd5db3601f5a0970"/>
          <p:cNvPicPr/>
          <p:nvPr/>
        </p:nvPicPr>
        <p:blipFill>
          <a:blip r:embed="rId1"/>
          <a:stretch/>
        </p:blipFill>
        <p:spPr>
          <a:xfrm>
            <a:off x="-33480" y="1484280"/>
            <a:ext cx="3370320" cy="25020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7"/>
          <p:cNvSpPr/>
          <p:nvPr/>
        </p:nvSpPr>
        <p:spPr>
          <a:xfrm>
            <a:off x="1685880" y="3809880"/>
            <a:ext cx="8134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Бюджет района на 2021-2022 гг. является социально ориентированны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Расходы на образование, культуру, социальную политику, физическую культуру и спорт в 2021 году составят 332 836 тыс.руб. (84,9% от общего объема запланированных расходов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Picture 9" descr="sport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25680" y="1668600"/>
            <a:ext cx="2808360" cy="19447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1" descr="3836084211"/>
          <p:cNvPicPr/>
          <p:nvPr/>
        </p:nvPicPr>
        <p:blipFill>
          <a:blip r:embed="rId4"/>
          <a:stretch/>
        </p:blipFill>
        <p:spPr>
          <a:xfrm>
            <a:off x="6513480" y="1413000"/>
            <a:ext cx="2884680" cy="199836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9"/>
          <p:cNvSpPr/>
          <p:nvPr/>
        </p:nvSpPr>
        <p:spPr>
          <a:xfrm>
            <a:off x="114480" y="838080"/>
            <a:ext cx="9520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22228b"/>
                </a:solidFill>
                <a:latin typeface="Tahoma"/>
              </a:rPr>
              <a:t>Расходы бюджета – выплачиваемые из бюджета денежные средства</a:t>
            </a:r>
            <a:r>
              <a:rPr b="1" lang="ru-RU" sz="17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2960" y="-103320"/>
            <a:ext cx="9615240" cy="944640"/>
          </a:xfrm>
          <a:prstGeom prst="rect">
            <a:avLst/>
          </a:prstGeom>
          <a:gradFill rotWithShape="0">
            <a:gsLst>
              <a:gs pos="0">
                <a:srgbClr val="a3a3e4"/>
              </a:gs>
              <a:gs pos="100000">
                <a:srgbClr val="8181de"/>
              </a:gs>
            </a:gsLst>
            <a:lin ang="5400000"/>
          </a:gradFill>
          <a:ln w="6480">
            <a:solidFill>
              <a:srgbClr val="3333c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РАСХОДЫ БЮДЖЕТА, тыс. ру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03320" y="1273320"/>
          <a:ext cx="9713880" cy="4224240"/>
        </p:xfrm>
        <a:graphic>
          <a:graphicData uri="http://schemas.openxmlformats.org/drawingml/2006/table">
            <a:tbl>
              <a:tblPr/>
              <a:tblGrid>
                <a:gridCol w="3390840"/>
                <a:gridCol w="1222200"/>
                <a:gridCol w="1568520"/>
                <a:gridCol w="1212840"/>
                <a:gridCol w="1136520"/>
                <a:gridCol w="1182960"/>
              </a:tblGrid>
              <a:tr h="498240"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0 оцен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8412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 0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8 9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7 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1 7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4 0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1140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циональная обо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6512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 7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9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9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6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5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1752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1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 5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 3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 8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 7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110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К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 9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 1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 4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110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3 2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86 6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3 2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6 1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 0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1752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2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 0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 2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1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3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1932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8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 9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 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 4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0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648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культура и 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0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1140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2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4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11040">
                <a:tc>
                  <a:txBody>
                    <a:bodyPr lIns="8640" rIns="8640" tIns="864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640" marR="8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1 7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8 2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1 9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0 4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1 7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3"/>
          <p:cNvSpPr/>
          <p:nvPr/>
        </p:nvSpPr>
        <p:spPr>
          <a:xfrm>
            <a:off x="534960" y="147600"/>
            <a:ext cx="89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РАЗДЕЛ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 «ОБЩЕГОСУДАРСТВЕННЫЕ РАСХОДЫ»,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(тыс. руб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11240" y="781200"/>
          <a:ext cx="9686880" cy="5324400"/>
        </p:xfrm>
        <a:graphic>
          <a:graphicData uri="http://schemas.openxmlformats.org/drawingml/2006/table">
            <a:tbl>
              <a:tblPr/>
              <a:tblGrid>
                <a:gridCol w="6607080"/>
                <a:gridCol w="1111320"/>
                <a:gridCol w="1004760"/>
                <a:gridCol w="963720"/>
              </a:tblGrid>
              <a:tr h="53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3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411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РАСХОДОВ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1 9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0 4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1 7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09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7 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1 7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4 0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822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онирование законодательных (представительных) органов государственной власти и представительных органов муниципальных образ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1143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9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9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9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330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дебная сист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846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деятельности финансовых, налоговых и таможенных органов и органов финансового (финансово-бюджетного) надз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75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75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75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411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ервные фон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411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общегосударственн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0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6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357120" y="1216080"/>
          <a:ext cx="9433080" cy="4346640"/>
        </p:xfrm>
        <a:graphic>
          <a:graphicData uri="http://schemas.openxmlformats.org/drawingml/2006/table">
            <a:tbl>
              <a:tblPr/>
              <a:tblGrid>
                <a:gridCol w="5932440"/>
                <a:gridCol w="1438560"/>
                <a:gridCol w="1014120"/>
                <a:gridCol w="1047960"/>
              </a:tblGrid>
              <a:tr h="639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3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РАСХОДОВ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1 9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0 4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1 7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65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ОБО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466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билизационная и вневойсковая подготов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66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билизационная подготовка эконом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920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9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6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5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920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щита населения и территории от чрезвычайных ситуаций природного и техногенного характера, гражданская обо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9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6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 5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245" name="Прямоугольник 5"/>
          <p:cNvSpPr/>
          <p:nvPr/>
        </p:nvSpPr>
        <p:spPr>
          <a:xfrm>
            <a:off x="133200" y="147600"/>
            <a:ext cx="950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Разделы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«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НАЦИОНАЛЬНАЯ ОБОРОНА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»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и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 «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НАЦИОНАЛЬНАЯ БЕЗОПАСНОСТЬ И ПРАВООХРАНИТЕЛЬНАЯ ДЕЯТЕЛЬНОСТЬ»,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(тыс. руб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Прямоугольник 5"/>
          <p:cNvSpPr/>
          <p:nvPr/>
        </p:nvSpPr>
        <p:spPr>
          <a:xfrm>
            <a:off x="501480" y="147600"/>
            <a:ext cx="913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Разделы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«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НАЦИОНАЛЬНАЯ ЭКОНОМИКА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» и «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ЖИЛИЩНО-КОММУНАЛЬНОЕ ХОЗЯЙСТВО»,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   (тыс. руб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15920" y="1076400"/>
          <a:ext cx="9748800" cy="4638600"/>
        </p:xfrm>
        <a:graphic>
          <a:graphicData uri="http://schemas.openxmlformats.org/drawingml/2006/table">
            <a:tbl>
              <a:tblPr/>
              <a:tblGrid>
                <a:gridCol w="4949640"/>
                <a:gridCol w="1595520"/>
                <a:gridCol w="1560600"/>
                <a:gridCol w="1643040"/>
              </a:tblGrid>
              <a:tr h="500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3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РАСХОДОВ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1 9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0 4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1 7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4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 3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 8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 7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376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экономически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льское хозяйство и рыболов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н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8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8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4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рожное хозяйство (дорожные фонд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7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3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4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89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национальной эконом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 4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3762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е хозя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4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унальное хозя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ЖК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4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5"/>
          <p:cNvSpPr/>
          <p:nvPr/>
        </p:nvSpPr>
        <p:spPr>
          <a:xfrm>
            <a:off x="501480" y="147600"/>
            <a:ext cx="913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РАСХОДЫ НА СОЦИАЛЬНО-КУЛЬТУРНУЮ СФЕРУ,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(тыс. руб.)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368280" y="747720"/>
          <a:ext cx="9266400" cy="5207040"/>
        </p:xfrm>
        <a:graphic>
          <a:graphicData uri="http://schemas.openxmlformats.org/drawingml/2006/table">
            <a:tbl>
              <a:tblPr/>
              <a:tblGrid>
                <a:gridCol w="4994280"/>
                <a:gridCol w="1359000"/>
                <a:gridCol w="1368360"/>
                <a:gridCol w="1544760"/>
              </a:tblGrid>
              <a:tr h="53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3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РАСХОДОВ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1 9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0 4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1 7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11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3 2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6 1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 0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76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школьное 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 3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 3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 4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4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е 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4 4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0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3 8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97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полнительное образование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8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1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4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деж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6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 5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 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 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11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 2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1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3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74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9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8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4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культуры, кинематограф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11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2 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 4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0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74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нсионное обесп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2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3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6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ое обеспечение нас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4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храна семьи и дет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 7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9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5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74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социальной поли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2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2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11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0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82800" rIns="82800" tIns="41400" bIns="414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82800" marR="828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Прямоугольник 5"/>
          <p:cNvSpPr/>
          <p:nvPr/>
        </p:nvSpPr>
        <p:spPr>
          <a:xfrm>
            <a:off x="501480" y="147600"/>
            <a:ext cx="913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МЕЖБЮДЖЕТНЫЕ ТРАНСФЕРТЫ ОБЩЕГО ХАРАКТЕРА БЮДЖЕТАМ БЮДЖЕТНОЙ СИСТЕМЫ РОССИЙСКОЙ ФЕДЕРАЦИИ, (тыс. руб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743040" y="1405080"/>
          <a:ext cx="8991360" cy="3404880"/>
        </p:xfrm>
        <a:graphic>
          <a:graphicData uri="http://schemas.openxmlformats.org/drawingml/2006/table">
            <a:tbl>
              <a:tblPr/>
              <a:tblGrid>
                <a:gridCol w="5844960"/>
                <a:gridCol w="1117800"/>
                <a:gridCol w="1025280"/>
                <a:gridCol w="1003320"/>
              </a:tblGrid>
              <a:tr h="623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3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927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  БЮДЖЕТАМ ПОС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3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927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на выравнивание бюджетной обеспеченности бюджетов поселений из областного 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927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трансферты на обеспечение сбалансированности бюджетов поселений из районного 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Прямоугольник 3"/>
          <p:cNvSpPr/>
          <p:nvPr/>
        </p:nvSpPr>
        <p:spPr>
          <a:xfrm>
            <a:off x="246240" y="79200"/>
            <a:ext cx="93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ХОДЫ НА ИСПОЛНЕНИЕ ПУБЛИЧНЫХ НОРМАТИВНЫХ ОБЯЗАТЕЛЬСТВ, (тыс. руб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46240" y="1136520"/>
          <a:ext cx="9329400" cy="2668680"/>
        </p:xfrm>
        <a:graphic>
          <a:graphicData uri="http://schemas.openxmlformats.org/drawingml/2006/table">
            <a:tbl>
              <a:tblPr/>
              <a:tblGrid>
                <a:gridCol w="6173640"/>
                <a:gridCol w="1087560"/>
                <a:gridCol w="1058760"/>
                <a:gridCol w="1009440"/>
              </a:tblGrid>
              <a:tr h="401760">
                <a:tc>
                  <a:txBody>
                    <a:bodyPr lIns="66600" rIns="6660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3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952560"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ганизация и осуществление деятельности по опеке и попечительству, выплата ежемесячных денежных средств на содержание и проезд ребенка, переданного на воспитание в семью опекуна (попечителя), приемную семью, вознаграждения приемным родителям, подготовку лиц, желающих принять на воспитание в свою семью ребенка, оставшегося без попечения роди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0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23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7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60440"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лата единовременного пособия при всех формах устройства детей, лишенных родительского попечения, в семь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52160">
                <a:tc>
                  <a:txBody>
                    <a:bodyPr lIns="7560" rIns="7560" tIns="75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плата муниципальных пенсий (доплат к государственным пенсия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2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35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401760">
                <a:tc>
                  <a:txBody>
                    <a:bodyPr lIns="66600" rIns="66600" tIns="936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6600" marR="666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66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 93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4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330120" y="165240"/>
            <a:ext cx="92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Уважаемые граждане, жители Навлинского района!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Рисунок 5" descr=""/>
          <p:cNvPicPr/>
          <p:nvPr/>
        </p:nvPicPr>
        <p:blipFill>
          <a:blip r:embed="rId1"/>
          <a:stretch/>
        </p:blipFill>
        <p:spPr>
          <a:xfrm>
            <a:off x="6829560" y="4484520"/>
            <a:ext cx="3076560" cy="201636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2"/>
          <p:cNvSpPr/>
          <p:nvPr/>
        </p:nvSpPr>
        <p:spPr>
          <a:xfrm>
            <a:off x="85680" y="762120"/>
            <a:ext cx="98204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Бюджет для граждан» познакомит Вас с положениями проекта основного финансового документа </a:t>
            </a:r>
            <a:r>
              <a:rPr b="0" lang="ru-RU" sz="1600" spc="-1" strike="noStrike">
                <a:solidFill>
                  <a:srgbClr val="664a38"/>
                </a:solidFill>
                <a:latin typeface="Times New Roman"/>
              </a:rPr>
              <a:t>Навлинского района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шения Навлинского районного Совета народных депутатов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«О бюджете Навлинского муниципального района Брянской области на 2021 год и на плановый период 2022 и 2023 годов»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Представленная информация предназначена для широкого круга пользователей и будет интересна и полезна для всех, так как бюджет затрагивает интересы каждого жителя Навлинского район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Граждане – и как налогоплательщики, и как потребители общественных благ – должны быть уверены в том, что передаваемые ими в распоряжение государства средства используются прозрачно и эффективно, приносят конкретные результаты как для общества в целом, так и для каждой семьи,  для  каждого человек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Мы постарались  в доступной  и понятной для граждан форме показать понятия и                                                                                     основные параметры бюджета район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лава администрации района                                    А.А. Прудник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Блок-схема: перфолента 4"/>
          <p:cNvGrpSpPr/>
          <p:nvPr/>
        </p:nvGrpSpPr>
        <p:grpSpPr>
          <a:xfrm>
            <a:off x="2066760" y="133200"/>
            <a:ext cx="6510600" cy="4687920"/>
            <a:chOff x="2066760" y="133200"/>
            <a:chExt cx="6510600" cy="4687920"/>
          </a:xfrm>
        </p:grpSpPr>
        <p:pic>
          <p:nvPicPr>
            <p:cNvPr id="255" name="Блок-схема: перфолента 4" descr=""/>
            <p:cNvPicPr/>
            <p:nvPr/>
          </p:nvPicPr>
          <p:blipFill>
            <a:blip r:embed="rId1"/>
            <a:stretch/>
          </p:blipFill>
          <p:spPr>
            <a:xfrm>
              <a:off x="2066760" y="133200"/>
              <a:ext cx="6510600" cy="468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2071800" y="1076400"/>
              <a:ext cx="6492600" cy="279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c00000"/>
                  </a:solidFill>
                  <a:latin typeface="Times New Roman"/>
                </a:rPr>
                <a:t>БЮДЖЕТ 2021-2023 годы-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c00000"/>
                  </a:solidFill>
                  <a:latin typeface="Times New Roman"/>
                </a:rPr>
                <a:t>ПРОГРАММНЫЙ БЮДЖЕТ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Схема 1" descr=""/>
          <p:cNvPicPr/>
          <p:nvPr/>
        </p:nvPicPr>
        <p:blipFill>
          <a:blip r:embed="rId1"/>
          <a:stretch/>
        </p:blipFill>
        <p:spPr>
          <a:xfrm>
            <a:off x="1116000" y="433440"/>
            <a:ext cx="8240760" cy="52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ик 1"/>
          <p:cNvSpPr/>
          <p:nvPr/>
        </p:nvSpPr>
        <p:spPr>
          <a:xfrm>
            <a:off x="0" y="0"/>
            <a:ext cx="990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МУНИЦИПАЛЬНАЯ ПРОГРАММ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«РЕАЛИЗАЦИЯ ПОЛНОМОЧИЙ АДМИНИСТРАЦИИ НАВЛИНСКОГО РАЙОНА»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(2019 – 2023 ГОДЫ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2"/>
          <p:cNvSpPr/>
          <p:nvPr/>
        </p:nvSpPr>
        <p:spPr>
          <a:xfrm>
            <a:off x="736560" y="1220760"/>
            <a:ext cx="9093240" cy="39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 ПРОГРАММ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Эффективное исполнение полномочий по решению  вопросов местного значения и отдельных государственных полномочий Брянской области, переданных в соответствии с законами Брян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И ПРОГРАММ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ализация полномочий администрации Навлинского района  по решению вопросов местного значения муниципального образования «Навлинского муниципального района Брянской области», а также отдельных государственных полномочий Брянской области, переданных в соответствии с законами Брянской област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здание условий для оптимизации и повышения эффективности расходов бюджета Навлинского муниципального района в части расходов администрации Навлинского  район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ирование условий для обеспечения комплексного социально-экономического развит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1"/>
          <p:cNvSpPr/>
          <p:nvPr/>
        </p:nvSpPr>
        <p:spPr>
          <a:xfrm>
            <a:off x="0" y="0"/>
            <a:ext cx="96789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Состав муниципальной программ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«РЕАЛИЗАЦИЯ ПОЛНОМОЧИЙ АДМИНИСТРАЦИИ НАВЛИНСКОГО РАЙОНА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(2019 – 2023 ГОДЫ)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(тыс. руб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243000" y="914400"/>
          <a:ext cx="9623160" cy="5578560"/>
        </p:xfrm>
        <a:graphic>
          <a:graphicData uri="http://schemas.openxmlformats.org/drawingml/2006/table">
            <a:tbl>
              <a:tblPr/>
              <a:tblGrid>
                <a:gridCol w="7388280"/>
                <a:gridCol w="828360"/>
                <a:gridCol w="692280"/>
                <a:gridCol w="714240"/>
              </a:tblGrid>
              <a:tr h="224280"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е расход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3 г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41652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материально-техническому и финансовому обеспечению  деятельности аппарата администрации Навлинского рай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9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9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9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41652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защите населения и территории от чрезвычайных ситуаций природного и техногенного характера, гражданская оборона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9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6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5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41652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реализации стратегической роли культуры как духовно-нравственного основания развития личности и государства, сохранения культурного и исторического наслед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 0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 9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1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2428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поддержке сельскохозяйственных товаропроизводител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22428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реализации единой социальной политики на территории Навлинского рай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25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3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2428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созданию условий успешной самореализации молодеж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41652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вовлечению в занятия физической культурой и массовом спортом, участие в соревнованиях различного уровн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3580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осуществлению отдельных государственных полномочий Брянской област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 3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3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8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22428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области жилищно-коммунального хозяй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2428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созданию условий для эффективной деятельности многофункционального центр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9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9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9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22428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мобилизационной подготовки эконом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2428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вершенствование системы управления пассажирскими перевозкам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8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8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22428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гиональный проект  "Чистая вода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4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6496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й проект «Современная школа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22428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гиональный проект "Спорт-норма жизни"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7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41652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бюджетные отношения с муниципальными образованиями за счет средств бюджета Навлинского муниципального рай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7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3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4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22428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программа «Обеспечение жильем молодых семей» (2019-2023гг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4408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программа «Поддержка местных инициатив граждан на территории Навлинского района» на 2019-2023 г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224280">
                <a:tc>
                  <a:txBody>
                    <a:bodyPr lIns="15840" rIns="15840" tIns="15840" bIns="158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 по муниципальной программ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 1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 2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5840" rIns="15840" tIns="15840" bIns="158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 1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5840" marR="158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Прямоугольник 1"/>
          <p:cNvSpPr/>
          <p:nvPr/>
        </p:nvSpPr>
        <p:spPr>
          <a:xfrm>
            <a:off x="0" y="0"/>
            <a:ext cx="967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МУНИЦИПАЛЬНАЯ ПРОГРАММ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«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РАЗВИТИЕ ОБРАЗОВАНИЯ НАВЛИНСКОГО РАЙОНА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(2019 – 2023 ГОДЫ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Прямоугольник 4"/>
          <p:cNvSpPr/>
          <p:nvPr/>
        </p:nvSpPr>
        <p:spPr>
          <a:xfrm>
            <a:off x="728640" y="1168560"/>
            <a:ext cx="9050400" cy="41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 программ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- Обеспечение высокого качества образования в соответствии с меняющимися запросами населения и перспективными задачами развития российского общества и экономик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и программы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формирование экономических условий, обеспечивающих муниципальную систему образования финансовыми, материально-техническими ресурсам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бновление содержания и структуры образования на основе новых стандартов общего образования второго поколения. Повышение качества образования на основе развития инновационных процессов. Развитие системы оценки качества образования на каждом его уровн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существление комплексных мер по стимулированию инновационной деятельности образовательных учреждений и педагогических работнико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здание механизмов координации и интеграции сетевого взаимодействия в работе с одаренными детьми и талантливой молодежью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.создание необходимых условий полноценного и безопасного отдыха и оздоровления дете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овышение профессиональной компетентности педагогических и управленческих кадров, укрепление их социального статуса через разработку новой модели системы повышения  квалификации педагогических работников района, участие педагогов в конкурсах профессионального мастерств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оугольник 1"/>
          <p:cNvSpPr/>
          <p:nvPr/>
        </p:nvSpPr>
        <p:spPr>
          <a:xfrm>
            <a:off x="0" y="0"/>
            <a:ext cx="96789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Состав муниципальной программы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«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Calibri"/>
              </a:rPr>
              <a:t>РАЗВИТИЕ ОБРАЗОВАНИЯ НАВЛИНСКОГО РАЙОНА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(2019 – 2023 ГОДЫ),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(тыс. руб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298440" y="861840"/>
          <a:ext cx="9269280" cy="4786560"/>
        </p:xfrm>
        <a:graphic>
          <a:graphicData uri="http://schemas.openxmlformats.org/drawingml/2006/table">
            <a:tbl>
              <a:tblPr/>
              <a:tblGrid>
                <a:gridCol w="6289560"/>
                <a:gridCol w="997200"/>
                <a:gridCol w="1020600"/>
                <a:gridCol w="961920"/>
              </a:tblGrid>
              <a:tr h="280440"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е расхо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3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28044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тие дошкольно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 0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 0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 2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8008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тие обще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6 1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6 7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3 6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38304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ериально-техническое, финансовое, информационное обеспечение деятельно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8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8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8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4108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изация отдельных мероприятий в сфере образования и материально-техническое обеспечение прочих учреждений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6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6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4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35784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уществление отдельных государственных полномочий Брянской обла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9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9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9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5080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организации временного   трудоустройства несовершеннолетних граждан в возрасте от 14 до 18 лет в Навлинском райо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53928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совершенствованию системы   профилактики правонарушений и усиление борьбы с преступность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8044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изация мероприятий по охране семьи и дет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5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5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5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8008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проведению оздоровительной кампании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8044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тие дополнительно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8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0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5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45540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функционирования модели персонифицированного финансирования дополнительного образования дет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9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9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96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f3ea"/>
                    </a:solidFill>
                  </a:tcPr>
                </a:tc>
              </a:tr>
              <a:tr h="27720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 по муниципальной програ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9 3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7 1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7 1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1"/>
          <p:cNvSpPr/>
          <p:nvPr/>
        </p:nvSpPr>
        <p:spPr>
          <a:xfrm>
            <a:off x="0" y="0"/>
            <a:ext cx="96789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МУНИЦИПАЛЬНАЯ ПРОГРАММ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«УПРАВЛЕНИЕ МУНИЦИПАЛЬНЫМИ ФИНАНСАМИ МУНИЦИПАЛЬНОГО ОБРАЗОВАН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«НАВЛИНСКИЙ РАЙОН» </a:t>
            </a: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(2019 – 2023 ГОДЫ), (тыс. руб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Прямоугольник 5"/>
          <p:cNvSpPr/>
          <p:nvPr/>
        </p:nvSpPr>
        <p:spPr>
          <a:xfrm>
            <a:off x="85680" y="853920"/>
            <a:ext cx="9820440" cy="25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и программы -  обеспечение долгосрочной сбалансированности и устойчивости бюджетной системы муниципального образования «Навлинский район», создание условий для оптимизации и повышения эффективности расходов бюджета района, создание условий для эффективного выполнения полномочий органов местного самоуправле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и программ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реализация мероприятий, направленных на сбалансированное управление расходами бюджета район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внедрение современных методов и технологий управления муниципальными финансам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овышение прозрачности бюджетной системы муниципального образования «Навлинский район»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выравнивание бюджетной обеспеченности муниципальных образований и поддержка мер по обеспечению сбалансированности местных бюджетов в Навлинском районе в рамках содействия органам местного самоуправления в осуществлении реализации полномочий по решению вопросов местного значен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326880" y="3909960"/>
          <a:ext cx="9352080" cy="1468440"/>
        </p:xfrm>
        <a:graphic>
          <a:graphicData uri="http://schemas.openxmlformats.org/drawingml/2006/table">
            <a:tbl>
              <a:tblPr/>
              <a:tblGrid>
                <a:gridCol w="6712200"/>
                <a:gridCol w="961920"/>
                <a:gridCol w="873000"/>
                <a:gridCol w="804960"/>
              </a:tblGrid>
              <a:tr h="405000"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е расхо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2946a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2946a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2946a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3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2946a"/>
                    </a:solidFill>
                  </a:tcPr>
                </a:tc>
              </a:tr>
              <a:tr h="45720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оприятия по материально-техническому, финансовому и информационному обеспечению деятельност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5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5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5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32688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изация мероприятий по межбюджетным отношениям с городскими и сельскими поселени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1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1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1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ef9f4"/>
                    </a:solidFill>
                  </a:tcPr>
                </a:tc>
              </a:tr>
              <a:tr h="279360">
                <a:tc>
                  <a:txBody>
                    <a:bodyPr lIns="17640" rIns="17640" tIns="17640" bIns="1764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 по муниципальной програ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7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7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17640" rIns="17640" tIns="17640" bIns="1764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7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Прямоугольник 1"/>
          <p:cNvSpPr/>
          <p:nvPr/>
        </p:nvSpPr>
        <p:spPr>
          <a:xfrm>
            <a:off x="0" y="0"/>
            <a:ext cx="96789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МУНИЦИПАЛЬНАЯ ПРОГРАММ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«УПРАВЛЕНИЕ МУНИЦИПАЛЬНОЙ СОБСТВЕННОСТЬЮ НАВЛИНСКОГО РАЙОНА БРЯНСКОЙ ОБЛАСТИ» (2019 – 2023 ГОДЫ), (тыс. руб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Прямоугольник 2"/>
          <p:cNvSpPr/>
          <p:nvPr/>
        </p:nvSpPr>
        <p:spPr>
          <a:xfrm>
            <a:off x="217440" y="830160"/>
            <a:ext cx="9461520" cy="31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 ПРОГРАММЫ - обеспечение эффективного управления, распоряжения, а также рационального использования муниципального имущества Навлинского района Брянской  област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И ПРОГРАММ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беспечение функционирования системы учета муниципального  имущества Навлинского района Брянской области, управления, распоряжения и контроля за  его рациональным использованием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осуществление приватизации муниципального  имущества Навлинского района Брянской области и обеспечение системного и планового подхода к приватизационному процессу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рганизация и координация работы по  управлению и распоряжению земельными  участками, находящимися в собственности  Навлинского района Брянской област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-распоряжение земельными участками, государственная собственность на которые не разграничена, находящимися на территории Навлинского района  Брян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291960" y="4179960"/>
          <a:ext cx="9461520" cy="1763640"/>
        </p:xfrm>
        <a:graphic>
          <a:graphicData uri="http://schemas.openxmlformats.org/drawingml/2006/table">
            <a:tbl>
              <a:tblPr/>
              <a:tblGrid>
                <a:gridCol w="5851800"/>
                <a:gridCol w="1108080"/>
                <a:gridCol w="1214280"/>
                <a:gridCol w="1287360"/>
              </a:tblGrid>
              <a:tr h="3344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е ра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3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547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териально-техническое и финансовое обеспечение деятельности отдела по управлению муниципальным имуществ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4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46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46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47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эффективного управления и распоряжения муниципальным имуществом Навлинского рай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33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 по муниципальной програ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9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4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рямоугольник 1"/>
          <p:cNvSpPr/>
          <p:nvPr/>
        </p:nvSpPr>
        <p:spPr>
          <a:xfrm>
            <a:off x="152280" y="0"/>
            <a:ext cx="9678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МУНИЦИПАЛЬНАЯ ПРОГРАММ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«ЭНЕРГОСБЕРЕЖЕНИЕ И ПОВЫШЕНИЕ ЭНЕРГЕТИЧЕСКОЙ ЭФФЕКТИВНОСТИ В НАВЛИНСКОМ МУНИЦИПАЛЬНОМ РАЙОНЕ БРЯНСКОЙ ОБЛАСТИ НА ПЕРИОД  2021 - 2025 ГОДЫ», (тыс. руб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Прямоугольник 4"/>
          <p:cNvSpPr/>
          <p:nvPr/>
        </p:nvSpPr>
        <p:spPr>
          <a:xfrm>
            <a:off x="235080" y="1077840"/>
            <a:ext cx="9671040" cy="32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algn="just">
              <a:lnSpc>
                <a:spcPct val="11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 Narrow"/>
              </a:rPr>
              <a:t>ЦЕЛЬ ПРОГРАММ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 algn="just">
              <a:lnSpc>
                <a:spcPct val="11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оздание организационных основ для реализации системы мер по энергосбережению и повышению энергоэффективност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нижение показателей энергоемкости и энергопотребления учреждений, предприятий и организаций, создание условий для перевода экономики муниципального образования на энергосберегающий путь развит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ЧИ ПРОГРАММЫ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- Проведение комплекса организационно-правовых мероприятий по управлению энергосбережением, в том числе создание системы показателей, характеризующих энергетическую эффективность при потреблении энергетических ресурсов, их мониторинга, а также сбора и анализа информации об энергоемкости экономики муниципального образова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- Разработка и реализация мероприятий направленных на энергосбережение и повышение энергетической эффективности учреждений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14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еспечение учета объемов потребляемых ТЭР и воды с использованием приборов учет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479520" y="4392720"/>
          <a:ext cx="9177120" cy="1216080"/>
        </p:xfrm>
        <a:graphic>
          <a:graphicData uri="http://schemas.openxmlformats.org/drawingml/2006/table">
            <a:tbl>
              <a:tblPr/>
              <a:tblGrid>
                <a:gridCol w="6308640"/>
                <a:gridCol w="1047600"/>
                <a:gridCol w="911520"/>
                <a:gridCol w="909360"/>
              </a:tblGrid>
              <a:tr h="296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правление рас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1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3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0c99c"/>
                    </a:solidFill>
                  </a:tcPr>
                </a:tc>
              </a:tr>
              <a:tr h="622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изация мероприятий по повышению энергетической эффективности и обеспечению энергосбереж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edf"/>
                    </a:solidFill>
                  </a:tcPr>
                </a:tc>
              </a:tr>
              <a:tr h="297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 по муниципальной программ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Прямоугольник 2"/>
          <p:cNvSpPr/>
          <p:nvPr/>
        </p:nvSpPr>
        <p:spPr>
          <a:xfrm>
            <a:off x="312840" y="1095480"/>
            <a:ext cx="91742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программная часть бюджета на 2021 год определена в сумме 2 288 тыс. рублей, или 0,6 процента всей расходной части бюджета, в нее вошли расходы на обеспечение деятельности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urier Ne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едставительного органа муниципального образования – Навлинский районный Совет народных депутатов в сумме 761 тыс. руб.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urier Ne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нтрольно-счётного органа муниципального образования – Контрольно-счётная палата Навлинского района в сумме 1 227 тыс. ру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Courier New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езервный фонд администрации Навлинского района в объеме 300 тыс. руб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Прямоугольник 3"/>
          <p:cNvSpPr/>
          <p:nvPr/>
        </p:nvSpPr>
        <p:spPr>
          <a:xfrm>
            <a:off x="95400" y="157320"/>
            <a:ext cx="962964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НЕПРОГРАММНАЯ ЧАСТЬ РАСХОДОВ БЮДЖЕ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98040" y="-360"/>
            <a:ext cx="882828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о такое бюджет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12560" y="668160"/>
            <a:ext cx="9399240" cy="501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оответствии с Бюджетным кодексом Российской Федерации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бюджетом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является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форма образования и расходования денежных средст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, предназначенных для финансового обеспечения задач и функций государства и местного самоуправле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Бюджет состоит из трех основных частей: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ходов, расходов и источников финансирования дефицита бюджет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оходам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бюджета понимаются денежные средств, поступающие в бюджет в безвозмездном и безвозвратном порядке в соответствии с законодательством Российской Федераци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В соответствии с Бюджетным кодексом Российской Федерации доходы бюджета образуются за счет налоговых и неналоговых доходов, а также за счет безвозмездных поступлени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ходы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бюджета - это выплачиваемые из бюджета денежные средства, которые направляются на финансовое обеспечение задач и функций государственной власти и местного самоуправлени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фицит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бюджета - превышение расходов бюджета над его дохода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Сбалансированность бюджета по доходам и расхода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– 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основополагающее требование, предъявляемое к органам, составляющим и утверждающим бюдж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177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Овал 6"/>
          <p:cNvGrpSpPr/>
          <p:nvPr/>
        </p:nvGrpSpPr>
        <p:grpSpPr>
          <a:xfrm>
            <a:off x="2981160" y="2146320"/>
            <a:ext cx="3943440" cy="3352680"/>
            <a:chOff x="2981160" y="2146320"/>
            <a:chExt cx="3943440" cy="3352680"/>
          </a:xfrm>
        </p:grpSpPr>
        <p:pic>
          <p:nvPicPr>
            <p:cNvPr id="278" name="Овал 6" descr=""/>
            <p:cNvPicPr/>
            <p:nvPr/>
          </p:nvPicPr>
          <p:blipFill>
            <a:blip r:embed="rId1"/>
            <a:stretch/>
          </p:blipFill>
          <p:spPr>
            <a:xfrm>
              <a:off x="2981160" y="2146320"/>
              <a:ext cx="394344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3543480" y="2617920"/>
              <a:ext cx="2498400" cy="20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TextBox 5"/>
          <p:cNvSpPr/>
          <p:nvPr/>
        </p:nvSpPr>
        <p:spPr>
          <a:xfrm>
            <a:off x="1494000" y="2479680"/>
            <a:ext cx="6813360" cy="23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инансовое управление администрации Навлинского райо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 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чтовый адрес: 242130, п. Навля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л. Красных Партизан 21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акс: (4832) 21988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Тел.: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8(48342)21988, 8(48342)2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фициальный сайт администрации района: </a:t>
            </a:r>
            <a:r>
              <a:rPr b="0" lang="ru-RU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admnav.ru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ahoma"/>
              </a:rPr>
              <a:t>E-mail: </a:t>
            </a:r>
            <a:r>
              <a:rPr b="0" lang="ru-RU" sz="1600" spc="-1" strike="noStrike" u="sng">
                <a:solidFill>
                  <a:srgbClr val="ccccff"/>
                </a:solidFill>
                <a:uFillTx/>
                <a:latin typeface="Times New Roman"/>
                <a:ea typeface="Tahoma"/>
                <a:hlinkClick r:id="rId3"/>
              </a:rPr>
              <a:t>nvlfinotdel@mail.r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15"/>
          <p:cNvSpPr/>
          <p:nvPr/>
        </p:nvSpPr>
        <p:spPr>
          <a:xfrm>
            <a:off x="1958400" y="1101600"/>
            <a:ext cx="559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Спасибо за внимание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808200" y="163440"/>
            <a:ext cx="8721720" cy="55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87480" y="0"/>
            <a:ext cx="922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ые понят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Прямоугольник 2"/>
          <p:cNvSpPr/>
          <p:nvPr/>
        </p:nvSpPr>
        <p:spPr>
          <a:xfrm>
            <a:off x="177840" y="1058760"/>
            <a:ext cx="972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Вертикальный свиток 5"/>
          <p:cNvSpPr/>
          <p:nvPr/>
        </p:nvSpPr>
        <p:spPr>
          <a:xfrm>
            <a:off x="522360" y="523800"/>
            <a:ext cx="8358120" cy="209412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00b0f0"/>
              </a:gs>
              <a:gs pos="100000">
                <a:srgbClr val="8181de"/>
              </a:gs>
            </a:gsLst>
            <a:lin ang="5400000"/>
          </a:gradFill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жбюджетные трансферты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 средства, предоставляемые одним бюджетом бюджетной системы Российской Федерации другому бюджету бюджетной системы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Скругленная прямоугольная выноска 7"/>
          <p:cNvSpPr/>
          <p:nvPr/>
        </p:nvSpPr>
        <p:spPr>
          <a:xfrm>
            <a:off x="787320" y="3076560"/>
            <a:ext cx="2643120" cy="2117880"/>
          </a:xfrm>
          <a:prstGeom prst="wedgeRoundRectCallout">
            <a:avLst>
              <a:gd name="adj1" fmla="val -26523"/>
              <a:gd name="adj2" fmla="val 70023"/>
              <a:gd name="adj3" fmla="val 16667"/>
            </a:avLst>
          </a:prstGeom>
          <a:gradFill rotWithShape="0">
            <a:gsLst>
              <a:gs pos="0">
                <a:srgbClr val="49c18d"/>
              </a:gs>
              <a:gs pos="100000">
                <a:srgbClr val="cceedf"/>
              </a:gs>
            </a:gsLst>
            <a:lin ang="16200000"/>
          </a:gradFill>
          <a:ln w="9360">
            <a:solidFill>
              <a:srgbClr val="9bbb59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Calibri"/>
                <a:ea typeface="Times New Roman"/>
              </a:rPr>
              <a:t>ДОТАЦИИ </a:t>
            </a:r>
            <a:r>
              <a:rPr b="1" i="1" lang="ru-RU" sz="1600" spc="-1" strike="noStrike">
                <a:solidFill>
                  <a:srgbClr val="3333cc"/>
                </a:solidFill>
                <a:latin typeface="Calibri"/>
                <a:ea typeface="Times New Roman"/>
              </a:rPr>
              <a:t>-</a:t>
            </a:r>
            <a:r>
              <a:rPr b="0" lang="ru-RU" sz="1400" spc="-1" strike="noStrike">
                <a:solidFill>
                  <a:srgbClr val="3333cc"/>
                </a:solidFill>
                <a:latin typeface="Calibri"/>
                <a:ea typeface="Times New Roman"/>
              </a:rPr>
              <a:t>                           </a:t>
            </a:r>
            <a:r>
              <a:rPr b="0" lang="ru-RU" sz="1800" spc="-1" strike="noStrike">
                <a:solidFill>
                  <a:srgbClr val="3333cc"/>
                </a:solidFill>
                <a:latin typeface="Calibri"/>
                <a:ea typeface="Times New Roman"/>
              </a:rPr>
              <a:t>без установления направлений и (или) условий их использова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Скругленная прямоугольная выноска 8"/>
          <p:cNvSpPr/>
          <p:nvPr/>
        </p:nvSpPr>
        <p:spPr>
          <a:xfrm>
            <a:off x="3919680" y="3165480"/>
            <a:ext cx="2714400" cy="22860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gradFill rotWithShape="0">
            <a:gsLst>
              <a:gs pos="0">
                <a:srgbClr val="f5f5fc"/>
              </a:gs>
              <a:gs pos="100000">
                <a:srgbClr val="c2c2f0"/>
              </a:gs>
            </a:gsLst>
            <a:lin ang="5400000"/>
          </a:gradFill>
          <a:ln w="9360">
            <a:solidFill>
              <a:srgbClr val="8064a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Calibri"/>
                <a:ea typeface="Times New Roman"/>
              </a:rPr>
              <a:t>СУБВЕН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Calibr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Calibri"/>
                <a:ea typeface="Times New Roman"/>
              </a:rPr>
              <a:t>на финансир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Calibri"/>
                <a:ea typeface="Times New Roman"/>
              </a:rPr>
              <a:t>«переданных» другим публично-правовым образованиям полномоч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Скругленная прямоугольная выноска 9"/>
          <p:cNvSpPr/>
          <p:nvPr/>
        </p:nvSpPr>
        <p:spPr>
          <a:xfrm>
            <a:off x="6946920" y="3121200"/>
            <a:ext cx="2714760" cy="22860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gradFill rotWithShape="0">
            <a:gsLst>
              <a:gs pos="0">
                <a:srgbClr val="f0fffb"/>
              </a:gs>
              <a:gs pos="100000">
                <a:srgbClr val="a3ffe8"/>
              </a:gs>
            </a:gsLst>
            <a:lin ang="5400000"/>
          </a:gradFill>
          <a:ln w="9360">
            <a:solidFill>
              <a:srgbClr val="8064a2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Calibri"/>
                <a:ea typeface="Times New Roman"/>
              </a:rPr>
              <a:t>СУБСИД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62699"/>
                </a:solidFill>
                <a:latin typeface="Calibri"/>
              </a:rPr>
              <a:t>на софинансирование расходных обязательств, возникающих при выполнении полномочий по вопросам местного знач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87480" y="0"/>
            <a:ext cx="922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ые понят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268200" y="1046160"/>
            <a:ext cx="972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Овальная выноска 11"/>
          <p:cNvSpPr/>
          <p:nvPr/>
        </p:nvSpPr>
        <p:spPr>
          <a:xfrm>
            <a:off x="939960" y="523800"/>
            <a:ext cx="2360520" cy="1143000"/>
          </a:xfrm>
          <a:prstGeom prst="wedgeEllipseCallout">
            <a:avLst>
              <a:gd name="adj1" fmla="val -21435"/>
              <a:gd name="adj2" fmla="val 68574"/>
            </a:avLst>
          </a:prstGeom>
          <a:solidFill>
            <a:srgbClr val="fa6ed5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ефиц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Овальная выноска 12"/>
          <p:cNvSpPr/>
          <p:nvPr/>
        </p:nvSpPr>
        <p:spPr>
          <a:xfrm>
            <a:off x="6769080" y="539640"/>
            <a:ext cx="2546280" cy="1143000"/>
          </a:xfrm>
          <a:prstGeom prst="wedgeEllipseCallout">
            <a:avLst>
              <a:gd name="adj1" fmla="val -21435"/>
              <a:gd name="adj2" fmla="val 68574"/>
            </a:avLst>
          </a:prstGeom>
          <a:solidFill>
            <a:srgbClr val="92d05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Профици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Блок-схема: процесс 13" descr=""/>
          <p:cNvPicPr/>
          <p:nvPr/>
        </p:nvPicPr>
        <p:blipFill>
          <a:blip r:embed="rId1"/>
          <a:stretch/>
        </p:blipFill>
        <p:spPr>
          <a:xfrm>
            <a:off x="1225440" y="1908000"/>
            <a:ext cx="1689120" cy="3316320"/>
          </a:xfrm>
          <a:prstGeom prst="rect">
            <a:avLst/>
          </a:prstGeom>
          <a:ln w="0">
            <a:noFill/>
          </a:ln>
        </p:spPr>
      </p:pic>
      <p:pic>
        <p:nvPicPr>
          <p:cNvPr id="119" name="Прямоугольник 15" descr=""/>
          <p:cNvPicPr/>
          <p:nvPr/>
        </p:nvPicPr>
        <p:blipFill>
          <a:blip r:embed="rId2"/>
          <a:stretch/>
        </p:blipFill>
        <p:spPr>
          <a:xfrm>
            <a:off x="2908440" y="2620800"/>
            <a:ext cx="1187280" cy="2676600"/>
          </a:xfrm>
          <a:prstGeom prst="rect">
            <a:avLst/>
          </a:prstGeom>
          <a:ln w="0">
            <a:noFill/>
          </a:ln>
        </p:spPr>
      </p:pic>
      <p:sp>
        <p:nvSpPr>
          <p:cNvPr id="120" name="Скругленный прямоугольник 17"/>
          <p:cNvSpPr/>
          <p:nvPr/>
        </p:nvSpPr>
        <p:spPr>
          <a:xfrm>
            <a:off x="1050840" y="5211720"/>
            <a:ext cx="321480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превышение расходов бюджета над его доход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Скругленный прямоугольник 19"/>
          <p:cNvSpPr/>
          <p:nvPr/>
        </p:nvSpPr>
        <p:spPr>
          <a:xfrm>
            <a:off x="5880240" y="5218200"/>
            <a:ext cx="3214440" cy="857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превышение доходов бюджета над его расход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Прямоугольник 20" descr=""/>
          <p:cNvPicPr/>
          <p:nvPr/>
        </p:nvPicPr>
        <p:blipFill>
          <a:blip r:embed="rId3"/>
          <a:stretch/>
        </p:blipFill>
        <p:spPr>
          <a:xfrm>
            <a:off x="6267600" y="1994040"/>
            <a:ext cx="1474560" cy="3224160"/>
          </a:xfrm>
          <a:prstGeom prst="rect">
            <a:avLst/>
          </a:prstGeom>
          <a:ln w="0">
            <a:noFill/>
          </a:ln>
        </p:spPr>
      </p:pic>
      <p:pic>
        <p:nvPicPr>
          <p:cNvPr id="123" name="Блок-схема: процесс 21" descr=""/>
          <p:cNvPicPr/>
          <p:nvPr/>
        </p:nvPicPr>
        <p:blipFill>
          <a:blip r:embed="rId4"/>
          <a:stretch/>
        </p:blipFill>
        <p:spPr>
          <a:xfrm>
            <a:off x="7729560" y="2664000"/>
            <a:ext cx="101772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8040" y="-360"/>
            <a:ext cx="882828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Основные понятия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Как детализируются расходы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43000" y="298080"/>
            <a:ext cx="967896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1792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Вертикальный свиток 3"/>
          <p:cNvSpPr/>
          <p:nvPr/>
        </p:nvSpPr>
        <p:spPr>
          <a:xfrm>
            <a:off x="738360" y="1214280"/>
            <a:ext cx="2571480" cy="1285920"/>
          </a:xfrm>
          <a:prstGeom prst="verticalScroll">
            <a:avLst>
              <a:gd name="adj" fmla="val 12500"/>
            </a:avLst>
          </a:prstGeom>
          <a:solidFill>
            <a:srgbClr val="00b0f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Программные  расх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Вертикальный свиток 4"/>
          <p:cNvSpPr/>
          <p:nvPr/>
        </p:nvSpPr>
        <p:spPr>
          <a:xfrm>
            <a:off x="6622920" y="1214280"/>
            <a:ext cx="3011760" cy="1285920"/>
          </a:xfrm>
          <a:prstGeom prst="verticalScroll">
            <a:avLst>
              <a:gd name="adj" fmla="val 12500"/>
            </a:avLst>
          </a:prstGeom>
          <a:solidFill>
            <a:srgbClr val="60c99c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Муниципальные програм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Стрелка вправо 5"/>
          <p:cNvSpPr/>
          <p:nvPr/>
        </p:nvSpPr>
        <p:spPr>
          <a:xfrm>
            <a:off x="3699000" y="4506840"/>
            <a:ext cx="2600280" cy="89064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ccb79c"/>
          </a:solidFill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6 ГРБ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Стрелка влево 6"/>
          <p:cNvSpPr/>
          <p:nvPr/>
        </p:nvSpPr>
        <p:spPr>
          <a:xfrm>
            <a:off x="3763800" y="2995560"/>
            <a:ext cx="2379960" cy="857160"/>
          </a:xfrm>
          <a:prstGeom prst="leftArrow">
            <a:avLst>
              <a:gd name="adj1" fmla="val 50000"/>
              <a:gd name="adj2" fmla="val 50017"/>
            </a:avLst>
          </a:prstGeom>
          <a:solidFill>
            <a:srgbClr val="ccb79c"/>
          </a:solidFill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10 раздел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Вертикальный свиток 8"/>
          <p:cNvSpPr/>
          <p:nvPr/>
        </p:nvSpPr>
        <p:spPr>
          <a:xfrm>
            <a:off x="573120" y="4317840"/>
            <a:ext cx="2736720" cy="1285920"/>
          </a:xfrm>
          <a:prstGeom prst="verticalScroll">
            <a:avLst>
              <a:gd name="adj" fmla="val 12500"/>
            </a:avLst>
          </a:prstGeom>
          <a:solidFill>
            <a:srgbClr val="92d05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Ведомственная структу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Вертикальный свиток 9"/>
          <p:cNvSpPr/>
          <p:nvPr/>
        </p:nvSpPr>
        <p:spPr>
          <a:xfrm>
            <a:off x="573120" y="2805120"/>
            <a:ext cx="2571840" cy="1285920"/>
          </a:xfrm>
          <a:prstGeom prst="verticalScroll">
            <a:avLst>
              <a:gd name="adj" fmla="val 12500"/>
            </a:avLst>
          </a:prstGeom>
          <a:solidFill>
            <a:srgbClr val="ffc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Направление средст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Вертикальный свиток 10"/>
          <p:cNvSpPr/>
          <p:nvPr/>
        </p:nvSpPr>
        <p:spPr>
          <a:xfrm>
            <a:off x="6711840" y="4292640"/>
            <a:ext cx="3194280" cy="1490760"/>
          </a:xfrm>
          <a:prstGeom prst="verticalScroll">
            <a:avLst>
              <a:gd name="adj" fmla="val 12500"/>
            </a:avLst>
          </a:prstGeom>
          <a:solidFill>
            <a:srgbClr val="ffc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Times New Roman"/>
              </a:rPr>
              <a:t>Главные распорядители бюджетных средств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Вертикальный свиток 11"/>
          <p:cNvSpPr/>
          <p:nvPr/>
        </p:nvSpPr>
        <p:spPr>
          <a:xfrm>
            <a:off x="6711840" y="2808360"/>
            <a:ext cx="3100320" cy="1285920"/>
          </a:xfrm>
          <a:prstGeom prst="verticalScroll">
            <a:avLst>
              <a:gd name="adj" fmla="val 12500"/>
            </a:avLst>
          </a:prstGeom>
          <a:solidFill>
            <a:srgbClr val="00b0f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Функциональная структу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Стрелка вправо 12"/>
          <p:cNvSpPr/>
          <p:nvPr/>
        </p:nvSpPr>
        <p:spPr>
          <a:xfrm>
            <a:off x="3699000" y="1438200"/>
            <a:ext cx="2600280" cy="951120"/>
          </a:xfrm>
          <a:prstGeom prst="rightArrow">
            <a:avLst>
              <a:gd name="adj1" fmla="val 50000"/>
              <a:gd name="adj2" fmla="val 49982"/>
            </a:avLst>
          </a:prstGeom>
          <a:solidFill>
            <a:srgbClr val="ccb79c"/>
          </a:solidFill>
          <a:ln w="64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5 програм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10"/>
          <p:cNvSpPr/>
          <p:nvPr/>
        </p:nvSpPr>
        <p:spPr>
          <a:xfrm>
            <a:off x="382680" y="1033560"/>
            <a:ext cx="3198600" cy="15192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Бюджетное послани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Президента РФ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Федеральному Собранию РФ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О бюджетной политик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652680" y="149400"/>
            <a:ext cx="86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НА ЧЕМ ОСНОВЫВАЕТСЯ СОСТАВЛЕНИЕ ПРОЕКТА БЮДЖЕТА РАЙО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Oval 13"/>
          <p:cNvSpPr/>
          <p:nvPr/>
        </p:nvSpPr>
        <p:spPr>
          <a:xfrm>
            <a:off x="3581280" y="2309760"/>
            <a:ext cx="2952720" cy="1544760"/>
          </a:xfrm>
          <a:prstGeom prst="ellipse">
            <a:avLst/>
          </a:prstGeom>
          <a:solidFill>
            <a:srgbClr val="a3abf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ЕКТ БЮДЖЕ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 2021-2023 год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14"/>
          <p:cNvSpPr/>
          <p:nvPr/>
        </p:nvSpPr>
        <p:spPr>
          <a:xfrm>
            <a:off x="6534000" y="1033560"/>
            <a:ext cx="3151440" cy="15192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Прогноз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социально-экономического развити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Навлинского райо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15"/>
          <p:cNvSpPr/>
          <p:nvPr/>
        </p:nvSpPr>
        <p:spPr>
          <a:xfrm>
            <a:off x="6534000" y="3726000"/>
            <a:ext cx="3151440" cy="15192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Муниципальные программ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Навлинского райо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16"/>
          <p:cNvSpPr/>
          <p:nvPr/>
        </p:nvSpPr>
        <p:spPr>
          <a:xfrm>
            <a:off x="1658880" y="3995640"/>
            <a:ext cx="3294000" cy="15512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Основные направлени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бюджетной и налоговой политик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</a:rPr>
              <a:t>Навлинского район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7"/>
          <p:cNvSpPr/>
          <p:nvPr/>
        </p:nvSpPr>
        <p:spPr>
          <a:xfrm>
            <a:off x="3044880" y="3129120"/>
            <a:ext cx="812880" cy="866520"/>
          </a:xfrm>
          <a:custGeom>
            <a:avLst/>
            <a:gdLst>
              <a:gd name="textAreaLeft" fmla="*/ 467640 w 812880"/>
              <a:gd name="textAreaRight" fmla="*/ 683280 w 812880"/>
              <a:gd name="textAreaTop" fmla="*/ 116640 h 866520"/>
              <a:gd name="textAreaBottom" fmla="*/ 370800 h 86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4982" y="0"/>
                </a:lnTo>
                <a:lnTo>
                  <a:pt x="14982" y="2915"/>
                </a:lnTo>
                <a:lnTo>
                  <a:pt x="12427" y="2915"/>
                </a:lnTo>
                <a:cubicBezTo>
                  <a:pt x="5564" y="2915"/>
                  <a:pt x="0" y="7053"/>
                  <a:pt x="0" y="12158"/>
                </a:cubicBezTo>
                <a:lnTo>
                  <a:pt x="0" y="21600"/>
                </a:lnTo>
                <a:lnTo>
                  <a:pt x="6468" y="21600"/>
                </a:lnTo>
                <a:lnTo>
                  <a:pt x="6468" y="12158"/>
                </a:lnTo>
                <a:cubicBezTo>
                  <a:pt x="6468" y="10548"/>
                  <a:pt x="9136" y="9243"/>
                  <a:pt x="12427" y="9243"/>
                </a:cubicBezTo>
                <a:lnTo>
                  <a:pt x="14982" y="9243"/>
                </a:lnTo>
                <a:lnTo>
                  <a:pt x="14982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47f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18"/>
          <p:cNvSpPr/>
          <p:nvPr/>
        </p:nvSpPr>
        <p:spPr>
          <a:xfrm rot="5400000">
            <a:off x="3607560" y="1712160"/>
            <a:ext cx="814320" cy="866880"/>
          </a:xfrm>
          <a:custGeom>
            <a:avLst/>
            <a:gdLst>
              <a:gd name="textAreaLeft" fmla="*/ 468360 w 814320"/>
              <a:gd name="textAreaRight" fmla="*/ 684720 w 814320"/>
              <a:gd name="textAreaTop" fmla="*/ 117000 h 866880"/>
              <a:gd name="textAreaBottom" fmla="*/ 37080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4982" y="0"/>
                </a:lnTo>
                <a:lnTo>
                  <a:pt x="14982" y="2915"/>
                </a:lnTo>
                <a:lnTo>
                  <a:pt x="12427" y="2915"/>
                </a:lnTo>
                <a:cubicBezTo>
                  <a:pt x="5564" y="2915"/>
                  <a:pt x="0" y="7053"/>
                  <a:pt x="0" y="12158"/>
                </a:cubicBezTo>
                <a:lnTo>
                  <a:pt x="0" y="21600"/>
                </a:lnTo>
                <a:lnTo>
                  <a:pt x="6468" y="21600"/>
                </a:lnTo>
                <a:lnTo>
                  <a:pt x="6468" y="12158"/>
                </a:lnTo>
                <a:cubicBezTo>
                  <a:pt x="6468" y="10548"/>
                  <a:pt x="9136" y="9243"/>
                  <a:pt x="12427" y="9243"/>
                </a:cubicBezTo>
                <a:lnTo>
                  <a:pt x="14982" y="9243"/>
                </a:lnTo>
                <a:lnTo>
                  <a:pt x="14982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85ffe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19"/>
          <p:cNvSpPr/>
          <p:nvPr/>
        </p:nvSpPr>
        <p:spPr>
          <a:xfrm rot="16200000">
            <a:off x="5824440" y="3475080"/>
            <a:ext cx="652320" cy="766440"/>
          </a:xfrm>
          <a:custGeom>
            <a:avLst/>
            <a:gdLst>
              <a:gd name="textAreaLeft" fmla="*/ 375480 w 652320"/>
              <a:gd name="textAreaRight" fmla="*/ 548280 w 652320"/>
              <a:gd name="textAreaTop" fmla="*/ 103320 h 766440"/>
              <a:gd name="textAreaBottom" fmla="*/ 327960 h 76644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4982" y="0"/>
                </a:lnTo>
                <a:lnTo>
                  <a:pt x="14982" y="2915"/>
                </a:lnTo>
                <a:lnTo>
                  <a:pt x="12427" y="2915"/>
                </a:lnTo>
                <a:cubicBezTo>
                  <a:pt x="5564" y="2915"/>
                  <a:pt x="0" y="7053"/>
                  <a:pt x="0" y="12158"/>
                </a:cubicBezTo>
                <a:lnTo>
                  <a:pt x="0" y="21600"/>
                </a:lnTo>
                <a:lnTo>
                  <a:pt x="6468" y="21600"/>
                </a:lnTo>
                <a:lnTo>
                  <a:pt x="6468" y="12158"/>
                </a:lnTo>
                <a:cubicBezTo>
                  <a:pt x="6468" y="10548"/>
                  <a:pt x="9136" y="9243"/>
                  <a:pt x="12427" y="9243"/>
                </a:cubicBezTo>
                <a:lnTo>
                  <a:pt x="14982" y="9243"/>
                </a:lnTo>
                <a:lnTo>
                  <a:pt x="14982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47f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20"/>
          <p:cNvSpPr/>
          <p:nvPr/>
        </p:nvSpPr>
        <p:spPr>
          <a:xfrm rot="10800000">
            <a:off x="6257880" y="2552400"/>
            <a:ext cx="682560" cy="817560"/>
          </a:xfrm>
          <a:custGeom>
            <a:avLst/>
            <a:gdLst>
              <a:gd name="textAreaLeft" fmla="*/ 392760 w 682560"/>
              <a:gd name="textAreaRight" fmla="*/ 573840 w 682560"/>
              <a:gd name="textAreaTop" fmla="*/ 110160 h 817560"/>
              <a:gd name="textAreaBottom" fmla="*/ 349920 h 8175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4982" y="0"/>
                </a:lnTo>
                <a:lnTo>
                  <a:pt x="14982" y="2915"/>
                </a:lnTo>
                <a:lnTo>
                  <a:pt x="12427" y="2915"/>
                </a:lnTo>
                <a:cubicBezTo>
                  <a:pt x="5564" y="2915"/>
                  <a:pt x="0" y="7053"/>
                  <a:pt x="0" y="12158"/>
                </a:cubicBezTo>
                <a:lnTo>
                  <a:pt x="0" y="21600"/>
                </a:lnTo>
                <a:lnTo>
                  <a:pt x="6468" y="21600"/>
                </a:lnTo>
                <a:lnTo>
                  <a:pt x="6468" y="12158"/>
                </a:lnTo>
                <a:cubicBezTo>
                  <a:pt x="6468" y="10548"/>
                  <a:pt x="9136" y="9243"/>
                  <a:pt x="12427" y="9243"/>
                </a:cubicBezTo>
                <a:lnTo>
                  <a:pt x="14982" y="9243"/>
                </a:lnTo>
                <a:lnTo>
                  <a:pt x="14982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47f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2T04:33:03Z</dcterms:created>
  <dc:creator>Reanimator 98</dc:creator>
  <dc:description/>
  <dc:language>en-US</dc:language>
  <cp:lastModifiedBy>BARANOVA</cp:lastModifiedBy>
  <cp:lastPrinted>2016-12-13T08:39:40Z</cp:lastPrinted>
  <dcterms:modified xsi:type="dcterms:W3CDTF">2020-11-26T11:31:38Z</dcterms:modified>
  <cp:revision>1155</cp:revision>
  <dc:subject/>
  <dc:title>Презентация PowerPoint</dc:title>
</cp:coreProperties>
</file>