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5272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5272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DA18BA5-D141-43E5-A0D3-86D67D7E65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5272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6C7D004-A9D8-4FEA-BFCF-E4F39D0EF5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272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A50403-BF46-4492-9F23-04024CA39A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272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281265-FA08-4A59-9611-44DBDF6C08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706320" y="741240"/>
            <a:ext cx="5384880" cy="372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F5366CD4-5F16-4B8D-B506-0C497A0ED7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135-1AEA-4CC0-A8EE-5E8F78BB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D8CF-9ECE-4A9B-80FF-2A097545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4B5-3D53-4813-9AAA-70C2C3D1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0248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936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5524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0248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4936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EC30-4DD5-4BF2-8095-99410A5B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95D1-A0B0-4173-960E-48624C62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65E7-64DE-45AE-A1F2-FA6FFCEC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7249-0896-4816-8E72-059BA87B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81A9-0336-4396-A7AF-40A48439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EDDA-1309-4286-9633-360219F7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5524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F499-F937-44E5-99D5-6BE2C129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9329-1B7F-4B88-B993-430E04E6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A795-9500-468F-B24A-B73C1AA4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84BB-0C8A-4236-965D-AB869F95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C0F9-ABD0-42BF-BFA2-5BD80F15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2CB5-7B01-4321-933A-94F02F3D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801B-E83E-439C-8998-404C6D3B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0248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4936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5524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00248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84936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0D37-67FA-4FC5-A4A4-34AF1375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BDB-B354-4A40-9391-C923ACE5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F2E4-4EFF-4657-BBA7-784A6E08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2AE0-86AC-4671-A280-24728FB6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524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337-C0CF-42E7-B5AD-2FBFD1A2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477B-D0FF-4243-87EA-EE455197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9BB-AC6F-4799-BB04-1CFDEE99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3C2D-4F66-43DD-98F7-93532182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inance 01p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552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DBB3-F1BA-4B4B-9FAE-918CEA3E502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7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1212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C1F8-5604-4A2E-94E8-03737203F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finance 01p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finance 01p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2384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6627-6DA4-42E9-9B21-01544B7F798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8797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594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4CDA-4F36-4D1A-8CCC-817E8F98F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images.yandex.ru/yandsearch?source=psearch&amp;text=&#1089;&#1087;&#1086;&#1088;&#1090;&amp;pos=8&amp;rpt=simage&amp;lr=7&amp;uinfo=sw-1180-sh-906-fw-955-fh-598-pd-1&amp;img_url=http%3A%2F%2Fwww.franklinliquors.com%2Fsports_link.jpg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admnav.ru/" TargetMode="External"/><Relationship Id="rId3" Type="http://schemas.openxmlformats.org/officeDocument/2006/relationships/hyperlink" Target="mailto:nvlfinotdel@mail.ru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1141560" y="1327320"/>
            <a:ext cx="347004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441520" y="133200"/>
            <a:ext cx="65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АДМИНИСТРАЦИЯ НАВЛИНСКОГО РАЙ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БРЯН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704880" y="2746440"/>
            <a:ext cx="4610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по проекту решения Навлинского районного Совета народных депутатов «О бюджете муниципального образования «Навлинский район» на 2019 год и на плановый период 2020 и 2021 годов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1569960" y="4962600"/>
            <a:ext cx="41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Путеводитель по бюдже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5456160" y="1050840"/>
            <a:ext cx="4105440" cy="43689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"/>
          <p:cNvSpPr/>
          <p:nvPr/>
        </p:nvSpPr>
        <p:spPr>
          <a:xfrm>
            <a:off x="179280" y="1733400"/>
            <a:ext cx="60008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Times New Roman"/>
                <a:ea typeface="Calibri"/>
              </a:rPr>
              <a:t>БЮДЖЕТ ДЛЯ ГРАЖД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герб навли"/>
          <p:cNvPicPr/>
          <p:nvPr/>
        </p:nvPicPr>
        <p:blipFill>
          <a:blip r:embed="rId2"/>
          <a:stretch/>
        </p:blipFill>
        <p:spPr>
          <a:xfrm>
            <a:off x="179280" y="0"/>
            <a:ext cx="1071720" cy="132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5"/>
          <p:cNvSpPr/>
          <p:nvPr/>
        </p:nvSpPr>
        <p:spPr>
          <a:xfrm>
            <a:off x="7099200" y="62784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627360" y="4365720"/>
            <a:ext cx="5850000" cy="6746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убличные обсуждения муниципальных програм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4"/>
          <p:cNvSpPr/>
          <p:nvPr/>
        </p:nvSpPr>
        <p:spPr>
          <a:xfrm rot="5400000">
            <a:off x="2757240" y="4376880"/>
            <a:ext cx="880920" cy="858600"/>
          </a:xfrm>
          <a:custGeom>
            <a:avLst/>
            <a:gdLst>
              <a:gd name="textAreaLeft" fmla="*/ 0 w 880920"/>
              <a:gd name="textAreaRight" fmla="*/ 881280 w 880920"/>
              <a:gd name="textAreaTop" fmla="*/ 0 h 858600"/>
              <a:gd name="textAreaBottom" fmla="*/ 858960 h 85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341" y="0"/>
                </a:lnTo>
                <a:lnTo>
                  <a:pt x="21600" y="10800"/>
                </a:lnTo>
                <a:lnTo>
                  <a:pt x="16341" y="21600"/>
                </a:lnTo>
                <a:lnTo>
                  <a:pt x="0" y="21600"/>
                </a:lnTo>
                <a:lnTo>
                  <a:pt x="5259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676520" y="2744640"/>
            <a:ext cx="5771880" cy="7462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убличные слушания по отчету об исполнении бюджета райо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3392640" y="1125360"/>
            <a:ext cx="5771880" cy="76536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убличные слушания по проекту бюджета рай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3"/>
          <p:cNvSpPr/>
          <p:nvPr/>
        </p:nvSpPr>
        <p:spPr>
          <a:xfrm rot="5400000">
            <a:off x="770040" y="2782800"/>
            <a:ext cx="955440" cy="857520"/>
          </a:xfrm>
          <a:custGeom>
            <a:avLst/>
            <a:gdLst>
              <a:gd name="textAreaLeft" fmla="*/ 0 w 955440"/>
              <a:gd name="textAreaRight" fmla="*/ 955800 w 955440"/>
              <a:gd name="textAreaTop" fmla="*/ 0 h 857520"/>
              <a:gd name="textAreaBottom" fmla="*/ 85788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17" y="0"/>
                </a:lnTo>
                <a:lnTo>
                  <a:pt x="21600" y="10800"/>
                </a:lnTo>
                <a:lnTo>
                  <a:pt x="16717" y="21600"/>
                </a:lnTo>
                <a:lnTo>
                  <a:pt x="0" y="21600"/>
                </a:lnTo>
                <a:lnTo>
                  <a:pt x="4883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 rot="5400000">
            <a:off x="2471400" y="1188720"/>
            <a:ext cx="984600" cy="857520"/>
          </a:xfrm>
          <a:custGeom>
            <a:avLst/>
            <a:gdLst>
              <a:gd name="textAreaLeft" fmla="*/ 0 w 984600"/>
              <a:gd name="textAreaRight" fmla="*/ 984960 w 984600"/>
              <a:gd name="textAreaTop" fmla="*/ 0 h 857520"/>
              <a:gd name="textAreaBottom" fmla="*/ 85788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25" y="0"/>
                </a:lnTo>
                <a:lnTo>
                  <a:pt x="21600" y="10800"/>
                </a:lnTo>
                <a:lnTo>
                  <a:pt x="16825" y="21600"/>
                </a:lnTo>
                <a:lnTo>
                  <a:pt x="0" y="21600"/>
                </a:lnTo>
                <a:lnTo>
                  <a:pt x="4775" y="10800"/>
                </a:lnTo>
                <a:close/>
              </a:path>
            </a:pathLst>
          </a:custGeom>
          <a:solidFill>
            <a:srgbClr val="99ccff"/>
          </a:solidFill>
          <a:ln w="158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6901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ВОЗМОЖНОСТИ ВЛИЯНИЯ ГРАЖДАНИНА НА СОСТАВ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1" descr=""/>
          <p:cNvPicPr/>
          <p:nvPr/>
        </p:nvPicPr>
        <p:blipFill>
          <a:blip r:embed="rId1"/>
          <a:stretch/>
        </p:blipFill>
        <p:spPr>
          <a:xfrm>
            <a:off x="7448400" y="2244600"/>
            <a:ext cx="2457720" cy="1744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"/>
          <p:cNvPicPr/>
          <p:nvPr/>
        </p:nvPicPr>
        <p:blipFill>
          <a:blip r:embed="rId2"/>
          <a:stretch/>
        </p:blipFill>
        <p:spPr>
          <a:xfrm>
            <a:off x="60480" y="674640"/>
            <a:ext cx="2474640" cy="16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431640" y="19080"/>
            <a:ext cx="91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КАЗАТЕЛИ ПРОГНОЗА СОЦИАЛЬНО-ЭКОНОМИЧЕСКОГО РАЗВИТИЯ РАЙОНА НА 2019 И НА ПЛАНОВЫЙ ПЕРИОД 2020 И 2021 ГОД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739800"/>
          <a:ext cx="9809280" cy="5403960"/>
        </p:xfrm>
        <a:graphic>
          <a:graphicData uri="http://schemas.openxmlformats.org/drawingml/2006/table">
            <a:tbl>
              <a:tblPr/>
              <a:tblGrid>
                <a:gridCol w="3705120"/>
                <a:gridCol w="795600"/>
                <a:gridCol w="760320"/>
                <a:gridCol w="941400"/>
                <a:gridCol w="895320"/>
                <a:gridCol w="861840"/>
                <a:gridCol w="939960"/>
                <a:gridCol w="909720"/>
              </a:tblGrid>
              <a:tr h="255960">
                <a:tc rowSpan="2"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rowSpan="2"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gridSpan="2"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gridSpan="3"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715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енность населения (среднегодов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475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отгруженной продукции обрабатывающих произво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826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16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инвести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зарегистрированной безработ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457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месячная заработная плата по полному кругу пред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457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месячная заработная плата по крупным и  средним предприят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96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рот розничной торговл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457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енность детей в дошкольных образовательных учрежд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439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енность учащихся в общеобразовательных учрежд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5"/>
          <p:cNvSpPr/>
          <p:nvPr/>
        </p:nvSpPr>
        <p:spPr>
          <a:xfrm>
            <a:off x="7099200" y="62784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458640" y="0"/>
            <a:ext cx="93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ОСНОВНЫЕ НАПРАВЛЕНИЯ НАЛОГОВОЙ ПОЛИТ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458640" y="662040"/>
            <a:ext cx="8952120" cy="48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ой задачей налоговой политики в ближайшие три года будет создание устойчивой среды, характеризующейся стабильными налоговыми и неналоговыми условиями, направленными на стимулирование деловой активности, рост экономики и инвестиций, упорядочение системы существующих налоговых льгот путем отмены неэффективных, невостребованных льгот и льгот, не имеющих стимулирующего влияния на налогоплательщиков и бюджетной отдачи.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направлениями налоговой политики в Навлинском районе определен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хранение, укрепление и развитие налогового потенциала Навлинского района, обеспечение роста доходов консолидированного бюджета район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ершенствование налогового регулирования поддержки приоритетных инвестиционных проектов, субъектов малого и среднего бизнеса, направленной на стимулирование экономического роста и развитие налоговой баз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олжение работы по легализации заработной платы, доведению ее до среднеотраслевого уровн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тимизация местных налоговых льгот с учетом оценки их экономической и бюджетной эффектив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5"/>
          <p:cNvSpPr/>
          <p:nvPr/>
        </p:nvSpPr>
        <p:spPr>
          <a:xfrm>
            <a:off x="636480" y="523800"/>
            <a:ext cx="93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ОСНОВНЫЕ НАПРАВЛЕНИ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БЮДЖЕТНОЙ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ЛИТ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636480" y="1185840"/>
            <a:ext cx="8953560" cy="32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imes New Roman"/>
              </a:rPr>
              <a:t>ОСНОВНЫЕ ЦЕЛИ БЮДЖЕТНОЙ ПОЛИТИКИ НА 2019 ГОД И НА ПЛАНОВЫЙ ПЕРИОД 2020 И 2021 ГОДОВ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еспечение сбалансированности бюджетной системы Навлинского район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обеспечение принятых расходных обязательств с учетом проведения мероприятий по их оптимизации, сокращению неэффективных расходо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истемы межбюджетных отношений, расширение финансовой самостоятельности муниципалитетов, ориентация финансовой поддержки на достижение конечных результатов в сфере полномочий органов местного самоуправления поселени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вышение прозрачности и открытости бюджетного процес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9360" y="259920"/>
            <a:ext cx="922032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ОСНОВНЫЕ ПАРАМЕТРЫ БЮДЖЕТА РАЙОНА НА 2019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 rot="16200000">
            <a:off x="3863160" y="2159640"/>
            <a:ext cx="1728720" cy="2340000"/>
          </a:xfrm>
          <a:custGeom>
            <a:avLst/>
            <a:gdLst>
              <a:gd name="textAreaLeft" fmla="*/ 0 w 1728720"/>
              <a:gd name="textAreaRight" fmla="*/ 1729080 w 1728720"/>
              <a:gd name="textAreaTop" fmla="*/ 585000 h 2340000"/>
              <a:gd name="textAreaBottom" fmla="*/ 1755000 h 23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a6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549600" y="1052640"/>
            <a:ext cx="2338560" cy="1368360"/>
          </a:xfrm>
          <a:prstGeom prst="rect">
            <a:avLst/>
          </a:prstGeom>
          <a:solidFill>
            <a:srgbClr val="92d050"/>
          </a:solidFill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458d"/>
                </a:solidFill>
                <a:latin typeface="Times New Roman"/>
                <a:ea typeface="Times New Roman"/>
              </a:rPr>
              <a:t>ДОХОДЫ</a:t>
            </a: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 В РАСЧ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НА 1 ЧЕЛОВЕ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458d"/>
                </a:solidFill>
                <a:latin typeface="Times New Roman"/>
              </a:rPr>
              <a:t>14 779,33</a:t>
            </a: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3527280" y="4314960"/>
            <a:ext cx="2338560" cy="1584360"/>
          </a:xfrm>
          <a:prstGeom prst="rect">
            <a:avLst/>
          </a:prstGeom>
          <a:solidFill>
            <a:srgbClr val="66ccff"/>
          </a:solidFill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458d"/>
                </a:solidFill>
                <a:latin typeface="Times New Roman"/>
              </a:rPr>
              <a:t>РАСХОДЫ В РАСЧЕТЕ НА 1 ЧЕЛО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458d"/>
                </a:solidFill>
                <a:latin typeface="Times New Roman"/>
              </a:rPr>
              <a:t>14 779,33</a:t>
            </a: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руб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Rectangle 7"/>
          <p:cNvGrpSpPr/>
          <p:nvPr/>
        </p:nvGrpSpPr>
        <p:grpSpPr>
          <a:xfrm>
            <a:off x="2730600" y="1006560"/>
            <a:ext cx="755640" cy="5162400"/>
            <a:chOff x="2730600" y="1006560"/>
            <a:chExt cx="755640" cy="5162400"/>
          </a:xfrm>
        </p:grpSpPr>
        <p:pic>
          <p:nvPicPr>
            <p:cNvPr id="167" name="Rectangle 7" descr=""/>
            <p:cNvPicPr/>
            <p:nvPr/>
          </p:nvPicPr>
          <p:blipFill>
            <a:blip r:embed="rId1"/>
            <a:stretch/>
          </p:blipFill>
          <p:spPr>
            <a:xfrm>
              <a:off x="2730600" y="1006560"/>
              <a:ext cx="755640" cy="51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rot="10800000">
              <a:off x="2757240" y="1028520"/>
              <a:ext cx="701640" cy="51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43458d"/>
                  </a:solidFill>
                  <a:latin typeface="Times New Roman"/>
                  <a:ea typeface="Times New Roman"/>
                </a:rPr>
                <a:t>ДОХОДЫ  - </a:t>
              </a:r>
              <a:r>
                <a:rPr b="1" lang="ru-RU" sz="2800" spc="-1" strike="noStrike">
                  <a:solidFill>
                    <a:srgbClr val="43458d"/>
                  </a:solidFill>
                  <a:latin typeface="Times New Roman"/>
                  <a:ea typeface="Times New Roman"/>
                </a:rPr>
                <a:t>390 396 </a:t>
              </a:r>
              <a:r>
                <a:rPr b="1" lang="ru-RU" sz="1600" spc="-1" strike="noStrike">
                  <a:solidFill>
                    <a:srgbClr val="43458d"/>
                  </a:solidFill>
                  <a:latin typeface="Times New Roman"/>
                  <a:ea typeface="Times New Roman"/>
                </a:rPr>
                <a:t>ТЫС. РУБ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 rot="10800000">
            <a:off x="5932080" y="1084320"/>
            <a:ext cx="701640" cy="4983120"/>
          </a:xfrm>
          <a:prstGeom prst="rect">
            <a:avLst/>
          </a:prstGeom>
          <a:solidFill>
            <a:srgbClr val="66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458d"/>
                </a:solidFill>
                <a:latin typeface="Times New Roman"/>
              </a:rPr>
              <a:t>РАСХОДЫ – </a:t>
            </a:r>
            <a:r>
              <a:rPr b="1" lang="ru-RU" sz="2800" spc="-1" strike="noStrike">
                <a:solidFill>
                  <a:srgbClr val="43458d"/>
                </a:solidFill>
                <a:latin typeface="Times New Roman"/>
              </a:rPr>
              <a:t>390 396 </a:t>
            </a:r>
            <a:r>
              <a:rPr b="1" lang="ru-RU" sz="1600" spc="-1" strike="noStrike">
                <a:solidFill>
                  <a:srgbClr val="43458d"/>
                </a:solidFill>
                <a:latin typeface="Times New Roman"/>
              </a:rPr>
              <a:t>ТЫС.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0" y="1141560"/>
            <a:ext cx="2719440" cy="1368360"/>
          </a:xfrm>
          <a:custGeom>
            <a:avLst/>
            <a:gdLst>
              <a:gd name="textAreaLeft" fmla="*/ 0 w 2719440"/>
              <a:gd name="textAreaRight" fmla="*/ 2719800 w 271944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47" y="0"/>
                </a:lnTo>
                <a:lnTo>
                  <a:pt x="21600" y="10800"/>
                </a:lnTo>
                <a:lnTo>
                  <a:pt x="166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АЛОГОВЫЕ 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 008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0" y="4389480"/>
            <a:ext cx="2697120" cy="1368360"/>
          </a:xfrm>
          <a:custGeom>
            <a:avLst/>
            <a:gdLst>
              <a:gd name="textAreaLeft" fmla="*/ 0 w 2697120"/>
              <a:gd name="textAreaRight" fmla="*/ 2697120 w 26971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07" y="0"/>
                </a:lnTo>
                <a:lnTo>
                  <a:pt x="21600" y="10800"/>
                </a:lnTo>
                <a:lnTo>
                  <a:pt x="16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7 069 тыс. руб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0" y="2825640"/>
            <a:ext cx="2698920" cy="1368360"/>
          </a:xfrm>
          <a:custGeom>
            <a:avLst/>
            <a:gdLst>
              <a:gd name="textAreaLeft" fmla="*/ 0 w 2698920"/>
              <a:gd name="textAreaRight" fmla="*/ 2699280 w 26989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10" y="0"/>
                </a:lnTo>
                <a:lnTo>
                  <a:pt x="21600" y="10800"/>
                </a:lnTo>
                <a:lnTo>
                  <a:pt x="166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 319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2"/>
          <p:cNvSpPr/>
          <p:nvPr/>
        </p:nvSpPr>
        <p:spPr>
          <a:xfrm rot="10800000">
            <a:off x="6710040" y="1028160"/>
            <a:ext cx="2940120" cy="549000"/>
          </a:xfrm>
          <a:custGeom>
            <a:avLst/>
            <a:gdLst>
              <a:gd name="textAreaLeft" fmla="*/ 0 w 2940120"/>
              <a:gd name="textAreaRight" fmla="*/ 2940120 w 294012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78" y="0"/>
                </a:lnTo>
                <a:lnTo>
                  <a:pt x="21600" y="10800"/>
                </a:lnTo>
                <a:lnTo>
                  <a:pt x="160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Образ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250 419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7"/>
          <p:cNvSpPr/>
          <p:nvPr/>
        </p:nvSpPr>
        <p:spPr>
          <a:xfrm rot="10800000">
            <a:off x="6634080" y="5281200"/>
            <a:ext cx="3060720" cy="4762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79" y="0"/>
                </a:lnTo>
                <a:lnTo>
                  <a:pt x="21600" y="10800"/>
                </a:lnTo>
                <a:lnTo>
                  <a:pt x="164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МБТ поселения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5 050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8"/>
          <p:cNvSpPr/>
          <p:nvPr/>
        </p:nvSpPr>
        <p:spPr>
          <a:xfrm rot="10800000">
            <a:off x="6634080" y="4314600"/>
            <a:ext cx="3060720" cy="4474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48" y="0"/>
                </a:lnTo>
                <a:lnTo>
                  <a:pt x="21600" y="10800"/>
                </a:lnTo>
                <a:lnTo>
                  <a:pt x="166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  <a:ea typeface="Times New Roman"/>
              </a:rPr>
              <a:t>Культура и кинематограф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  <a:ea typeface="Times New Roman"/>
              </a:rPr>
              <a:t>26 299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9"/>
          <p:cNvSpPr/>
          <p:nvPr/>
        </p:nvSpPr>
        <p:spPr>
          <a:xfrm rot="10800000">
            <a:off x="6686280" y="3181320"/>
            <a:ext cx="3219480" cy="503280"/>
          </a:xfrm>
          <a:custGeom>
            <a:avLst/>
            <a:gdLst>
              <a:gd name="textAreaLeft" fmla="*/ 0 w 3219480"/>
              <a:gd name="textAreaRight" fmla="*/ 3219840 w 32194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30" y="0"/>
                </a:lnTo>
                <a:lnTo>
                  <a:pt x="21600" y="10800"/>
                </a:lnTo>
                <a:lnTo>
                  <a:pt x="167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rmAutofit fontScale="6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43458d"/>
                </a:solidFill>
                <a:latin typeface="Times New Roman"/>
              </a:rPr>
              <a:t>Национал</a:t>
            </a:r>
            <a:r>
              <a:rPr b="0" lang="ru-RU" sz="1300" spc="-1" strike="noStrike">
                <a:solidFill>
                  <a:srgbClr val="43458d"/>
                </a:solidFill>
                <a:latin typeface="Times New Roman"/>
              </a:rPr>
              <a:t>ь</a:t>
            </a:r>
            <a:r>
              <a:rPr b="1" lang="ru-RU" sz="1300" spc="-1" strike="noStrike">
                <a:solidFill>
                  <a:srgbClr val="43458d"/>
                </a:solidFill>
                <a:latin typeface="Times New Roman"/>
              </a:rPr>
              <a:t>на безопасность и правоохранительная деятельность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3 021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1"/>
          <p:cNvSpPr/>
          <p:nvPr/>
        </p:nvSpPr>
        <p:spPr>
          <a:xfrm rot="10800000">
            <a:off x="6708600" y="2166840"/>
            <a:ext cx="2965680" cy="44784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57" y="0"/>
                </a:lnTo>
                <a:lnTo>
                  <a:pt x="21600" y="10800"/>
                </a:lnTo>
                <a:lnTo>
                  <a:pt x="18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Социальная поли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42 701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2"/>
          <p:cNvSpPr/>
          <p:nvPr/>
        </p:nvSpPr>
        <p:spPr>
          <a:xfrm rot="10800000">
            <a:off x="6708240" y="3747960"/>
            <a:ext cx="2986200" cy="503280"/>
          </a:xfrm>
          <a:custGeom>
            <a:avLst/>
            <a:gdLst>
              <a:gd name="textAreaLeft" fmla="*/ 0 w 2986200"/>
              <a:gd name="textAreaRight" fmla="*/ 2986560 w 29862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506" y="0"/>
                </a:lnTo>
                <a:lnTo>
                  <a:pt x="21600" y="10800"/>
                </a:lnTo>
                <a:lnTo>
                  <a:pt x="155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Жилищно-коммунальное хозяй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14 561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3"/>
          <p:cNvSpPr/>
          <p:nvPr/>
        </p:nvSpPr>
        <p:spPr>
          <a:xfrm rot="10800000">
            <a:off x="6661080" y="1607760"/>
            <a:ext cx="3245040" cy="514440"/>
          </a:xfrm>
          <a:custGeom>
            <a:avLst/>
            <a:gdLst>
              <a:gd name="textAreaLeft" fmla="*/ 0 w 3245040"/>
              <a:gd name="textAreaRight" fmla="*/ 3245400 w 324504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732" y="0"/>
                </a:lnTo>
                <a:lnTo>
                  <a:pt x="21600" y="10800"/>
                </a:lnTo>
                <a:lnTo>
                  <a:pt x="137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Общегосударственные вопро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34 192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22"/>
          <p:cNvSpPr/>
          <p:nvPr/>
        </p:nvSpPr>
        <p:spPr>
          <a:xfrm rot="10800000">
            <a:off x="6730560" y="2644560"/>
            <a:ext cx="2963880" cy="476280"/>
          </a:xfrm>
          <a:custGeom>
            <a:avLst/>
            <a:gdLst>
              <a:gd name="textAreaLeft" fmla="*/ 0 w 2963880"/>
              <a:gd name="textAreaRight" fmla="*/ 2964240 w 296388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22" y="0"/>
                </a:lnTo>
                <a:lnTo>
                  <a:pt x="21600" y="10800"/>
                </a:lnTo>
                <a:lnTo>
                  <a:pt x="152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Национальная эконом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13 046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20"/>
          <p:cNvSpPr/>
          <p:nvPr/>
        </p:nvSpPr>
        <p:spPr>
          <a:xfrm rot="10800000">
            <a:off x="6634080" y="4795560"/>
            <a:ext cx="3060720" cy="43956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439560"/>
              <a:gd name="textAreaBottom" fmla="*/ 439920 h 43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755" y="0"/>
                </a:lnTo>
                <a:lnTo>
                  <a:pt x="21600" y="10800"/>
                </a:lnTo>
                <a:lnTo>
                  <a:pt x="147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Физическая культура и спор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150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2000" y="95400"/>
            <a:ext cx="930132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сновные параметры бюджета рай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081"/>
          <p:cNvSpPr/>
          <p:nvPr/>
        </p:nvSpPr>
        <p:spPr>
          <a:xfrm>
            <a:off x="7184880" y="544680"/>
            <a:ext cx="1816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ыс.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52360" y="925560"/>
          <a:ext cx="9488520" cy="4825800"/>
        </p:xfrm>
        <a:graphic>
          <a:graphicData uri="http://schemas.openxmlformats.org/drawingml/2006/table">
            <a:tbl>
              <a:tblPr/>
              <a:tblGrid>
                <a:gridCol w="5764320"/>
                <a:gridCol w="1317600"/>
                <a:gridCol w="1251000"/>
                <a:gridCol w="1155600"/>
              </a:tblGrid>
              <a:tr h="320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81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 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3 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 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овые и неналоговые доход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 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 1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7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 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 8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 0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ц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8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6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89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авочно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дорожного фонда Навлинского рай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3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 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4 7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6 2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88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я на выравнивание бюджетной обеспеч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 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 0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 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89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я на поддержку мер по обеспечению сбалансированности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8 6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7 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7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9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9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8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 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81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ы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 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3 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 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фицит / профиц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6920" y="90000"/>
            <a:ext cx="8069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ОХОДЫ БЮДЖЕТА РАЙ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388800" y="773280"/>
            <a:ext cx="89870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Times New Roman"/>
              </a:rPr>
              <a:t>Доходы бюджета - поступающие в бюджет денежные средства, за исключением средств, являющихся источниками финансирования дефицита бюджета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Скругленный прямоугольник 2"/>
          <p:cNvSpPr/>
          <p:nvPr/>
        </p:nvSpPr>
        <p:spPr>
          <a:xfrm>
            <a:off x="3503520" y="1498680"/>
            <a:ext cx="2654280" cy="635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3619440" y="1627200"/>
            <a:ext cx="25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Tahoma"/>
              </a:rPr>
              <a:t>Доходы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Скругленный прямоугольник 5"/>
          <p:cNvSpPr/>
          <p:nvPr/>
        </p:nvSpPr>
        <p:spPr>
          <a:xfrm>
            <a:off x="636480" y="2484360"/>
            <a:ext cx="2340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Скругленный прямоугольник 421"/>
          <p:cNvSpPr/>
          <p:nvPr/>
        </p:nvSpPr>
        <p:spPr>
          <a:xfrm>
            <a:off x="3436920" y="2558880"/>
            <a:ext cx="265428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Скругленный прямоугольник 422"/>
          <p:cNvSpPr/>
          <p:nvPr/>
        </p:nvSpPr>
        <p:spPr>
          <a:xfrm>
            <a:off x="6603840" y="2484360"/>
            <a:ext cx="26528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Скругленный прямоугольник 7"/>
          <p:cNvSpPr/>
          <p:nvPr/>
        </p:nvSpPr>
        <p:spPr>
          <a:xfrm>
            <a:off x="388800" y="3354480"/>
            <a:ext cx="2600640" cy="247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Скругленный прямоугольник 424"/>
          <p:cNvSpPr/>
          <p:nvPr/>
        </p:nvSpPr>
        <p:spPr>
          <a:xfrm>
            <a:off x="3379680" y="3354480"/>
            <a:ext cx="2813040" cy="247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Скругленный прямоугольник 425"/>
          <p:cNvSpPr/>
          <p:nvPr/>
        </p:nvSpPr>
        <p:spPr>
          <a:xfrm>
            <a:off x="6602400" y="3354480"/>
            <a:ext cx="2828880" cy="247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600120" y="2484360"/>
            <a:ext cx="23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Tahoma"/>
              </a:rPr>
              <a:t>Налоговые 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9"/>
          <p:cNvSpPr/>
          <p:nvPr/>
        </p:nvSpPr>
        <p:spPr>
          <a:xfrm>
            <a:off x="3503520" y="2573280"/>
            <a:ext cx="26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Tahoma"/>
              </a:rPr>
              <a:t>Неналоговые</a:t>
            </a:r>
            <a:r>
              <a:rPr b="0" lang="ru-RU" sz="1800" spc="-1" strike="noStrike">
                <a:solidFill>
                  <a:srgbClr val="00664d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664d"/>
                </a:solidFill>
                <a:latin typeface="Tahoma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6700680" y="248436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Tahoma"/>
              </a:rPr>
              <a:t>Безвозмездные</a:t>
            </a:r>
            <a:r>
              <a:rPr b="0" lang="ru-RU" sz="1800" spc="-1" strike="noStrike">
                <a:solidFill>
                  <a:srgbClr val="00664d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664d"/>
                </a:solidFill>
                <a:latin typeface="Tahoma"/>
              </a:rPr>
              <a:t>поступ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Прямая соединительная линия 12"/>
          <p:cNvSpPr/>
          <p:nvPr/>
        </p:nvSpPr>
        <p:spPr>
          <a:xfrm>
            <a:off x="4735440" y="2133720"/>
            <a:ext cx="0" cy="42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рямая соединительная линия 14"/>
          <p:cNvSpPr/>
          <p:nvPr/>
        </p:nvSpPr>
        <p:spPr>
          <a:xfrm flipV="1">
            <a:off x="1782720" y="2268000"/>
            <a:ext cx="0" cy="20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Прямая соединительная линия 433"/>
          <p:cNvSpPr/>
          <p:nvPr/>
        </p:nvSpPr>
        <p:spPr>
          <a:xfrm flipV="1">
            <a:off x="7962840" y="2268000"/>
            <a:ext cx="0" cy="20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ая соединительная линия 16"/>
          <p:cNvSpPr/>
          <p:nvPr/>
        </p:nvSpPr>
        <p:spPr>
          <a:xfrm>
            <a:off x="1781280" y="2255760"/>
            <a:ext cx="6192720" cy="1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8"/>
          <p:cNvSpPr/>
          <p:nvPr/>
        </p:nvSpPr>
        <p:spPr>
          <a:xfrm>
            <a:off x="401760" y="3402000"/>
            <a:ext cx="2574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4d"/>
                </a:solidFill>
                <a:latin typeface="Tahoma"/>
              </a:rPr>
              <a:t>Поступления от уплаты налогов, установленных Налоговым кодексом Российской Федерации</a:t>
            </a:r>
            <a:r>
              <a:rPr b="1" lang="en-US" sz="1400" spc="-1" strike="noStrike">
                <a:solidFill>
                  <a:srgbClr val="00664d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4d"/>
                </a:solidFill>
                <a:latin typeface="Tahoma"/>
              </a:rPr>
              <a:t>- налог на доходы физических ли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4d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4d"/>
                </a:solidFill>
                <a:latin typeface="Tahoma"/>
              </a:rPr>
              <a:t>акциз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4d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4d"/>
                </a:solidFill>
                <a:latin typeface="Tahoma"/>
              </a:rPr>
              <a:t>единый налог на вмененный дох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4d"/>
                </a:solidFill>
                <a:latin typeface="Tahoma"/>
              </a:rPr>
              <a:t>- иные на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9"/>
          <p:cNvSpPr/>
          <p:nvPr/>
        </p:nvSpPr>
        <p:spPr>
          <a:xfrm>
            <a:off x="3379680" y="3402000"/>
            <a:ext cx="2791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4d"/>
                </a:solidFill>
                <a:latin typeface="Tahoma"/>
              </a:rPr>
              <a:t>Поступления доходов от использования государственного (муниципального) имущества, от платных услуг, оказываемых казенными учреждениями, штрафных санкций за нарушение законодательства, иных неналоговых платеж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20"/>
          <p:cNvSpPr/>
          <p:nvPr/>
        </p:nvSpPr>
        <p:spPr>
          <a:xfrm>
            <a:off x="6691320" y="3402000"/>
            <a:ext cx="27176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4d"/>
                </a:solidFill>
                <a:latin typeface="Tahoma"/>
              </a:rPr>
              <a:t>Поступления доходы в виде финансовой помощи, полученной от бюджетов других уровней бюджетной системы РФ (межбюджетные трансферты), безвозмездные поступления от организаций и гражда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8838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ДИНАМИКА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ПОСТУПЛЕНИЯ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ДОХОДОВ БЮДЖЕТА  </a:t>
            </a:r>
            <a:br>
              <a:rPr sz="2000"/>
            </a:b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ыс. руб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5081760"/>
            <a:ext cx="97822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факторы формирования доходной части бюджета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изменением бюджетного законодательства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зменение областного законодательства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еполное включение в бюджет областных межбюджетных трансферт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Object 7" descr=""/>
          <p:cNvPicPr/>
          <p:nvPr/>
        </p:nvPicPr>
        <p:blipFill>
          <a:blip r:embed="rId1"/>
          <a:stretch/>
        </p:blipFill>
        <p:spPr>
          <a:xfrm>
            <a:off x="728640" y="649440"/>
            <a:ext cx="8523360" cy="510696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4"/>
          <p:cNvSpPr/>
          <p:nvPr/>
        </p:nvSpPr>
        <p:spPr>
          <a:xfrm>
            <a:off x="3112920" y="3583080"/>
            <a:ext cx="314640" cy="542880"/>
          </a:xfrm>
          <a:prstGeom prst="upArrow">
            <a:avLst>
              <a:gd name="adj1" fmla="val 43435"/>
              <a:gd name="adj2" fmla="val 39333"/>
            </a:avLst>
          </a:prstGeom>
          <a:gradFill rotWithShape="0">
            <a:gsLst>
              <a:gs pos="0">
                <a:srgbClr val="66ff66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-153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2"/>
          <p:cNvSpPr/>
          <p:nvPr/>
        </p:nvSpPr>
        <p:spPr>
          <a:xfrm>
            <a:off x="6532560" y="3743280"/>
            <a:ext cx="1114560" cy="28584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1e32"/>
                </a:solidFill>
                <a:latin typeface="Arial"/>
              </a:rPr>
              <a:t>387 9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3"/>
          <p:cNvSpPr/>
          <p:nvPr/>
        </p:nvSpPr>
        <p:spPr>
          <a:xfrm>
            <a:off x="7365960" y="4322880"/>
            <a:ext cx="919080" cy="28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1e32"/>
                </a:solidFill>
                <a:latin typeface="Arial"/>
              </a:rPr>
              <a:t>348 0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44"/>
          <p:cNvSpPr/>
          <p:nvPr/>
        </p:nvSpPr>
        <p:spPr>
          <a:xfrm>
            <a:off x="3156120" y="2844720"/>
            <a:ext cx="314280" cy="577800"/>
          </a:xfrm>
          <a:prstGeom prst="upArrow">
            <a:avLst>
              <a:gd name="adj1" fmla="val 50000"/>
              <a:gd name="adj2" fmla="val 45962"/>
            </a:avLst>
          </a:prstGeom>
          <a:gradFill rotWithShape="0">
            <a:gsLst>
              <a:gs pos="0">
                <a:srgbClr val="00ff99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-15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48"/>
          <p:cNvSpPr/>
          <p:nvPr/>
        </p:nvSpPr>
        <p:spPr>
          <a:xfrm>
            <a:off x="4821120" y="3106800"/>
            <a:ext cx="341280" cy="577800"/>
          </a:xfrm>
          <a:prstGeom prst="upArrow">
            <a:avLst>
              <a:gd name="adj1" fmla="val 52889"/>
              <a:gd name="adj2" fmla="val 61780"/>
            </a:avLst>
          </a:prstGeom>
          <a:gradFill rotWithShape="0">
            <a:gsLst>
              <a:gs pos="0">
                <a:srgbClr val="ffcc00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+40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49"/>
          <p:cNvSpPr/>
          <p:nvPr/>
        </p:nvSpPr>
        <p:spPr>
          <a:xfrm>
            <a:off x="4749840" y="3930480"/>
            <a:ext cx="361800" cy="603360"/>
          </a:xfrm>
          <a:prstGeom prst="upArrow">
            <a:avLst>
              <a:gd name="adj1" fmla="val 52889"/>
              <a:gd name="adj2" fmla="val 61812"/>
            </a:avLst>
          </a:prstGeom>
          <a:gradFill rotWithShape="0">
            <a:gsLst>
              <a:gs pos="0">
                <a:srgbClr val="ffc000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+ 414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51"/>
          <p:cNvSpPr/>
          <p:nvPr/>
        </p:nvSpPr>
        <p:spPr>
          <a:xfrm flipH="1" flipV="1">
            <a:off x="7040160" y="3978360"/>
            <a:ext cx="304920" cy="4665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3"/>
          <p:cNvSpPr/>
          <p:nvPr/>
        </p:nvSpPr>
        <p:spPr>
          <a:xfrm flipH="1" flipV="1">
            <a:off x="6376680" y="3483000"/>
            <a:ext cx="361800" cy="495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57"/>
          <p:cNvSpPr/>
          <p:nvPr/>
        </p:nvSpPr>
        <p:spPr>
          <a:xfrm>
            <a:off x="7495200" y="3938760"/>
            <a:ext cx="6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cc"/>
                </a:solidFill>
                <a:latin typeface="Arial"/>
              </a:rPr>
              <a:t>+ 39 9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8"/>
          <p:cNvSpPr/>
          <p:nvPr/>
        </p:nvSpPr>
        <p:spPr>
          <a:xfrm>
            <a:off x="7103160" y="3336840"/>
            <a:ext cx="56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cc"/>
                </a:solidFill>
                <a:latin typeface="Arial"/>
              </a:rPr>
              <a:t>+2 4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1"/>
          <p:cNvSpPr/>
          <p:nvPr/>
        </p:nvSpPr>
        <p:spPr>
          <a:xfrm>
            <a:off x="5878440" y="3197160"/>
            <a:ext cx="1114560" cy="26028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1e32"/>
                </a:solidFill>
                <a:latin typeface="Arial"/>
              </a:rPr>
              <a:t>390 3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9"/>
          <p:cNvSpPr/>
          <p:nvPr/>
        </p:nvSpPr>
        <p:spPr>
          <a:xfrm>
            <a:off x="3147840" y="2225520"/>
            <a:ext cx="246240" cy="587520"/>
          </a:xfrm>
          <a:prstGeom prst="upArrow">
            <a:avLst>
              <a:gd name="adj1" fmla="val 52889"/>
              <a:gd name="adj2" fmla="val 61748"/>
            </a:avLst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-41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22000" y="0"/>
            <a:ext cx="8915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Ы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ЧИСЛЕНИЙ НАЛОГОВЫХ И НЕНАЛОГОВЫХ ДОХОДОВ В РАЙОННЫЙ БЮДЖ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712800"/>
          <a:ext cx="9914040" cy="5818320"/>
        </p:xfrm>
        <a:graphic>
          <a:graphicData uri="http://schemas.openxmlformats.org/drawingml/2006/table">
            <a:tbl>
              <a:tblPr/>
              <a:tblGrid>
                <a:gridCol w="4726080"/>
                <a:gridCol w="1068120"/>
                <a:gridCol w="4119840"/>
              </a:tblGrid>
              <a:tr h="630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год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а территориях городских/сельских поселений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но-правовой акт, устанавливающий норматив в бюджет района на 2019-2021г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738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/6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 (5% и 13% сельских территорий ), проект закона Брянской области «Об областном бюджете на 2019 год и на плановый период 2020 и 2021 годов» (4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20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зы по подакцизным товарам (продукции) произведенным на территорий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8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закона Брянской области «Об областном бюджете на 2019 год и на плановый период 2020 и 2021 годов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64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6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/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6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ошлина, сб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31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ередачи в аренду земельных участков, государственная собственность на которые не разгранич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/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20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74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оступления от использования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630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асть прибыли муниципальных унитарных предприятий, остающейся после уплаты налогов и иных обязательных платеж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юджетный кодекс РФ, проект решения районного Совета народных депутатов «О бюджете МО «Навлинский район» на 2019 год и на плановый период 2020 и 2021 годов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6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476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реализации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237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земельных участков государственная собственность на которые не разграниче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/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797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оказания платных услуг и компенсаций затрат государ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206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7"/>
          <p:cNvSpPr/>
          <p:nvPr/>
        </p:nvSpPr>
        <p:spPr>
          <a:xfrm>
            <a:off x="7099200" y="62784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9320" y="0"/>
            <a:ext cx="9210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АЛОГОВЫЕ ДОХОДЫ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, тыс. 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Object 3" descr=""/>
          <p:cNvPicPr/>
          <p:nvPr/>
        </p:nvPicPr>
        <p:blipFill>
          <a:blip r:embed="rId1"/>
          <a:stretch/>
        </p:blipFill>
        <p:spPr>
          <a:xfrm>
            <a:off x="728640" y="692280"/>
            <a:ext cx="909972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452520" y="52560"/>
            <a:ext cx="9144000" cy="750600"/>
          </a:xfrm>
          <a:prstGeom prst="rect">
            <a:avLst/>
          </a:prstGeom>
          <a:solidFill>
            <a:srgbClr val="ddf3ea"/>
          </a:soli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00040" y="803160"/>
          <a:ext cx="9075600" cy="4538880"/>
        </p:xfrm>
        <a:graphic>
          <a:graphicData uri="http://schemas.openxmlformats.org/drawingml/2006/table">
            <a:tbl>
              <a:tblPr/>
              <a:tblGrid>
                <a:gridCol w="7356600"/>
                <a:gridCol w="1719000"/>
              </a:tblGrid>
              <a:tr h="54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й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603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по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показатели прогноза СЭ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10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направления налоговой и бюджетной поли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показатели 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5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ы 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-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0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ирование муниципальных програ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актная информ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5240" y="228600"/>
            <a:ext cx="8420040" cy="4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ЕНАЛОГОВЫЕ  ДОХОДЫ, тыс. руб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Объект 3" descr=""/>
          <p:cNvPicPr/>
          <p:nvPr/>
        </p:nvPicPr>
        <p:blipFill>
          <a:blip r:embed="rId1"/>
          <a:stretch/>
        </p:blipFill>
        <p:spPr>
          <a:xfrm>
            <a:off x="85680" y="797040"/>
            <a:ext cx="9541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БЕЗВОЗМЕЗДНЫЕ ПОСТУПЛЕНИЯ,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Объект 3" descr=""/>
          <p:cNvPicPr/>
          <p:nvPr/>
        </p:nvPicPr>
        <p:blipFill>
          <a:blip r:embed="rId1"/>
          <a:stretch/>
        </p:blipFill>
        <p:spPr>
          <a:xfrm>
            <a:off x="1104840" y="662040"/>
            <a:ext cx="852192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4"/>
          <p:cNvSpPr/>
          <p:nvPr/>
        </p:nvSpPr>
        <p:spPr>
          <a:xfrm>
            <a:off x="939960" y="18900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Arial"/>
              </a:rPr>
              <a:t>РАСХОДЫ БЮДЖ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4" descr="0c0632cc76566fe8dd5db3601f5a0970"/>
          <p:cNvPicPr/>
          <p:nvPr/>
        </p:nvPicPr>
        <p:blipFill>
          <a:blip r:embed="rId1"/>
          <a:stretch/>
        </p:blipFill>
        <p:spPr>
          <a:xfrm>
            <a:off x="-33480" y="1484280"/>
            <a:ext cx="3370320" cy="2502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1685880" y="3809880"/>
            <a:ext cx="8134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Бюджет района на 2019-2021 гг. является социально ориентированны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сходы на образование, культуру, социальную политику, физическую культуру и спорт в 2019 году составят 319 569 тыс. руб. или 81,9 % всех расходов бюджета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9" descr="sport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25680" y="166860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3836084211"/>
          <p:cNvPicPr/>
          <p:nvPr/>
        </p:nvPicPr>
        <p:blipFill>
          <a:blip r:embed="rId4"/>
          <a:stretch/>
        </p:blipFill>
        <p:spPr>
          <a:xfrm>
            <a:off x="6513480" y="1413000"/>
            <a:ext cx="2884680" cy="199836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9"/>
          <p:cNvSpPr/>
          <p:nvPr/>
        </p:nvSpPr>
        <p:spPr>
          <a:xfrm>
            <a:off x="114480" y="838080"/>
            <a:ext cx="9520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2228b"/>
                </a:solidFill>
                <a:latin typeface="Tahoma"/>
              </a:rPr>
              <a:t>Расходы бюджета – выплачиваемые из бюджета денежные средства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2960" y="-103320"/>
            <a:ext cx="9615240" cy="944640"/>
          </a:xfrm>
          <a:prstGeom prst="rect">
            <a:avLst/>
          </a:prstGeom>
          <a:gradFill rotWithShape="0">
            <a:gsLst>
              <a:gs pos="0">
                <a:srgbClr val="a3a3e4"/>
              </a:gs>
              <a:gs pos="100000">
                <a:srgbClr val="8181de"/>
              </a:gs>
            </a:gsLst>
            <a:lin ang="5400000"/>
          </a:gradFill>
          <a:ln w="648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РАСХОДЫ БЮДЖЕТА, 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03320" y="1273320"/>
          <a:ext cx="9713880" cy="4541760"/>
        </p:xfrm>
        <a:graphic>
          <a:graphicData uri="http://schemas.openxmlformats.org/drawingml/2006/table">
            <a:tbl>
              <a:tblPr/>
              <a:tblGrid>
                <a:gridCol w="3390840"/>
                <a:gridCol w="1222200"/>
                <a:gridCol w="1568520"/>
                <a:gridCol w="1212840"/>
                <a:gridCol w="1136520"/>
                <a:gridCol w="1182960"/>
              </a:tblGrid>
              <a:tr h="49824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841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7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 5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 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 9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 9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14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651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75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4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 6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 0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 8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6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0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К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 9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 5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0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10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5 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0 4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7 4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9 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75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4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5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2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3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93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1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7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48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14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4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5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75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но утвержденные 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 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10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4 9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5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 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3 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 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3"/>
          <p:cNvSpPr/>
          <p:nvPr/>
        </p:nvSpPr>
        <p:spPr>
          <a:xfrm>
            <a:off x="534960" y="147600"/>
            <a:ext cx="89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ЗДЕЛ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«ОБЩЕГОСУДАРСТВЕННЫЕ РАСХОДЫ»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1240" y="781200"/>
          <a:ext cx="9686880" cy="5735520"/>
        </p:xfrm>
        <a:graphic>
          <a:graphicData uri="http://schemas.openxmlformats.org/drawingml/2006/table">
            <a:tbl>
              <a:tblPr/>
              <a:tblGrid>
                <a:gridCol w="6607080"/>
                <a:gridCol w="1111320"/>
                <a:gridCol w="1004760"/>
                <a:gridCol w="963720"/>
              </a:tblGrid>
              <a:tr h="53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 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3 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 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09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9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9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822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законодательных (представительных) органов государственной власти и представительных органов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1143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еб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846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проведения выборов и референду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ервные фо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4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4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4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357120" y="1216080"/>
          <a:ext cx="9433080" cy="4346640"/>
        </p:xfrm>
        <a:graphic>
          <a:graphicData uri="http://schemas.openxmlformats.org/drawingml/2006/table">
            <a:tbl>
              <a:tblPr/>
              <a:tblGrid>
                <a:gridCol w="5932440"/>
                <a:gridCol w="1438560"/>
                <a:gridCol w="1014120"/>
                <a:gridCol w="1047960"/>
              </a:tblGrid>
              <a:tr h="63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 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3 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 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65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билизационная и вневойсковая подгото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билизационная подготовка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2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92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населения и территории от чрезвычайных ситуаций природного и техногенного характера, гражданск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40" name="Прямоугольник 5"/>
          <p:cNvSpPr/>
          <p:nvPr/>
        </p:nvSpPr>
        <p:spPr>
          <a:xfrm>
            <a:off x="133200" y="147600"/>
            <a:ext cx="950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зделы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ЦИОНАЛЬНАЯ ОБОРОНА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»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и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 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ЦИОНАЛЬНАЯ БЕЗОПАСНОСТЬ И ПРАВООХРАНИТЕЛЬНАЯ ДЕЯТЕЛЬНОСТЬ»,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5"/>
          <p:cNvSpPr/>
          <p:nvPr/>
        </p:nvSpPr>
        <p:spPr>
          <a:xfrm>
            <a:off x="501480" y="147600"/>
            <a:ext cx="913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зделы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ЦИОНАЛЬНАЯ ЭКОНОМИКА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» и 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ЖИЛИЩНО-КОММУНАЛЬНОЕ ХОЗЯЙСТВО»,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  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5920" y="1076400"/>
          <a:ext cx="9748800" cy="4263840"/>
        </p:xfrm>
        <a:graphic>
          <a:graphicData uri="http://schemas.openxmlformats.org/drawingml/2006/table">
            <a:tbl>
              <a:tblPr/>
              <a:tblGrid>
                <a:gridCol w="4949640"/>
                <a:gridCol w="1595520"/>
                <a:gridCol w="1560600"/>
                <a:gridCol w="1643040"/>
              </a:tblGrid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 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3 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 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0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8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6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экономически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льское хозяйство и рыболов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ое хозяйство (дорожные фонд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8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6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89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национальной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5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4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5"/>
          <p:cNvSpPr/>
          <p:nvPr/>
        </p:nvSpPr>
        <p:spPr>
          <a:xfrm>
            <a:off x="501480" y="147600"/>
            <a:ext cx="913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РАСХОДЫ НА СОЦИАЛЬНО-КУЛЬТУРНУЮ СФЕРУ,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68280" y="747720"/>
          <a:ext cx="9266400" cy="5060880"/>
        </p:xfrm>
        <a:graphic>
          <a:graphicData uri="http://schemas.openxmlformats.org/drawingml/2006/table">
            <a:tbl>
              <a:tblPr/>
              <a:tblGrid>
                <a:gridCol w="4994280"/>
                <a:gridCol w="1359000"/>
                <a:gridCol w="1368360"/>
                <a:gridCol w="1544760"/>
              </a:tblGrid>
              <a:tr h="53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 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3 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 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 4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7 4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9 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7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 7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 5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 8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 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 7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7 6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4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еж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6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4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2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3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8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0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культуры, кинемат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7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обеспечение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семьи и дет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социальной поли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5"/>
          <p:cNvSpPr/>
          <p:nvPr/>
        </p:nvSpPr>
        <p:spPr>
          <a:xfrm>
            <a:off x="501480" y="147600"/>
            <a:ext cx="913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МЕЖБЮДЖЕТНЫЕ ТРАНСФЕРТЫ ОБЩЕГО ХАРАКТЕРА БЮДЖЕТАМ БЮДЖЕТНОЙ СИСТЕМЫ РОССИЙСКОЙ ФЕДЕРАЦИИ, 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43040" y="1405080"/>
          <a:ext cx="8991360" cy="3404880"/>
        </p:xfrm>
        <a:graphic>
          <a:graphicData uri="http://schemas.openxmlformats.org/drawingml/2006/table">
            <a:tbl>
              <a:tblPr/>
              <a:tblGrid>
                <a:gridCol w="5844960"/>
                <a:gridCol w="1117800"/>
                <a:gridCol w="1025280"/>
                <a:gridCol w="1003320"/>
              </a:tblGrid>
              <a:tr h="623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92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 БЮДЖЕТАМ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2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на выравнивание бюджетной обеспеченности бюджетов поселений из област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92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трансферты на обеспечение сбалансированности бюджетов поселений из район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3"/>
          <p:cNvSpPr/>
          <p:nvPr/>
        </p:nvSpPr>
        <p:spPr>
          <a:xfrm>
            <a:off x="246240" y="79200"/>
            <a:ext cx="93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ХОДЫ НА ИСПОЛНЕНИЕ ПУБЛИЧНЫХ НОРМАТИВНЫХ ОБЯЗАТЕЛЬСТВ, 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46240" y="1136520"/>
          <a:ext cx="9329400" cy="3470400"/>
        </p:xfrm>
        <a:graphic>
          <a:graphicData uri="http://schemas.openxmlformats.org/drawingml/2006/table">
            <a:tbl>
              <a:tblPr/>
              <a:tblGrid>
                <a:gridCol w="6173640"/>
                <a:gridCol w="1087560"/>
                <a:gridCol w="1058760"/>
                <a:gridCol w="1009440"/>
              </a:tblGrid>
              <a:tr h="401760"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44680">
                <a:tc>
                  <a:txBody>
                    <a:bodyPr lIns="66600" rIns="6660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я и осуществление деятельности по опеке и попечительству, выплата ежемесячных денежных средств на содержание и проезд ребенка, переданного на воспитание в семью опекуна (попечителя), приемную семью, вознаграждения приемным родител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8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70040">
                <a:tc>
                  <a:txBody>
                    <a:bodyPr lIns="66600" rIns="6660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лата единовременного пособия при всех формах устройства детей, лишенных родительского попечения, в сем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2160">
                <a:tc>
                  <a:txBody>
                    <a:bodyPr lIns="66600" rIns="6660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месячная доплата к пенсии муниципальным служащ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01760">
                <a:tc>
                  <a:txBody>
                    <a:bodyPr lIns="66600" rIns="6660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9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330120" y="165240"/>
            <a:ext cx="92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Уважаемые граждане, жители Навлинского района!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Рисунок 5" descr=""/>
          <p:cNvPicPr/>
          <p:nvPr/>
        </p:nvPicPr>
        <p:blipFill>
          <a:blip r:embed="rId1"/>
          <a:stretch/>
        </p:blipFill>
        <p:spPr>
          <a:xfrm>
            <a:off x="6829560" y="4484520"/>
            <a:ext cx="3076560" cy="201636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85680" y="762120"/>
            <a:ext cx="98204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Бюджет для граждан» познакомит Вас с положениями проекта основного финансового документа </a:t>
            </a:r>
            <a:r>
              <a:rPr b="0" lang="ru-RU" sz="1600" spc="-1" strike="noStrike">
                <a:solidFill>
                  <a:srgbClr val="664a38"/>
                </a:solidFill>
                <a:latin typeface="Times New Roman"/>
              </a:rPr>
              <a:t>Навлинского района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шения Навлинского районного Совета народных депутатов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«О бюджете муниципального образования «Навлинский район» на 2019 год и на плановый период 2020 и 2021 годов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Представленная информация предназначена для широкого круга пользователей и будет интересна и полезна для всех, так как бюджет затрагивает интересы каждого жителя Навлинского район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Граждане – и как налогоплательщики, и как потребители общественных благ – должны быть уверены в том, что передаваемые ими в распоряжение государства средства используются прозрачно и эффективно, приносят конкретные результаты как для общества в целом, так и для каждой семьи,  для  каждого человек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Мы постарались  в доступной  и понятной для граждан форме показать понятия и                                                                                     основные параметры бюджета райо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лава администрации района                                    А.А. Прудник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Блок-схема: перфолента 4"/>
          <p:cNvGrpSpPr/>
          <p:nvPr/>
        </p:nvGrpSpPr>
        <p:grpSpPr>
          <a:xfrm>
            <a:off x="2066760" y="133200"/>
            <a:ext cx="6510600" cy="4687920"/>
            <a:chOff x="2066760" y="133200"/>
            <a:chExt cx="6510600" cy="4687920"/>
          </a:xfrm>
        </p:grpSpPr>
        <p:pic>
          <p:nvPicPr>
            <p:cNvPr id="250" name="Блок-схема: перфолента 4" descr=""/>
            <p:cNvPicPr/>
            <p:nvPr/>
          </p:nvPicPr>
          <p:blipFill>
            <a:blip r:embed="rId1"/>
            <a:stretch/>
          </p:blipFill>
          <p:spPr>
            <a:xfrm>
              <a:off x="2066760" y="133200"/>
              <a:ext cx="6510600" cy="468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2071800" y="1076400"/>
              <a:ext cx="6492600" cy="279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00000"/>
                  </a:solidFill>
                  <a:latin typeface="Times New Roman"/>
                </a:rPr>
                <a:t>БЮДЖЕТ 2019-2021 годы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00000"/>
                  </a:solidFill>
                  <a:latin typeface="Times New Roman"/>
                </a:rPr>
                <a:t>ПРОГРАММНЫЙ БЮДЖЕТ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Схема 1" descr=""/>
          <p:cNvPicPr/>
          <p:nvPr/>
        </p:nvPicPr>
        <p:blipFill>
          <a:blip r:embed="rId1"/>
          <a:stretch/>
        </p:blipFill>
        <p:spPr>
          <a:xfrm>
            <a:off x="1116000" y="433440"/>
            <a:ext cx="824076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"/>
          <p:cNvSpPr/>
          <p:nvPr/>
        </p:nvSpPr>
        <p:spPr>
          <a:xfrm>
            <a:off x="0" y="0"/>
            <a:ext cx="990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РЕАЛИЗАЦИЯ ПОЛНОМОЧИЙ АДМИНИСТРАЦИИ НАВЛИНСКОГО РАЙОНА»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(2019 – 2023 ГОД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736560" y="1220760"/>
            <a:ext cx="9093240" cy="39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ффективное исполнение полномочий по решению  вопросов местного значения и отдельных государственных полномочий Брянской области, переданных в соответствии с законами Брян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ализация полномочий администрации Навлинского района  по решению вопросов местного значения муниципального образования «Навлинский   район», а также отдельных государственных полномочий Брянской области, переданных в соответствии с законами Брянской област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условий для оптимизации и повышения эффективности расходов бюджета Навлинского муниципального района в части расходов администрации Навлинского  район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условий для обеспечения комплексного социально-экономического развит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0" y="0"/>
            <a:ext cx="9678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Состав муниципальной програм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РЕАЛИЗАЦИЯ ПОЛНОМОЧИЙ АДМИНИСТРАЦИИ НАВЛИНСКОГО РАЙОНА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(2019 – 2023 ГОДЫ)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55440" y="923760"/>
          <a:ext cx="9623520" cy="4778640"/>
        </p:xfrm>
        <a:graphic>
          <a:graphicData uri="http://schemas.openxmlformats.org/drawingml/2006/table">
            <a:tbl>
              <a:tblPr/>
              <a:tblGrid>
                <a:gridCol w="7388280"/>
                <a:gridCol w="828720"/>
                <a:gridCol w="692280"/>
                <a:gridCol w="714240"/>
              </a:tblGrid>
              <a:tr h="228600"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2408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материально-техническому и финансовому обеспечению  деятельности аппарата администрации Навлинского рай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9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9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9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2372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защите населения и территории от чрезвычайных ситуаций природного и техногенного характера, гражданская оборо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41760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реализации стратегической роли культуры как духовно-нравственного основания развития личности и государства, сохранения культурного и исторического наслед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9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1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37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реализации единой социальной политики на территории Навлинского рай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8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860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созданию условий успешной самореализации молодеж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42408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вовлечению в занятия физической культурой и массовом спортом, участие в соревнованиях различного уров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7792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осуществлению отдельных государственных полномочий Брянской обла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7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1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0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860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области жилищно-коммунального хозяй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860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созданию условий для эффективной деятельности многофункционального цен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860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мобилизационной подготовки эконом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860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ершенствование системы управления пассажирскими перевоз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8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8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8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860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ое обеспечение деятельности органов местного самоуправ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860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юджетные отношения с муниципальными образованиями за счет средств бюджета МО «Навлинский район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0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860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программа «Обеспечение жильем молодых семей» (2013-2020гг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8728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рограмма «Поддержка местных инициатив граждан на территории Навлинского района» на 2017-2020 г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860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 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 7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 9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0" y="0"/>
            <a:ext cx="967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МУНИЦИПАЛЬНАЯ ПРОГРАММ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«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 ОБРАЗОВАНИЯ НАВЛИНСКОГО РАЙОНА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(2019 – 2023 ГОД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728640" y="1168560"/>
            <a:ext cx="905040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програм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Обеспечение высокого качества образования в соответствии с меняющимися запросами населения и перспективными задачами развития российского общества и экономи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формирование экономических условий, обеспечивающих муниципальную систему образования финансовыми, материально-техническими ресурса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бновление содержания и структуры образования на основе новых стандартов общего образования второго поколения. Повышение качества образования на основе развития инновационных процессов. Развитие системы оценки качества образования на каждом его уров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существление комплексных мер по стимулированию инновационной деятельности образовательных учреждений и педагогических работник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механизмов координации и интеграции сетевого взаимодействия в работе с одаренными детьми и талантливой молодежью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.создание необходимых условий полноценного и безопасного отдыха и оздоровления дете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вышение профессиональной компетентности педагогических и управленческих кадров, укрепление их социального статуса через разработку новой модели системы повышения  квалификации педагогических работников района, участие педагогов в конкурсах профессионального мастерст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0" y="0"/>
            <a:ext cx="96789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Состав муниципальной програм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 ОБРАЗОВАНИЯ НАВЛИНСКОГО РАЙОНА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(2019 – 2023 ГОДЫ),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98440" y="861840"/>
          <a:ext cx="9269280" cy="4345200"/>
        </p:xfrm>
        <a:graphic>
          <a:graphicData uri="http://schemas.openxmlformats.org/drawingml/2006/table">
            <a:tbl>
              <a:tblPr/>
              <a:tblGrid>
                <a:gridCol w="6289560"/>
                <a:gridCol w="997200"/>
                <a:gridCol w="1020600"/>
                <a:gridCol w="961920"/>
              </a:tblGrid>
              <a:tr h="281160"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2811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дошко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 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 2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 8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808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обще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 3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 6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7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841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о-техническое, финансовое, информационное обеспечение деятель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414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отдельных мероприятий в сфере образования и материально-техническое обеспечение прочих учреждений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4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2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603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ение отдельных государственных полномочий Брян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8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8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8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508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организации временного   трудоустройства несовершеннолетних граждан в возрасте от 14 до 18 лет в Навлинском райо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5414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совершенствованию системы   профилактики правонарушений и усиление борьбы с преступность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808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мероприятий по охране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811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проведению оздоровительной кампании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808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дополните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3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3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811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1 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8 3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 6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0" y="0"/>
            <a:ext cx="9678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МУНИЦИПАЛЬНАЯ ПРОГРАММ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УПРАВЛЕНИЕ МУНИЦИПАЛЬНЫМИ ФИНАНСАМИ МУНИЦИПАЛЬНОГО ОБРАЗОВА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НАВЛИНСКИЙ РАЙОН»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(2019 – 2023 ГОДЫ), (тыс. руб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оугольник 5"/>
          <p:cNvSpPr/>
          <p:nvPr/>
        </p:nvSpPr>
        <p:spPr>
          <a:xfrm>
            <a:off x="85680" y="853920"/>
            <a:ext cx="9820440" cy="29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и программы -  обеспечение долгосрочной сбалансированности и устойчивости бюджетной системы муниципального образования «Навлинский район», создание условий для оптимизации и повышения эффективности расходов бюджета района, создание условий для эффективного выполнения полномочий органов местного самоуправл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еализация мероприятий, направленных на сбалансированное управление расходами бюджета район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недрение современных методов и технологий управления муниципальными финансам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вышение прозрачности бюджетной системы муниципального образования «Навлинский район»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ыравнивание бюджетной обеспеченности муниципальных образований и поддержка мер по обеспечению сбалансированности местных бюджетов в Навлинском районе в рамках содействия органам местного самоуправления в осуществлении реализации полномочий по решению вопросов местного значе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26880" y="3909960"/>
          <a:ext cx="9352080" cy="1930320"/>
        </p:xfrm>
        <a:graphic>
          <a:graphicData uri="http://schemas.openxmlformats.org/drawingml/2006/table">
            <a:tbl>
              <a:tblPr/>
              <a:tblGrid>
                <a:gridCol w="6712200"/>
                <a:gridCol w="961920"/>
                <a:gridCol w="873000"/>
                <a:gridCol w="804960"/>
              </a:tblGrid>
              <a:tr h="405000"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572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материально-техническому, финансовому и информационному обеспечению деятель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6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6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6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268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мероприятий по межбюджетным отношениям с городскими и сельскими поселен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618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отношения с муниципальными образованиями за счет средств бюджета МО "Навлинский район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793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7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7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7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0" y="0"/>
            <a:ext cx="9678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МУНИЦИПАЛЬНАЯ ПРОГРАММ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УПРАВЛЕНИЕ МУНИЦИПАЛЬНОЙ СОБСТВЕННОСТЬЮ НАВЛИНСКОГО РАЙОНА БРЯНСКОЙ ОБЛАСТИ» (2019 – 2023 ГОДЫ), 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Прямоугольник 2"/>
          <p:cNvSpPr/>
          <p:nvPr/>
        </p:nvSpPr>
        <p:spPr>
          <a:xfrm>
            <a:off x="217440" y="830160"/>
            <a:ext cx="9461520" cy="30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ПРОГРАММЫ - обеспечение эффективного управления, распоряжения, а также рационального использования муниципального имущества Навлинского района Брянской  обла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беспечение функционирования системы учета муниципального  имущества Навлинского района Брянской области, управления, распоряжения и контроля за  его рациональным использованием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осуществление приватизации муниципального  имущества Навлинского района Брянской области и обеспечение системного и планового подхода к приватизационному процессу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рганизация и координация работы по  управлению и распоряжению земельными  участками, находящимися в собственности  Навлинского района Брянской област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распоряжение земельными участками, государственная собственность на которые не разграничена, находящимися на территории Навлинского района  Брян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17440" y="3903840"/>
          <a:ext cx="9536040" cy="1973160"/>
        </p:xfrm>
        <a:graphic>
          <a:graphicData uri="http://schemas.openxmlformats.org/drawingml/2006/table">
            <a:tbl>
              <a:tblPr/>
              <a:tblGrid>
                <a:gridCol w="5897520"/>
                <a:gridCol w="1116000"/>
                <a:gridCol w="1225800"/>
                <a:gridCol w="1296720"/>
              </a:tblGrid>
              <a:tr h="42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55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о-техническое и финансовое обеспечение деятельности отдела по управлению муниципальным имуще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1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эффективного управления и распоряжения муниципальным имуществом Навлинского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"/>
          <p:cNvSpPr/>
          <p:nvPr/>
        </p:nvSpPr>
        <p:spPr>
          <a:xfrm>
            <a:off x="152280" y="0"/>
            <a:ext cx="967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ЭНЕРГОСБЕРЕЖЕНИЕ И ПОВЫШЕНИЕ ЭНЕРГЕТИЧЕСКОЙ ЭФФЕКТИВНОСТИ В НАВЛИНСКОМ РАЙОНЕ БРЯНСКОЙ ОБЛАСТИ НА 2010-2017 ГОДЫ И ЦЕЛЕВЫЕ УСТАНОВКИ НА ПЕРИОД ДО 2020 ГОДА», 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Прямоугольник 4"/>
          <p:cNvSpPr/>
          <p:nvPr/>
        </p:nvSpPr>
        <p:spPr>
          <a:xfrm>
            <a:off x="235080" y="1077840"/>
            <a:ext cx="9671040" cy="25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algn="just">
              <a:lnSpc>
                <a:spcPct val="11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ЦЕЛЬ ПРОГРАММ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just">
              <a:lnSpc>
                <a:spcPct val="11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рациональное использование топливно-энергетических ресурсов и внедрение технологий энергосбе­ре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just">
              <a:lnSpc>
                <a:spcPct val="11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повышение энергетической эффективности потребления тепла, газа, электроэнергии, воды и стиму­лирование использования энергосберегающих технолог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потенциала энергосбережения и повышения энергетической эффектив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перечня мероприятий по энергосбережению и повышению энергетической эффективности и проведение их стоимостной оце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, обеспечивающих максимально эффективное использование потенциала топливно-энергетических ресурсов для роста экономии и повышения качества жизни Навлинского района, за счет сокращения количества потребляемой энергии, выхода на более высокую ступень эффектив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79520" y="3724200"/>
          <a:ext cx="9177120" cy="1287360"/>
        </p:xfrm>
        <a:graphic>
          <a:graphicData uri="http://schemas.openxmlformats.org/drawingml/2006/table">
            <a:tbl>
              <a:tblPr/>
              <a:tblGrid>
                <a:gridCol w="6308640"/>
                <a:gridCol w="1047600"/>
                <a:gridCol w="911520"/>
                <a:gridCol w="909360"/>
              </a:tblGrid>
              <a:tr h="443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420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мероприятий по повышению энергетической эффективности и обеспечению энергосбере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2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2"/>
          <p:cNvSpPr/>
          <p:nvPr/>
        </p:nvSpPr>
        <p:spPr>
          <a:xfrm>
            <a:off x="312840" y="1095480"/>
            <a:ext cx="917424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программная часть бюджета на 2019 год определена в сумме 2081 тыс. рублей, или 0,5 процента всей расходной части бюджета, в нее вошли расходы на обеспечение деятельност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ставительного органа муниципального образования – Навлинский районный Совет народных депутатов в сумме 778 тыс. руб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трольно-счётного органа муниципального образования – Контрольно-счётная палата Навлинского района в сумме 964 тыс.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ация проведения референдумов и выборов – Администрация Навлинского района – 239 тыс. руб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ервный фонд администрации Навлинского района в объеме 100 тыс. руб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95400" y="157320"/>
            <a:ext cx="9629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НЕПРОГРАММНАЯ ЧАСТЬ РАСХОДОВ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8040" y="-360"/>
            <a:ext cx="882828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такое бюдже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12560" y="668160"/>
            <a:ext cx="93992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ответствии с Бюджетным кодексом Российской Федераци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юджетом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являетс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а образования и расходования денежных средст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редназначенных для финансового обеспечения задач и функций государства и местного самоуправл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юджет состоит из трех основных частей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ходов, расходов и источников финансирования дефицита бюдже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хода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бюджета понимаются денежные средств, поступающие в бюджет в безвозмездном и безвозвратном порядке в соответствии с законодательством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ответствии с Бюджетным кодексом Российской Федерации доходы бюджета образуются за счет налоговых и неналоговых доходов, а также за счет безвозмездных поступлен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ход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бюджета - это выплачиваемые из бюджета денежные средства, которые направляются на финансовое обеспечение задач и функций государственной власти и местного самоуправл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фицит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юджета - превышение расходов бюджета над его доход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Сбалансированность бюджета по доходам и расхода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основополагающее требование, предъявляемое к органам, составляющим и утверждающим бюдж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7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Овал 6"/>
          <p:cNvGrpSpPr/>
          <p:nvPr/>
        </p:nvGrpSpPr>
        <p:grpSpPr>
          <a:xfrm>
            <a:off x="2981160" y="2146320"/>
            <a:ext cx="3943440" cy="3352680"/>
            <a:chOff x="2981160" y="2146320"/>
            <a:chExt cx="3943440" cy="3352680"/>
          </a:xfrm>
        </p:grpSpPr>
        <p:pic>
          <p:nvPicPr>
            <p:cNvPr id="273" name="Овал 6" descr=""/>
            <p:cNvPicPr/>
            <p:nvPr/>
          </p:nvPicPr>
          <p:blipFill>
            <a:blip r:embed="rId1"/>
            <a:stretch/>
          </p:blipFill>
          <p:spPr>
            <a:xfrm>
              <a:off x="2981160" y="2146320"/>
              <a:ext cx="394344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543480" y="2617920"/>
              <a:ext cx="2498400" cy="20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TextBox 5"/>
          <p:cNvSpPr/>
          <p:nvPr/>
        </p:nvSpPr>
        <p:spPr>
          <a:xfrm>
            <a:off x="1494000" y="2479680"/>
            <a:ext cx="681336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инансовое управление администрации Навлинского райо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чтовый адрес: 242130, п. Навл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л. Красных Партизан 21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акс: (4832) 21988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Тел.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(48342)21988, 8(48342)2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фициальный сайт администрации района: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admnav.ru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E-mail: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Times New Roman"/>
                <a:ea typeface="Tahoma"/>
                <a:hlinkClick r:id="rId3"/>
              </a:rPr>
              <a:t>nvlfinotdel@mail.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1958400" y="1101600"/>
            <a:ext cx="559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808200" y="163440"/>
            <a:ext cx="8721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87480" y="0"/>
            <a:ext cx="92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177840" y="1058760"/>
            <a:ext cx="972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Вертикальный свиток 5"/>
          <p:cNvSpPr/>
          <p:nvPr/>
        </p:nvSpPr>
        <p:spPr>
          <a:xfrm>
            <a:off x="522360" y="523800"/>
            <a:ext cx="8358120" cy="2094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b0f0"/>
              </a:gs>
              <a:gs pos="100000">
                <a:srgbClr val="8181de"/>
              </a:gs>
            </a:gsLst>
            <a:lin ang="5400000"/>
          </a:gra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жбюджетные трансферт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средства, предоставляемые одним бюджетом бюджетной системы Российской Федерации другому бюджету бюджетной системы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ая прямоугольная выноска 7"/>
          <p:cNvSpPr/>
          <p:nvPr/>
        </p:nvSpPr>
        <p:spPr>
          <a:xfrm>
            <a:off x="787320" y="3076560"/>
            <a:ext cx="2643120" cy="2117880"/>
          </a:xfrm>
          <a:prstGeom prst="wedgeRoundRectCallout">
            <a:avLst>
              <a:gd name="adj1" fmla="val -26523"/>
              <a:gd name="adj2" fmla="val 70023"/>
              <a:gd name="adj3" fmla="val 16667"/>
            </a:avLst>
          </a:prstGeom>
          <a:gradFill rotWithShape="0">
            <a:gsLst>
              <a:gs pos="0">
                <a:srgbClr val="49c18d"/>
              </a:gs>
              <a:gs pos="100000">
                <a:srgbClr val="cceedf"/>
              </a:gs>
            </a:gsLst>
            <a:lin ang="16200000"/>
          </a:gradFill>
          <a:ln w="9360">
            <a:solidFill>
              <a:srgbClr val="9bbb59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Calibri"/>
                <a:ea typeface="Times New Roman"/>
              </a:rPr>
              <a:t>ДОТАЦИИ </a:t>
            </a:r>
            <a:r>
              <a:rPr b="1" i="1" lang="ru-RU" sz="1600" spc="-1" strike="noStrike">
                <a:solidFill>
                  <a:srgbClr val="3333cc"/>
                </a:solidFill>
                <a:latin typeface="Calibri"/>
                <a:ea typeface="Times New Roman"/>
              </a:rPr>
              <a:t>-</a:t>
            </a:r>
            <a:r>
              <a:rPr b="0" lang="ru-RU" sz="1400" spc="-1" strike="noStrike">
                <a:solidFill>
                  <a:srgbClr val="3333cc"/>
                </a:solidFill>
                <a:latin typeface="Calibri"/>
                <a:ea typeface="Times New Roman"/>
              </a:rPr>
              <a:t>                           </a:t>
            </a:r>
            <a:r>
              <a:rPr b="0" lang="ru-RU" sz="1800" spc="-1" strike="noStrike">
                <a:solidFill>
                  <a:srgbClr val="3333cc"/>
                </a:solidFill>
                <a:latin typeface="Calibri"/>
                <a:ea typeface="Times New Roman"/>
              </a:rPr>
              <a:t>без установления направлений и (или) условий их использ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ая прямоугольная выноска 8"/>
          <p:cNvSpPr/>
          <p:nvPr/>
        </p:nvSpPr>
        <p:spPr>
          <a:xfrm>
            <a:off x="3919680" y="3165480"/>
            <a:ext cx="2714400" cy="2286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gradFill rotWithShape="0">
            <a:gsLst>
              <a:gs pos="0">
                <a:srgbClr val="f5f5fc"/>
              </a:gs>
              <a:gs pos="100000">
                <a:srgbClr val="c2c2f0"/>
              </a:gs>
            </a:gsLst>
            <a:lin ang="5400000"/>
          </a:gradFill>
          <a:ln w="9360">
            <a:solidFill>
              <a:srgbClr val="8064a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Calibri"/>
                <a:ea typeface="Times New Roman"/>
              </a:rPr>
              <a:t>СУБВЕН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Calibri"/>
                <a:ea typeface="Times New Roman"/>
              </a:rPr>
              <a:t>на финанс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alibri"/>
                <a:ea typeface="Times New Roman"/>
              </a:rPr>
              <a:t>«переданных» другим публично-правовым образованиям полномоч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Скругленная прямоугольная выноска 9"/>
          <p:cNvSpPr/>
          <p:nvPr/>
        </p:nvSpPr>
        <p:spPr>
          <a:xfrm>
            <a:off x="6946920" y="3121200"/>
            <a:ext cx="2714760" cy="2286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gradFill rotWithShape="0">
            <a:gsLst>
              <a:gs pos="0">
                <a:srgbClr val="f0fffb"/>
              </a:gs>
              <a:gs pos="100000">
                <a:srgbClr val="a3ffe8"/>
              </a:gs>
            </a:gsLst>
            <a:lin ang="5400000"/>
          </a:gradFill>
          <a:ln w="9360">
            <a:solidFill>
              <a:srgbClr val="8064a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Calibri"/>
                <a:ea typeface="Times New Roman"/>
              </a:rPr>
              <a:t>СУБСИД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99"/>
                </a:solidFill>
                <a:latin typeface="Calibri"/>
              </a:rPr>
              <a:t>на софинансирование расходных обязательств, возникающих при выполнении полномочий по вопросам местного знач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87480" y="0"/>
            <a:ext cx="92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268200" y="1046160"/>
            <a:ext cx="97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Овальная выноска 11"/>
          <p:cNvSpPr/>
          <p:nvPr/>
        </p:nvSpPr>
        <p:spPr>
          <a:xfrm>
            <a:off x="939960" y="523800"/>
            <a:ext cx="2360520" cy="1143000"/>
          </a:xfrm>
          <a:prstGeom prst="wedgeEllipseCallout">
            <a:avLst>
              <a:gd name="adj1" fmla="val -21435"/>
              <a:gd name="adj2" fmla="val 68574"/>
            </a:avLst>
          </a:prstGeom>
          <a:solidFill>
            <a:srgbClr val="fa6e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фиц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Овальная выноска 12"/>
          <p:cNvSpPr/>
          <p:nvPr/>
        </p:nvSpPr>
        <p:spPr>
          <a:xfrm>
            <a:off x="6769080" y="539640"/>
            <a:ext cx="2546280" cy="1143000"/>
          </a:xfrm>
          <a:prstGeom prst="wedgeEllipseCallout">
            <a:avLst>
              <a:gd name="adj1" fmla="val -21435"/>
              <a:gd name="adj2" fmla="val 68574"/>
            </a:avLst>
          </a:prstGeom>
          <a:solidFill>
            <a:srgbClr val="92d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фиц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Блок-схема: процесс 13" descr=""/>
          <p:cNvPicPr/>
          <p:nvPr/>
        </p:nvPicPr>
        <p:blipFill>
          <a:blip r:embed="rId1"/>
          <a:stretch/>
        </p:blipFill>
        <p:spPr>
          <a:xfrm>
            <a:off x="1225440" y="1908000"/>
            <a:ext cx="1689120" cy="331632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15" descr=""/>
          <p:cNvPicPr/>
          <p:nvPr/>
        </p:nvPicPr>
        <p:blipFill>
          <a:blip r:embed="rId2"/>
          <a:stretch/>
        </p:blipFill>
        <p:spPr>
          <a:xfrm>
            <a:off x="2908440" y="2620800"/>
            <a:ext cx="1187280" cy="267660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17"/>
          <p:cNvSpPr/>
          <p:nvPr/>
        </p:nvSpPr>
        <p:spPr>
          <a:xfrm>
            <a:off x="1050840" y="5211720"/>
            <a:ext cx="321480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ревышение расходов бюджета над его доход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Скругленный прямоугольник 19"/>
          <p:cNvSpPr/>
          <p:nvPr/>
        </p:nvSpPr>
        <p:spPr>
          <a:xfrm>
            <a:off x="5880240" y="5218200"/>
            <a:ext cx="321444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ревышение доходов бюджета над его расход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Прямоугольник 20" descr=""/>
          <p:cNvPicPr/>
          <p:nvPr/>
        </p:nvPicPr>
        <p:blipFill>
          <a:blip r:embed="rId3"/>
          <a:stretch/>
        </p:blipFill>
        <p:spPr>
          <a:xfrm>
            <a:off x="6267600" y="1994040"/>
            <a:ext cx="1474560" cy="3224160"/>
          </a:xfrm>
          <a:prstGeom prst="rect">
            <a:avLst/>
          </a:prstGeom>
          <a:ln w="0">
            <a:noFill/>
          </a:ln>
        </p:spPr>
      </p:pic>
      <p:pic>
        <p:nvPicPr>
          <p:cNvPr id="123" name="Блок-схема: процесс 21" descr=""/>
          <p:cNvPicPr/>
          <p:nvPr/>
        </p:nvPicPr>
        <p:blipFill>
          <a:blip r:embed="rId4"/>
          <a:stretch/>
        </p:blipFill>
        <p:spPr>
          <a:xfrm>
            <a:off x="7729560" y="2664000"/>
            <a:ext cx="10177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8040" y="-360"/>
            <a:ext cx="882828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сновные поняти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Как детализируются расход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43000" y="298080"/>
            <a:ext cx="967896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9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Вертикальный свиток 3"/>
          <p:cNvSpPr/>
          <p:nvPr/>
        </p:nvSpPr>
        <p:spPr>
          <a:xfrm>
            <a:off x="738360" y="1214280"/>
            <a:ext cx="2571480" cy="128592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рограммные  рас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Вертикальный свиток 4"/>
          <p:cNvSpPr/>
          <p:nvPr/>
        </p:nvSpPr>
        <p:spPr>
          <a:xfrm>
            <a:off x="6622920" y="1214280"/>
            <a:ext cx="3011760" cy="1285920"/>
          </a:xfrm>
          <a:prstGeom prst="verticalScroll">
            <a:avLst>
              <a:gd name="adj" fmla="val 12500"/>
            </a:avLst>
          </a:prstGeom>
          <a:solidFill>
            <a:srgbClr val="60c99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Муниципальные програм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Стрелка вправо 5"/>
          <p:cNvSpPr/>
          <p:nvPr/>
        </p:nvSpPr>
        <p:spPr>
          <a:xfrm>
            <a:off x="3699000" y="4506840"/>
            <a:ext cx="2600280" cy="890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ccb79c"/>
          </a:solidFill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6 ГРБ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Стрелка влево 6"/>
          <p:cNvSpPr/>
          <p:nvPr/>
        </p:nvSpPr>
        <p:spPr>
          <a:xfrm>
            <a:off x="3763800" y="2995560"/>
            <a:ext cx="2379960" cy="85716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ccb79c"/>
          </a:solidFill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12 разде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Вертикальный свиток 8"/>
          <p:cNvSpPr/>
          <p:nvPr/>
        </p:nvSpPr>
        <p:spPr>
          <a:xfrm>
            <a:off x="573120" y="4317840"/>
            <a:ext cx="2736720" cy="12859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едомственная струк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Вертикальный свиток 9"/>
          <p:cNvSpPr/>
          <p:nvPr/>
        </p:nvSpPr>
        <p:spPr>
          <a:xfrm>
            <a:off x="573120" y="2805120"/>
            <a:ext cx="2571840" cy="12859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аправление сред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Вертикальный свиток 10"/>
          <p:cNvSpPr/>
          <p:nvPr/>
        </p:nvSpPr>
        <p:spPr>
          <a:xfrm>
            <a:off x="6711840" y="4292640"/>
            <a:ext cx="3194280" cy="149076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Главные распорядители бюджетных средст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Вертикальный свиток 11"/>
          <p:cNvSpPr/>
          <p:nvPr/>
        </p:nvSpPr>
        <p:spPr>
          <a:xfrm>
            <a:off x="6711840" y="2808360"/>
            <a:ext cx="3100320" cy="128592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ункциональная струк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Стрелка вправо 12"/>
          <p:cNvSpPr/>
          <p:nvPr/>
        </p:nvSpPr>
        <p:spPr>
          <a:xfrm>
            <a:off x="3699000" y="1438200"/>
            <a:ext cx="2600280" cy="9511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ccb79c"/>
          </a:solidFill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5 програ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0"/>
          <p:cNvSpPr/>
          <p:nvPr/>
        </p:nvSpPr>
        <p:spPr>
          <a:xfrm>
            <a:off x="382680" y="1033560"/>
            <a:ext cx="3198600" cy="1519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Бюджетное посла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Президента РФ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Федеральному Собранию РФ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О бюджетной полит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52680" y="149400"/>
            <a:ext cx="86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 ЧЕМ ОСНОВЫВАЕТСЯ СОСТАВЛЕНИЕ ПРОЕКТА БЮДЖЕТА РАЙ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3"/>
          <p:cNvSpPr/>
          <p:nvPr/>
        </p:nvSpPr>
        <p:spPr>
          <a:xfrm>
            <a:off x="3581280" y="2309760"/>
            <a:ext cx="2952720" cy="1544760"/>
          </a:xfrm>
          <a:prstGeom prst="ellipse">
            <a:avLst/>
          </a:prstGeom>
          <a:solidFill>
            <a:srgbClr val="a3ab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ЕКТ БЮДЖ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2019-2021 го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4"/>
          <p:cNvSpPr/>
          <p:nvPr/>
        </p:nvSpPr>
        <p:spPr>
          <a:xfrm>
            <a:off x="6534000" y="1033560"/>
            <a:ext cx="3151440" cy="1519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Прогноз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социально-экономического развит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Навлинского райо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5"/>
          <p:cNvSpPr/>
          <p:nvPr/>
        </p:nvSpPr>
        <p:spPr>
          <a:xfrm>
            <a:off x="6534000" y="3726000"/>
            <a:ext cx="3151440" cy="1519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Муниципальные программ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Навлинского райо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1658880" y="3995640"/>
            <a:ext cx="3294000" cy="15512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Основные направле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бюджетной и налоговой политик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Навлинского райо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7"/>
          <p:cNvSpPr/>
          <p:nvPr/>
        </p:nvSpPr>
        <p:spPr>
          <a:xfrm>
            <a:off x="3044880" y="3129120"/>
            <a:ext cx="812880" cy="866520"/>
          </a:xfrm>
          <a:custGeom>
            <a:avLst/>
            <a:gdLst>
              <a:gd name="textAreaLeft" fmla="*/ 467640 w 812880"/>
              <a:gd name="textAreaRight" fmla="*/ 683280 w 81288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982" y="0"/>
                </a:lnTo>
                <a:lnTo>
                  <a:pt x="14982" y="2915"/>
                </a:lnTo>
                <a:lnTo>
                  <a:pt x="12427" y="2915"/>
                </a:lnTo>
                <a:cubicBezTo>
                  <a:pt x="5564" y="2915"/>
                  <a:pt x="0" y="7053"/>
                  <a:pt x="0" y="12158"/>
                </a:cubicBezTo>
                <a:lnTo>
                  <a:pt x="0" y="21600"/>
                </a:lnTo>
                <a:lnTo>
                  <a:pt x="6468" y="21600"/>
                </a:lnTo>
                <a:lnTo>
                  <a:pt x="6468" y="12158"/>
                </a:lnTo>
                <a:cubicBezTo>
                  <a:pt x="6468" y="10548"/>
                  <a:pt x="9136" y="9243"/>
                  <a:pt x="12427" y="9243"/>
                </a:cubicBezTo>
                <a:lnTo>
                  <a:pt x="14982" y="9243"/>
                </a:lnTo>
                <a:lnTo>
                  <a:pt x="14982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47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8"/>
          <p:cNvSpPr/>
          <p:nvPr/>
        </p:nvSpPr>
        <p:spPr>
          <a:xfrm rot="5400000">
            <a:off x="3607560" y="1712160"/>
            <a:ext cx="814320" cy="866880"/>
          </a:xfrm>
          <a:custGeom>
            <a:avLst/>
            <a:gdLst>
              <a:gd name="textAreaLeft" fmla="*/ 468360 w 814320"/>
              <a:gd name="textAreaRight" fmla="*/ 684720 w 814320"/>
              <a:gd name="textAreaTop" fmla="*/ 117000 h 866880"/>
              <a:gd name="textAreaBottom" fmla="*/ 37080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982" y="0"/>
                </a:lnTo>
                <a:lnTo>
                  <a:pt x="14982" y="2915"/>
                </a:lnTo>
                <a:lnTo>
                  <a:pt x="12427" y="2915"/>
                </a:lnTo>
                <a:cubicBezTo>
                  <a:pt x="5564" y="2915"/>
                  <a:pt x="0" y="7053"/>
                  <a:pt x="0" y="12158"/>
                </a:cubicBezTo>
                <a:lnTo>
                  <a:pt x="0" y="21600"/>
                </a:lnTo>
                <a:lnTo>
                  <a:pt x="6468" y="21600"/>
                </a:lnTo>
                <a:lnTo>
                  <a:pt x="6468" y="12158"/>
                </a:lnTo>
                <a:cubicBezTo>
                  <a:pt x="6468" y="10548"/>
                  <a:pt x="9136" y="9243"/>
                  <a:pt x="12427" y="9243"/>
                </a:cubicBezTo>
                <a:lnTo>
                  <a:pt x="14982" y="9243"/>
                </a:lnTo>
                <a:lnTo>
                  <a:pt x="14982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9"/>
          <p:cNvSpPr/>
          <p:nvPr/>
        </p:nvSpPr>
        <p:spPr>
          <a:xfrm rot="16200000">
            <a:off x="5824440" y="3475080"/>
            <a:ext cx="652320" cy="766440"/>
          </a:xfrm>
          <a:custGeom>
            <a:avLst/>
            <a:gdLst>
              <a:gd name="textAreaLeft" fmla="*/ 375480 w 652320"/>
              <a:gd name="textAreaRight" fmla="*/ 548280 w 652320"/>
              <a:gd name="textAreaTop" fmla="*/ 103320 h 766440"/>
              <a:gd name="textAreaBottom" fmla="*/ 327960 h 7664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982" y="0"/>
                </a:lnTo>
                <a:lnTo>
                  <a:pt x="14982" y="2915"/>
                </a:lnTo>
                <a:lnTo>
                  <a:pt x="12427" y="2915"/>
                </a:lnTo>
                <a:cubicBezTo>
                  <a:pt x="5564" y="2915"/>
                  <a:pt x="0" y="7053"/>
                  <a:pt x="0" y="12158"/>
                </a:cubicBezTo>
                <a:lnTo>
                  <a:pt x="0" y="21600"/>
                </a:lnTo>
                <a:lnTo>
                  <a:pt x="6468" y="21600"/>
                </a:lnTo>
                <a:lnTo>
                  <a:pt x="6468" y="12158"/>
                </a:lnTo>
                <a:cubicBezTo>
                  <a:pt x="6468" y="10548"/>
                  <a:pt x="9136" y="9243"/>
                  <a:pt x="12427" y="9243"/>
                </a:cubicBezTo>
                <a:lnTo>
                  <a:pt x="14982" y="9243"/>
                </a:lnTo>
                <a:lnTo>
                  <a:pt x="14982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47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0"/>
          <p:cNvSpPr/>
          <p:nvPr/>
        </p:nvSpPr>
        <p:spPr>
          <a:xfrm rot="10800000">
            <a:off x="6257880" y="2552400"/>
            <a:ext cx="682560" cy="817560"/>
          </a:xfrm>
          <a:custGeom>
            <a:avLst/>
            <a:gdLst>
              <a:gd name="textAreaLeft" fmla="*/ 392760 w 682560"/>
              <a:gd name="textAreaRight" fmla="*/ 573840 w 682560"/>
              <a:gd name="textAreaTop" fmla="*/ 110160 h 817560"/>
              <a:gd name="textAreaBottom" fmla="*/ 349920 h 8175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982" y="0"/>
                </a:lnTo>
                <a:lnTo>
                  <a:pt x="14982" y="2915"/>
                </a:lnTo>
                <a:lnTo>
                  <a:pt x="12427" y="2915"/>
                </a:lnTo>
                <a:cubicBezTo>
                  <a:pt x="5564" y="2915"/>
                  <a:pt x="0" y="7053"/>
                  <a:pt x="0" y="12158"/>
                </a:cubicBezTo>
                <a:lnTo>
                  <a:pt x="0" y="21600"/>
                </a:lnTo>
                <a:lnTo>
                  <a:pt x="6468" y="21600"/>
                </a:lnTo>
                <a:lnTo>
                  <a:pt x="6468" y="12158"/>
                </a:lnTo>
                <a:cubicBezTo>
                  <a:pt x="6468" y="10548"/>
                  <a:pt x="9136" y="9243"/>
                  <a:pt x="12427" y="9243"/>
                </a:cubicBezTo>
                <a:lnTo>
                  <a:pt x="14982" y="9243"/>
                </a:lnTo>
                <a:lnTo>
                  <a:pt x="14982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47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2T04:33:03Z</dcterms:created>
  <dc:creator>Reanimator 98</dc:creator>
  <dc:description/>
  <dc:language>en-US</dc:language>
  <cp:lastModifiedBy>User</cp:lastModifiedBy>
  <cp:lastPrinted>2016-12-13T08:39:40Z</cp:lastPrinted>
  <dcterms:modified xsi:type="dcterms:W3CDTF">2018-12-28T06:36:21Z</dcterms:modified>
  <cp:revision>1082</cp:revision>
  <dc:subject/>
  <dc:title>Презентация PowerPoint</dc:title>
</cp:coreProperties>
</file>