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272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3A6FBD-46FC-41E4-8C01-956DC35345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231416-F4A7-4B72-A34D-FB041A0FAC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F6D24C-5887-46E0-BEAC-E43F6C883C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DAF190-38C8-4084-BF3C-F1B3EC7E5D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706320" y="741240"/>
            <a:ext cx="5384880" cy="372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0FD3DEF6-AD69-40BA-B26F-163EDFCA70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63F-1C8F-4105-A904-2436451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42E-0DB1-4D6B-834E-9C258F3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B0B-6A8E-43E9-9582-F5E168EE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132-2297-4288-BEBC-4F4401D6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1791-8F11-4769-ACE7-58A5A8E3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2666-7A4E-42EB-A3EE-2EB216AC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68D4-B6F6-49FD-9613-FFC08020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DE9E-A412-4CC6-8E5D-3B684E07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720C-B0FD-4142-A5EE-1E42F21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9206-6BCB-4B4B-94B5-9238112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C03C-0E8A-4FB0-9356-82D9153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948-6597-4AF3-A01B-79F27B08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A2C4-31FD-4DBA-814E-BFF8A9A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9AD6-4F62-460F-8A8F-F7B679E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6FEE-C148-4F83-9B21-F91E600E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D634-9C76-4E27-AA66-4525E30F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BFA3-A078-4B63-93E0-B9B819A9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BE7-0BD0-4435-99F3-BD38D007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25F-044B-42C6-A760-D26CB7A2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6E7-82BF-4881-936C-FA072268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46C-5261-4660-8FC5-458EB53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1B4-DD79-4B27-A4F9-955AA9F2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FFF-65CD-4162-8CF1-9A9C3BC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5C6-2564-407A-BB64-9E1C2E6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552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41CB-1396-4F49-AA82-52EE19C96C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1160-A7CD-494B-BEBF-06CBE206F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inance 01p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E92D-2880-41B5-9797-2EC149588F9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3963-47EB-4B51-B23C-8A04E3821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yandex.ru/yandsearch?source=psearch&amp;text=&#1089;&#1087;&#1086;&#1088;&#1090;&amp;pos=8&amp;rpt=simage&amp;lr=7&amp;uinfo=sw-1180-sh-906-fw-955-fh-598-pd-1&amp;img_url=http%3A%2F%2Fwww.franklinliquors.com%2Fsports_link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admnav.ru/" TargetMode="External"/><Relationship Id="rId3" Type="http://schemas.openxmlformats.org/officeDocument/2006/relationships/hyperlink" Target="mailto:nvlfinotdel@mail.ru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141560" y="1327320"/>
            <a:ext cx="34700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441520" y="133200"/>
            <a:ext cx="65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АДМИНИСТРАЦИЯ НАВЛИНСКОГО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РЯН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704880" y="2746440"/>
            <a:ext cx="4610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по проекту решения Навлинского районного Совета народных депутатов «О бюджете муниципального образования «Навлинский район» на 2019 год и на плановый период 2020 и 2021 годов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569960" y="496260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утеводитель по бюдже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456160" y="1050840"/>
            <a:ext cx="4105440" cy="43689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179280" y="1733400"/>
            <a:ext cx="60008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Calibri"/>
              </a:rPr>
              <a:t>БЮДЖЕТ ДЛЯ ГРАЖД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герб навли"/>
          <p:cNvPicPr/>
          <p:nvPr/>
        </p:nvPicPr>
        <p:blipFill>
          <a:blip r:embed="rId2"/>
          <a:stretch/>
        </p:blipFill>
        <p:spPr>
          <a:xfrm>
            <a:off x="179280" y="0"/>
            <a:ext cx="1071720" cy="13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627360" y="4365720"/>
            <a:ext cx="5850000" cy="6746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обсуждения муниципальн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4"/>
          <p:cNvSpPr/>
          <p:nvPr/>
        </p:nvSpPr>
        <p:spPr>
          <a:xfrm rot="5400000">
            <a:off x="2757240" y="4376880"/>
            <a:ext cx="880920" cy="858600"/>
          </a:xfrm>
          <a:custGeom>
            <a:avLst/>
            <a:gdLst>
              <a:gd name="textAreaLeft" fmla="*/ 0 w 880920"/>
              <a:gd name="textAreaRight" fmla="*/ 881280 w 88092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41" y="0"/>
                </a:lnTo>
                <a:lnTo>
                  <a:pt x="21600" y="10800"/>
                </a:lnTo>
                <a:lnTo>
                  <a:pt x="16341" y="21600"/>
                </a:lnTo>
                <a:lnTo>
                  <a:pt x="0" y="21600"/>
                </a:lnTo>
                <a:lnTo>
                  <a:pt x="5259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676520" y="2744640"/>
            <a:ext cx="5771880" cy="746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отчету об исполнении бюджета рай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3392640" y="1125360"/>
            <a:ext cx="5771880" cy="7653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проекту бюджета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 rot="5400000">
            <a:off x="770040" y="2782800"/>
            <a:ext cx="955440" cy="85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7" y="0"/>
                </a:lnTo>
                <a:lnTo>
                  <a:pt x="21600" y="10800"/>
                </a:lnTo>
                <a:lnTo>
                  <a:pt x="16717" y="21600"/>
                </a:lnTo>
                <a:lnTo>
                  <a:pt x="0" y="21600"/>
                </a:lnTo>
                <a:lnTo>
                  <a:pt x="4883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 rot="5400000">
            <a:off x="2471400" y="1188720"/>
            <a:ext cx="984600" cy="857520"/>
          </a:xfrm>
          <a:custGeom>
            <a:avLst/>
            <a:gdLst>
              <a:gd name="textAreaLeft" fmla="*/ 0 w 984600"/>
              <a:gd name="textAreaRight" fmla="*/ 984960 w 98460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25" y="0"/>
                </a:lnTo>
                <a:lnTo>
                  <a:pt x="21600" y="10800"/>
                </a:lnTo>
                <a:lnTo>
                  <a:pt x="16825" y="21600"/>
                </a:lnTo>
                <a:lnTo>
                  <a:pt x="0" y="21600"/>
                </a:lnTo>
                <a:lnTo>
                  <a:pt x="4775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90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ОЗМОЖНОСТИ ВЛИЯНИЯ ГРАЖДАНИНА НА СОСТА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" descr=""/>
          <p:cNvPicPr/>
          <p:nvPr/>
        </p:nvPicPr>
        <p:blipFill>
          <a:blip r:embed="rId1"/>
          <a:stretch/>
        </p:blipFill>
        <p:spPr>
          <a:xfrm>
            <a:off x="7448400" y="2244600"/>
            <a:ext cx="2457720" cy="174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"/>
          <p:cNvPicPr/>
          <p:nvPr/>
        </p:nvPicPr>
        <p:blipFill>
          <a:blip r:embed="rId2"/>
          <a:stretch/>
        </p:blipFill>
        <p:spPr>
          <a:xfrm>
            <a:off x="60480" y="674640"/>
            <a:ext cx="247464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431640" y="19080"/>
            <a:ext cx="91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КАЗАТЕЛИ ПРОГНОЗА СОЦИАЛЬНО-ЭКОНОМИЧЕСКОГО РАЗВИТИЯ РАЙОНА НА 2019 И НА ПЛАНОВЫЙ ПЕРИОД 2020 И 2021 Г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739800"/>
          <a:ext cx="9809280" cy="5403960"/>
        </p:xfrm>
        <a:graphic>
          <a:graphicData uri="http://schemas.openxmlformats.org/drawingml/2006/table">
            <a:tbl>
              <a:tblPr/>
              <a:tblGrid>
                <a:gridCol w="3705120"/>
                <a:gridCol w="795600"/>
                <a:gridCol w="760320"/>
                <a:gridCol w="941400"/>
                <a:gridCol w="895320"/>
                <a:gridCol w="861840"/>
                <a:gridCol w="939960"/>
                <a:gridCol w="909720"/>
              </a:tblGrid>
              <a:tr h="255960"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3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15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населения (среднегодов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75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отгруженной продукции обрабатывающих произво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2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1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зарегистрированной безработ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57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по полному кругу пред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57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по крупным и  средним предприят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96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розничной торгов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57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детей в дошкольных образовательных учрежд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39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учащихся в общеобразовательных учрежд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58640" y="0"/>
            <a:ext cx="93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НАПРАВЛЕНИЯ НАЛОГОВО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458640" y="662040"/>
            <a:ext cx="8952120" cy="48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ой задачей налоговой политики в ближайшие три года будет создание устойчивой среды, характеризующейся стабильными налоговыми и неналоговыми условиями, направленными на стимулирование деловой активности, рост экономики и инвестиций, упорядочение системы существующих налоговых льгот путем отмены неэффективных, невостребованных льгот и льгот, не имеющих стимулирующего влияния на налогоплательщиков и бюджетной отдачи.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направлениями налоговой политики в Навлинском районе определен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хранение, укрепление и развитие налогового потенциала Навлинского района, обеспечение роста доходов консолидированного бюджета рай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ствование налогового регулирования поддержки приоритетных инвестиционных проектов, субъектов малого и среднего бизнеса, направленной на стимулирование экономического роста и развитие налоговой баз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ение работы по легализации заработной платы, доведению ее до среднеотраслевого уровн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мизация местных налоговых льгот с учетом оценки их экономической и бюджетной эффе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5"/>
          <p:cNvSpPr/>
          <p:nvPr/>
        </p:nvSpPr>
        <p:spPr>
          <a:xfrm>
            <a:off x="636480" y="523800"/>
            <a:ext cx="93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НАПРАВЛ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НОЙ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636480" y="1185840"/>
            <a:ext cx="895356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</a:rPr>
              <a:t>ОСНОВНЫЕ ЦЕЛИ БЮДЖЕТНОЙ ПОЛИТИКИ НА 2019 ГОД И НА ПЛАНОВЫЙ ПЕРИОД 2020 И 2021 ГОДОВ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еспечение сбалансированности бюджетной системы Навлинского рай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принятых расходных обязательств с учетом проведения мероприятий по их оптимизации, сокращению неэффективных расход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истемы межбюджетных отношений, расширение финансовой самостоятельности муниципалитетов, ориентация финансовой поддержки на достижение конечных результатов в сфере полномочий органов местного самоуправления поселен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9360" y="259920"/>
            <a:ext cx="9220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ОСНОВНЫЕ ПАРАМЕТРЫ БЮДЖЕТА РАЙОНА НА 2019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 rot="16200000">
            <a:off x="3863160" y="2159640"/>
            <a:ext cx="1728720" cy="2340000"/>
          </a:xfrm>
          <a:custGeom>
            <a:avLst/>
            <a:gdLst>
              <a:gd name="textAreaLeft" fmla="*/ 0 w 1728720"/>
              <a:gd name="textAreaRight" fmla="*/ 1729080 w 1728720"/>
              <a:gd name="textAreaTop" fmla="*/ 585000 h 2340000"/>
              <a:gd name="textAreaBottom" fmla="*/ 1755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a6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549600" y="1052640"/>
            <a:ext cx="2338560" cy="1368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 В РА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НА 1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14 779,33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527280" y="4314960"/>
            <a:ext cx="2338560" cy="158436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58d"/>
                </a:solidFill>
                <a:latin typeface="Times New Roman"/>
              </a:rPr>
              <a:t>РАСХОДЫ В РАСЧЕТЕ НА 1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14 779,33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у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Rectangle 7"/>
          <p:cNvGrpSpPr/>
          <p:nvPr/>
        </p:nvGrpSpPr>
        <p:grpSpPr>
          <a:xfrm>
            <a:off x="2730600" y="1006560"/>
            <a:ext cx="755640" cy="5162400"/>
            <a:chOff x="2730600" y="1006560"/>
            <a:chExt cx="755640" cy="5162400"/>
          </a:xfrm>
        </p:grpSpPr>
        <p:pic>
          <p:nvPicPr>
            <p:cNvPr id="167" name="Rectangle 7" descr=""/>
            <p:cNvPicPr/>
            <p:nvPr/>
          </p:nvPicPr>
          <p:blipFill>
            <a:blip r:embed="rId1"/>
            <a:stretch/>
          </p:blipFill>
          <p:spPr>
            <a:xfrm>
              <a:off x="2730600" y="1006560"/>
              <a:ext cx="7556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0800000">
              <a:off x="2757240" y="1028520"/>
              <a:ext cx="701640" cy="51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ДОХОДЫ  - </a:t>
              </a:r>
              <a:r>
                <a:rPr b="1" lang="ru-RU" sz="28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390 396 </a:t>
              </a:r>
              <a:r>
                <a:rPr b="1" lang="ru-RU" sz="16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ТЫС. РУБ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 rot="10800000">
            <a:off x="5932080" y="1084320"/>
            <a:ext cx="701640" cy="4983120"/>
          </a:xfrm>
          <a:prstGeom prst="rect">
            <a:avLst/>
          </a:prstGeom>
          <a:solidFill>
            <a:srgbClr val="66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458d"/>
                </a:solidFill>
                <a:latin typeface="Times New Roman"/>
              </a:rPr>
              <a:t>РАСХОДЫ – </a:t>
            </a: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390 396 </a:t>
            </a:r>
            <a:r>
              <a:rPr b="1" lang="ru-RU" sz="1600" spc="-1" strike="noStrike">
                <a:solidFill>
                  <a:srgbClr val="43458d"/>
                </a:solidFill>
                <a:latin typeface="Times New Roman"/>
              </a:rPr>
              <a:t>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0" y="1141560"/>
            <a:ext cx="2719440" cy="136836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7" y="0"/>
                </a:lnTo>
                <a:lnTo>
                  <a:pt x="21600" y="10800"/>
                </a:lnTo>
                <a:lnTo>
                  <a:pt x="166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008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0" y="4389480"/>
            <a:ext cx="2697120" cy="136836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7" y="0"/>
                </a:lnTo>
                <a:lnTo>
                  <a:pt x="21600" y="10800"/>
                </a:lnTo>
                <a:lnTo>
                  <a:pt x="16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7 069 тыс. 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0" y="2825640"/>
            <a:ext cx="2698920" cy="1368360"/>
          </a:xfrm>
          <a:custGeom>
            <a:avLst/>
            <a:gdLst>
              <a:gd name="textAreaLeft" fmla="*/ 0 w 2698920"/>
              <a:gd name="textAreaRight" fmla="*/ 2699280 w 269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0" y="0"/>
                </a:lnTo>
                <a:lnTo>
                  <a:pt x="21600" y="10800"/>
                </a:lnTo>
                <a:lnTo>
                  <a:pt x="166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 319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2"/>
          <p:cNvSpPr/>
          <p:nvPr/>
        </p:nvSpPr>
        <p:spPr>
          <a:xfrm rot="10800000">
            <a:off x="6710040" y="1028160"/>
            <a:ext cx="2940120" cy="549000"/>
          </a:xfrm>
          <a:custGeom>
            <a:avLst/>
            <a:gdLst>
              <a:gd name="textAreaLeft" fmla="*/ 0 w 2940120"/>
              <a:gd name="textAreaRight" fmla="*/ 2940120 w 2940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78" y="0"/>
                </a:lnTo>
                <a:lnTo>
                  <a:pt x="21600" y="10800"/>
                </a:lnTo>
                <a:lnTo>
                  <a:pt x="160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250 419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7"/>
          <p:cNvSpPr/>
          <p:nvPr/>
        </p:nvSpPr>
        <p:spPr>
          <a:xfrm rot="10800000">
            <a:off x="6634080" y="5281200"/>
            <a:ext cx="3060720" cy="4762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79" y="0"/>
                </a:lnTo>
                <a:lnTo>
                  <a:pt x="21600" y="10800"/>
                </a:lnTo>
                <a:lnTo>
                  <a:pt x="16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МБТ поселен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050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8"/>
          <p:cNvSpPr/>
          <p:nvPr/>
        </p:nvSpPr>
        <p:spPr>
          <a:xfrm rot="10800000">
            <a:off x="6634080" y="4314600"/>
            <a:ext cx="3060720" cy="4474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8" y="0"/>
                </a:lnTo>
                <a:lnTo>
                  <a:pt x="21600" y="10800"/>
                </a:lnTo>
                <a:lnTo>
                  <a:pt x="166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Культура и кинематограф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26 299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 rot="10800000">
            <a:off x="6686280" y="3181320"/>
            <a:ext cx="3219480" cy="50328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0" y="0"/>
                </a:lnTo>
                <a:lnTo>
                  <a:pt x="21600" y="10800"/>
                </a:lnTo>
                <a:lnTo>
                  <a:pt x="167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ционал</a:t>
            </a:r>
            <a:r>
              <a:rPr b="0" lang="ru-RU" sz="1300" spc="-1" strike="noStrike">
                <a:solidFill>
                  <a:srgbClr val="43458d"/>
                </a:solidFill>
                <a:latin typeface="Times New Roman"/>
              </a:rPr>
              <a:t>ь</a:t>
            </a: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 безопасность и правоохранительная деятельност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 021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1"/>
          <p:cNvSpPr/>
          <p:nvPr/>
        </p:nvSpPr>
        <p:spPr>
          <a:xfrm rot="10800000">
            <a:off x="6708600" y="2166840"/>
            <a:ext cx="2965680" cy="44784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7" y="0"/>
                </a:lnTo>
                <a:lnTo>
                  <a:pt x="21600" y="10800"/>
                </a:lnTo>
                <a:lnTo>
                  <a:pt x="18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Социальная поли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42 285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2"/>
          <p:cNvSpPr/>
          <p:nvPr/>
        </p:nvSpPr>
        <p:spPr>
          <a:xfrm rot="10800000">
            <a:off x="6708240" y="3747960"/>
            <a:ext cx="2986200" cy="503280"/>
          </a:xfrm>
          <a:custGeom>
            <a:avLst/>
            <a:gdLst>
              <a:gd name="textAreaLeft" fmla="*/ 0 w 2986200"/>
              <a:gd name="textAreaRight" fmla="*/ 2986560 w 29862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06" y="0"/>
                </a:lnTo>
                <a:lnTo>
                  <a:pt x="21600" y="10800"/>
                </a:lnTo>
                <a:lnTo>
                  <a:pt x="155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Жилищно-коммунальное хозя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4 561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3"/>
          <p:cNvSpPr/>
          <p:nvPr/>
        </p:nvSpPr>
        <p:spPr>
          <a:xfrm rot="10800000">
            <a:off x="6661080" y="1607760"/>
            <a:ext cx="3245040" cy="514440"/>
          </a:xfrm>
          <a:custGeom>
            <a:avLst/>
            <a:gdLst>
              <a:gd name="textAreaLeft" fmla="*/ 0 w 3245040"/>
              <a:gd name="textAreaRight" fmla="*/ 3245400 w 32450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32" y="0"/>
                </a:lnTo>
                <a:lnTo>
                  <a:pt x="21600" y="10800"/>
                </a:lnTo>
                <a:lnTo>
                  <a:pt x="137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4 60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2"/>
          <p:cNvSpPr/>
          <p:nvPr/>
        </p:nvSpPr>
        <p:spPr>
          <a:xfrm rot="10800000">
            <a:off x="6730560" y="2644560"/>
            <a:ext cx="2963880" cy="4762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22" y="0"/>
                </a:lnTo>
                <a:lnTo>
                  <a:pt x="21600" y="10800"/>
                </a:lnTo>
                <a:lnTo>
                  <a:pt x="15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3 046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0"/>
          <p:cNvSpPr/>
          <p:nvPr/>
        </p:nvSpPr>
        <p:spPr>
          <a:xfrm rot="10800000">
            <a:off x="6634080" y="4795560"/>
            <a:ext cx="3060720" cy="43956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55" y="0"/>
                </a:lnTo>
                <a:lnTo>
                  <a:pt x="21600" y="10800"/>
                </a:lnTo>
                <a:lnTo>
                  <a:pt x="147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Физическая культура и 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50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95400"/>
            <a:ext cx="930132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сновные параметр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081"/>
          <p:cNvSpPr/>
          <p:nvPr/>
        </p:nvSpPr>
        <p:spPr>
          <a:xfrm>
            <a:off x="7184880" y="544680"/>
            <a:ext cx="181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2360" y="925560"/>
          <a:ext cx="9488520" cy="4825800"/>
        </p:xfrm>
        <a:graphic>
          <a:graphicData uri="http://schemas.openxmlformats.org/drawingml/2006/table">
            <a:tbl>
              <a:tblPr/>
              <a:tblGrid>
                <a:gridCol w="5764320"/>
                <a:gridCol w="1317600"/>
                <a:gridCol w="1251000"/>
                <a:gridCol w="1155600"/>
              </a:tblGrid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8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 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очно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дорожного фонда Навлин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 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 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я на выравнивание бюджетной обеспеч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0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 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я на поддержку мер по обеспечению сбалансированности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8 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 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7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ицит / профиц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6920" y="90000"/>
            <a:ext cx="8069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ОХОД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388800" y="773280"/>
            <a:ext cx="8987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Доходы бюджета - поступающие в бюджет денежные средства, за исключением средств, являющихся источниками финансирования дефицита бюджет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Скругленный прямоугольник 2"/>
          <p:cNvSpPr/>
          <p:nvPr/>
        </p:nvSpPr>
        <p:spPr>
          <a:xfrm>
            <a:off x="3503520" y="1498680"/>
            <a:ext cx="2654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619440" y="162720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Доходы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Скругленный прямоугольник 5"/>
          <p:cNvSpPr/>
          <p:nvPr/>
        </p:nvSpPr>
        <p:spPr>
          <a:xfrm>
            <a:off x="636480" y="2484360"/>
            <a:ext cx="2340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Скругленный прямоугольник 421"/>
          <p:cNvSpPr/>
          <p:nvPr/>
        </p:nvSpPr>
        <p:spPr>
          <a:xfrm>
            <a:off x="3436920" y="2558880"/>
            <a:ext cx="265428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Скругленный прямоугольник 422"/>
          <p:cNvSpPr/>
          <p:nvPr/>
        </p:nvSpPr>
        <p:spPr>
          <a:xfrm>
            <a:off x="6603840" y="2484360"/>
            <a:ext cx="26528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Скругленный прямоугольник 7"/>
          <p:cNvSpPr/>
          <p:nvPr/>
        </p:nvSpPr>
        <p:spPr>
          <a:xfrm>
            <a:off x="388800" y="3354480"/>
            <a:ext cx="26006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Скругленный прямоугольник 424"/>
          <p:cNvSpPr/>
          <p:nvPr/>
        </p:nvSpPr>
        <p:spPr>
          <a:xfrm>
            <a:off x="3379680" y="3354480"/>
            <a:ext cx="28130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425"/>
          <p:cNvSpPr/>
          <p:nvPr/>
        </p:nvSpPr>
        <p:spPr>
          <a:xfrm>
            <a:off x="6602400" y="3354480"/>
            <a:ext cx="282888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600120" y="248436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3503520" y="2573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Неналоговые</a:t>
            </a:r>
            <a:r>
              <a:rPr b="0" lang="ru-RU" sz="1800" spc="-1" strike="noStrike">
                <a:solidFill>
                  <a:srgbClr val="00664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6700680" y="2484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Безвозмездные</a:t>
            </a:r>
            <a:r>
              <a:rPr b="0" lang="ru-RU" sz="1800" spc="-1" strike="noStrike">
                <a:solidFill>
                  <a:srgbClr val="00664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ая соединительная линия 12"/>
          <p:cNvSpPr/>
          <p:nvPr/>
        </p:nvSpPr>
        <p:spPr>
          <a:xfrm>
            <a:off x="4735440" y="2133720"/>
            <a:ext cx="0" cy="42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14"/>
          <p:cNvSpPr/>
          <p:nvPr/>
        </p:nvSpPr>
        <p:spPr>
          <a:xfrm flipV="1">
            <a:off x="178272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433"/>
          <p:cNvSpPr/>
          <p:nvPr/>
        </p:nvSpPr>
        <p:spPr>
          <a:xfrm flipV="1">
            <a:off x="796284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16"/>
          <p:cNvSpPr/>
          <p:nvPr/>
        </p:nvSpPr>
        <p:spPr>
          <a:xfrm>
            <a:off x="1781280" y="2255760"/>
            <a:ext cx="61927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401760" y="3402000"/>
            <a:ext cx="257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от уплаты налогов, установленных Налоговым кодексом Российской Федерации</a:t>
            </a:r>
            <a:r>
              <a:rPr b="1" lang="en-US" sz="1400" spc="-1" strike="noStrike">
                <a:solidFill>
                  <a:srgbClr val="00664d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- налог на доходы физических ли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4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акциз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4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единый налог на вмененный дох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- иные на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3379680" y="3402000"/>
            <a:ext cx="2791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доходов от использования государственного (муниципального) имущества, от платных услуг, оказываемых казенными учреждениями, штрафных санкций за нарушение законодательства, иных неналоговых платеж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6691320" y="3402000"/>
            <a:ext cx="2717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доходы в виде финансовой помощи, полученной от бюджетов других уровней бюджетной системы РФ (межбюджетные трансферты), безвозмездные поступления от организаций и гражда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838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НАМИК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ОСТУПЛЕНИЯ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ДОХОДОВ БЮДЖЕТА  </a:t>
            </a:r>
            <a:br>
              <a:rPr sz="20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ыс. руб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5081760"/>
            <a:ext cx="97822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факторы формирования доходной части бюджет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зменением бюджетного законодательств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менение областного законодательств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еполное включение в бюджет областных межбюджетных трансфер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Object 7" descr=""/>
          <p:cNvPicPr/>
          <p:nvPr/>
        </p:nvPicPr>
        <p:blipFill>
          <a:blip r:embed="rId1"/>
          <a:stretch/>
        </p:blipFill>
        <p:spPr>
          <a:xfrm>
            <a:off x="728640" y="649440"/>
            <a:ext cx="8523360" cy="51069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4"/>
          <p:cNvSpPr/>
          <p:nvPr/>
        </p:nvSpPr>
        <p:spPr>
          <a:xfrm>
            <a:off x="3112920" y="3583080"/>
            <a:ext cx="314640" cy="542880"/>
          </a:xfrm>
          <a:prstGeom prst="upArrow">
            <a:avLst>
              <a:gd name="adj1" fmla="val 43435"/>
              <a:gd name="adj2" fmla="val 39333"/>
            </a:avLst>
          </a:prstGeom>
          <a:gradFill rotWithShape="0">
            <a:gsLst>
              <a:gs pos="0">
                <a:srgbClr val="66ff66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15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6532560" y="3743280"/>
            <a:ext cx="1114560" cy="28584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387 9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7365960" y="4322880"/>
            <a:ext cx="919080" cy="28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348 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44"/>
          <p:cNvSpPr/>
          <p:nvPr/>
        </p:nvSpPr>
        <p:spPr>
          <a:xfrm>
            <a:off x="3156120" y="2844720"/>
            <a:ext cx="314280" cy="577800"/>
          </a:xfrm>
          <a:prstGeom prst="upArrow">
            <a:avLst>
              <a:gd name="adj1" fmla="val 50000"/>
              <a:gd name="adj2" fmla="val 45962"/>
            </a:avLst>
          </a:prstGeom>
          <a:gradFill rotWithShape="0">
            <a:gsLst>
              <a:gs pos="0">
                <a:srgbClr val="00ff99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15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8"/>
          <p:cNvSpPr/>
          <p:nvPr/>
        </p:nvSpPr>
        <p:spPr>
          <a:xfrm>
            <a:off x="4821120" y="3106800"/>
            <a:ext cx="341280" cy="577800"/>
          </a:xfrm>
          <a:prstGeom prst="upArrow">
            <a:avLst>
              <a:gd name="adj1" fmla="val 52889"/>
              <a:gd name="adj2" fmla="val 61780"/>
            </a:avLst>
          </a:prstGeom>
          <a:gradFill rotWithShape="0">
            <a:gsLst>
              <a:gs pos="0">
                <a:srgbClr val="ffcc00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+40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9"/>
          <p:cNvSpPr/>
          <p:nvPr/>
        </p:nvSpPr>
        <p:spPr>
          <a:xfrm>
            <a:off x="4749840" y="3930480"/>
            <a:ext cx="361800" cy="603360"/>
          </a:xfrm>
          <a:prstGeom prst="upArrow">
            <a:avLst>
              <a:gd name="adj1" fmla="val 52889"/>
              <a:gd name="adj2" fmla="val 61812"/>
            </a:avLst>
          </a:prstGeom>
          <a:gradFill rotWithShape="0">
            <a:gsLst>
              <a:gs pos="0">
                <a:srgbClr val="ffc000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+ 414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 flipH="1" flipV="1">
            <a:off x="7040160" y="3978360"/>
            <a:ext cx="304920" cy="4665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3"/>
          <p:cNvSpPr/>
          <p:nvPr/>
        </p:nvSpPr>
        <p:spPr>
          <a:xfrm flipH="1" flipV="1">
            <a:off x="6376680" y="3483000"/>
            <a:ext cx="361800" cy="495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7"/>
          <p:cNvSpPr/>
          <p:nvPr/>
        </p:nvSpPr>
        <p:spPr>
          <a:xfrm>
            <a:off x="7495200" y="393876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+ 39 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7103160" y="33368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+2 4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1"/>
          <p:cNvSpPr/>
          <p:nvPr/>
        </p:nvSpPr>
        <p:spPr>
          <a:xfrm>
            <a:off x="5878440" y="3197160"/>
            <a:ext cx="1114560" cy="2602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390 3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9"/>
          <p:cNvSpPr/>
          <p:nvPr/>
        </p:nvSpPr>
        <p:spPr>
          <a:xfrm>
            <a:off x="3147840" y="2225520"/>
            <a:ext cx="246240" cy="587520"/>
          </a:xfrm>
          <a:prstGeom prst="upArrow">
            <a:avLst>
              <a:gd name="adj1" fmla="val 52889"/>
              <a:gd name="adj2" fmla="val 61748"/>
            </a:avLst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41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2000" y="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Й НАЛОГОВЫХ И НЕНАЛОГОВЫХ ДОХОДОВ В РАЙОННЫ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712800"/>
          <a:ext cx="9914040" cy="5818320"/>
        </p:xfrm>
        <a:graphic>
          <a:graphicData uri="http://schemas.openxmlformats.org/drawingml/2006/table">
            <a:tbl>
              <a:tblPr/>
              <a:tblGrid>
                <a:gridCol w="4726080"/>
                <a:gridCol w="1068120"/>
                <a:gridCol w="4119840"/>
              </a:tblGrid>
              <a:tr h="630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территориях городских/сельских посел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ой акт, устанавливающий норматив в бюджет района на 2019-2021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738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/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 (5% и 13% сельских территорий ), проект закона Брянской области «Об областном бюджете на 2019 год и на плановый период 2020 и 2021 годов» (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 произведенным на территорий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закона Брянской области «Об областном бюджете на 2019 год и на плановый период 2020 и 2021 годов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64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, с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31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ередачи в аренду земельных участков, государственная собственность на которые не разгранич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7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оступления от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30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ь прибыли муниципальных унитарных предприятий, остающейся после уплаты налогов и иных обязательных платеж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ный кодекс РФ, проект решения районного Совета народных депутатов «О бюджете МО «Навлинский район» на 2019 год и на плановый период 2020 и 2021 годов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7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3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государственная собственность на которые не разгранич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79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20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7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9320" y="0"/>
            <a:ext cx="9210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ЛОГОВЫЕ ДОХОД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, тыс. 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Object 3" descr=""/>
          <p:cNvPicPr/>
          <p:nvPr/>
        </p:nvPicPr>
        <p:blipFill>
          <a:blip r:embed="rId1"/>
          <a:stretch/>
        </p:blipFill>
        <p:spPr>
          <a:xfrm>
            <a:off x="728640" y="692280"/>
            <a:ext cx="90997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452520" y="52560"/>
            <a:ext cx="9144000" cy="750600"/>
          </a:xfrm>
          <a:prstGeom prst="rect">
            <a:avLst/>
          </a:prstGeom>
          <a:solidFill>
            <a:srgbClr val="ddf3ea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803160"/>
          <a:ext cx="9075600" cy="4538880"/>
        </p:xfrm>
        <a:graphic>
          <a:graphicData uri="http://schemas.openxmlformats.org/drawingml/2006/table">
            <a:tbl>
              <a:tblPr/>
              <a:tblGrid>
                <a:gridCol w="7356600"/>
                <a:gridCol w="1719000"/>
              </a:tblGrid>
              <a:tr h="54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й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казатели прогноза 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10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направления налоговой и бюджетной поли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казатели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ирование муниципальных 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актная 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5240" y="228600"/>
            <a:ext cx="842004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НАЛОГОВЫЕ  ДОХОДЫ, тыс. руб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85680" y="797040"/>
            <a:ext cx="9541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ЕЗВОЗМЕЗДНЫЕ ПОСТУПЛЕНИЯ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Объект 3" descr=""/>
          <p:cNvPicPr/>
          <p:nvPr/>
        </p:nvPicPr>
        <p:blipFill>
          <a:blip r:embed="rId1"/>
          <a:stretch/>
        </p:blipFill>
        <p:spPr>
          <a:xfrm>
            <a:off x="1104840" y="662040"/>
            <a:ext cx="852192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4"/>
          <p:cNvSpPr/>
          <p:nvPr/>
        </p:nvSpPr>
        <p:spPr>
          <a:xfrm>
            <a:off x="939960" y="1890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Arial"/>
              </a:rPr>
              <a:t>РАСХОДЫ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0c0632cc76566fe8dd5db3601f5a0970"/>
          <p:cNvPicPr/>
          <p:nvPr/>
        </p:nvPicPr>
        <p:blipFill>
          <a:blip r:embed="rId1"/>
          <a:stretch/>
        </p:blipFill>
        <p:spPr>
          <a:xfrm>
            <a:off x="-33480" y="1484280"/>
            <a:ext cx="3370320" cy="2502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685880" y="3809880"/>
            <a:ext cx="813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 района на 2019-2021 гг. является социально ориентирован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сходы на образование, культуру, социальную политику, физическую культуру и спорт в 2019 году составят 319 154 тыс. руб. или 81,8 % всех расходов бюджет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9" descr="spo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5680" y="16686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3836084211"/>
          <p:cNvPicPr/>
          <p:nvPr/>
        </p:nvPicPr>
        <p:blipFill>
          <a:blip r:embed="rId4"/>
          <a:stretch/>
        </p:blipFill>
        <p:spPr>
          <a:xfrm>
            <a:off x="6513480" y="1413000"/>
            <a:ext cx="2884680" cy="1998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114480" y="838080"/>
            <a:ext cx="9520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2228b"/>
                </a:solidFill>
                <a:latin typeface="Tahoma"/>
              </a:rPr>
              <a:t>Расходы бюджета – выплачиваемые из бюджета денежные средств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2960" y="-103320"/>
            <a:ext cx="9615240" cy="944640"/>
          </a:xfrm>
          <a:prstGeom prst="rect">
            <a:avLst/>
          </a:prstGeom>
          <a:gradFill rotWithShape="0">
            <a:gsLst>
              <a:gs pos="0">
                <a:srgbClr val="a3a3e4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БЮДЖЕТА,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3320" y="1273320"/>
          <a:ext cx="9713880" cy="4541760"/>
        </p:xfrm>
        <a:graphic>
          <a:graphicData uri="http://schemas.openxmlformats.org/drawingml/2006/table">
            <a:tbl>
              <a:tblPr/>
              <a:tblGrid>
                <a:gridCol w="3390840"/>
                <a:gridCol w="1222200"/>
                <a:gridCol w="1568520"/>
                <a:gridCol w="1212840"/>
                <a:gridCol w="1136520"/>
                <a:gridCol w="1182960"/>
              </a:tblGrid>
              <a:tr h="4982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84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7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 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 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 9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5 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 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 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07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 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534960" y="1476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«ОБЩЕГОСУДАРСТВЕННЫЕ РАСХОДЫ»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1240" y="781200"/>
          <a:ext cx="9686880" cy="5735520"/>
        </p:xfrm>
        <a:graphic>
          <a:graphicData uri="http://schemas.openxmlformats.org/drawingml/2006/table">
            <a:tbl>
              <a:tblPr/>
              <a:tblGrid>
                <a:gridCol w="6607080"/>
                <a:gridCol w="1111320"/>
                <a:gridCol w="1004760"/>
                <a:gridCol w="96372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82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11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57120" y="1216080"/>
          <a:ext cx="9433080" cy="4346640"/>
        </p:xfrm>
        <a:graphic>
          <a:graphicData uri="http://schemas.openxmlformats.org/drawingml/2006/table">
            <a:tbl>
              <a:tblPr/>
              <a:tblGrid>
                <a:gridCol w="5932440"/>
                <a:gridCol w="1438560"/>
                <a:gridCol w="1014120"/>
                <a:gridCol w="1047960"/>
              </a:tblGrid>
              <a:tr h="63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и вневойсковая подгот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подготовка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40" name="Прямоугольник 5"/>
          <p:cNvSpPr/>
          <p:nvPr/>
        </p:nvSpPr>
        <p:spPr>
          <a:xfrm>
            <a:off x="133200" y="147600"/>
            <a:ext cx="95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ОБОРОН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БЕЗОПАСНОСТЬ И ПРАВООХРАНИТЕЛЬНАЯ ДЕЯТЕЛЬНОСТЬ»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5"/>
          <p:cNvSpPr/>
          <p:nvPr/>
        </p:nvSpPr>
        <p:spPr>
          <a:xfrm>
            <a:off x="501480" y="147600"/>
            <a:ext cx="913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ЭКОНОМИК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и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ЖИЛИЩНО-КОММУНАЛЬНОЕ ХОЗЯЙСТВО»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5920" y="1076400"/>
          <a:ext cx="9748800" cy="4263840"/>
        </p:xfrm>
        <a:graphic>
          <a:graphicData uri="http://schemas.openxmlformats.org/drawingml/2006/table">
            <a:tbl>
              <a:tblPr/>
              <a:tblGrid>
                <a:gridCol w="4949640"/>
                <a:gridCol w="1595520"/>
                <a:gridCol w="1560600"/>
                <a:gridCol w="164304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 и рыбол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5"/>
          <p:cNvSpPr/>
          <p:nvPr/>
        </p:nvSpPr>
        <p:spPr>
          <a:xfrm>
            <a:off x="501480" y="147600"/>
            <a:ext cx="91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НА СОЦИАЛЬНО-КУЛЬТУРНУЮ СФЕРУ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68280" y="747720"/>
          <a:ext cx="9266400" cy="5060880"/>
        </p:xfrm>
        <a:graphic>
          <a:graphicData uri="http://schemas.openxmlformats.org/drawingml/2006/table">
            <a:tbl>
              <a:tblPr/>
              <a:tblGrid>
                <a:gridCol w="4994280"/>
                <a:gridCol w="1359000"/>
                <a:gridCol w="1368360"/>
                <a:gridCol w="154476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 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 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 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 6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5"/>
          <p:cNvSpPr/>
          <p:nvPr/>
        </p:nvSpPr>
        <p:spPr>
          <a:xfrm>
            <a:off x="501480" y="147600"/>
            <a:ext cx="91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ЕЖБЮДЖЕТНЫЕ ТРАНСФЕРТЫ ОБЩЕГО ХАРАКТЕРА БЮДЖЕТАМ БЮДЖЕТНОЙ СИСТЕМЫ РОССИЙСКОЙ ФЕДЕРАЦИИ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43040" y="1405080"/>
          <a:ext cx="8991360" cy="3404880"/>
        </p:xfrm>
        <a:graphic>
          <a:graphicData uri="http://schemas.openxmlformats.org/drawingml/2006/table">
            <a:tbl>
              <a:tblPr/>
              <a:tblGrid>
                <a:gridCol w="5844960"/>
                <a:gridCol w="1117800"/>
                <a:gridCol w="1025280"/>
                <a:gridCol w="1003320"/>
              </a:tblGrid>
              <a:tr h="623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 БЮДЖЕТАМ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ов поселений из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трансферты на обеспечение сбалансированности бюджетов поселений из район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246240" y="7920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ХОДЫ НА ИСПОЛНЕНИЕ ПУБЛИЧНЫХ НОРМАТИВНЫХ ОБЯЗАТЕЛЬСТВ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6240" y="1136520"/>
          <a:ext cx="9329400" cy="3470400"/>
        </p:xfrm>
        <a:graphic>
          <a:graphicData uri="http://schemas.openxmlformats.org/drawingml/2006/table">
            <a:tbl>
              <a:tblPr/>
              <a:tblGrid>
                <a:gridCol w="6173640"/>
                <a:gridCol w="1087560"/>
                <a:gridCol w="1058760"/>
                <a:gridCol w="1009440"/>
              </a:tblGrid>
              <a:tr h="401760"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4468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и осуществление деятельности по опеке и попечительству, 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7004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а единовременного пособия при всех формах устройства детей, лишенных родительского попечения, в сем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216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ая доплата к пенсии муниципальным служащ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176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330120" y="165240"/>
            <a:ext cx="92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важаемые граждане, жители Навлинского района!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5" descr=""/>
          <p:cNvPicPr/>
          <p:nvPr/>
        </p:nvPicPr>
        <p:blipFill>
          <a:blip r:embed="rId1"/>
          <a:stretch/>
        </p:blipFill>
        <p:spPr>
          <a:xfrm>
            <a:off x="6829560" y="448452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85680" y="762120"/>
            <a:ext cx="9820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Бюджет для граждан» познакомит Вас с положениями проекта основного финансового документа </a:t>
            </a:r>
            <a:r>
              <a:rPr b="0" lang="ru-RU" sz="1600" spc="-1" strike="noStrike">
                <a:solidFill>
                  <a:srgbClr val="664a38"/>
                </a:solidFill>
                <a:latin typeface="Times New Roman"/>
              </a:rPr>
              <a:t>Навлинского района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я Навлинского районного Совета народных депутатов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О бюджете муниципального образования «Навлинский район» на 2019 год и на плановый период 2020 и 2021 годов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Представленная информация предназначена для широкого круга пользователей и будет интересна и полезна для всех, так как бюджет затрагивает интересы каждого жителя Навлинского райо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Граждане – и как налогоплательщики, и как потребители общественных благ –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 для  каждого челове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Мы постарались  в доступной  и понятной для граждан форме показать понятия и                                                                                     основные параметры бюджета райо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ава администрации района                                    А.А. Прудник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Блок-схема: перфолента 4"/>
          <p:cNvGrpSpPr/>
          <p:nvPr/>
        </p:nvGrpSpPr>
        <p:grpSpPr>
          <a:xfrm>
            <a:off x="2066760" y="133200"/>
            <a:ext cx="6510600" cy="4687920"/>
            <a:chOff x="2066760" y="133200"/>
            <a:chExt cx="6510600" cy="4687920"/>
          </a:xfrm>
        </p:grpSpPr>
        <p:pic>
          <p:nvPicPr>
            <p:cNvPr id="250" name="Блок-схема: перфолента 4" descr=""/>
            <p:cNvPicPr/>
            <p:nvPr/>
          </p:nvPicPr>
          <p:blipFill>
            <a:blip r:embed="rId1"/>
            <a:stretch/>
          </p:blipFill>
          <p:spPr>
            <a:xfrm>
              <a:off x="2066760" y="133200"/>
              <a:ext cx="651060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071800" y="1076400"/>
              <a:ext cx="6492600" cy="27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БЮДЖЕТ 2019-2021 годы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ПРОГРАММНЫЙ БЮДЖЕ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хема 1" descr=""/>
          <p:cNvPicPr/>
          <p:nvPr/>
        </p:nvPicPr>
        <p:blipFill>
          <a:blip r:embed="rId1"/>
          <a:stretch/>
        </p:blipFill>
        <p:spPr>
          <a:xfrm>
            <a:off x="1116000" y="433440"/>
            <a:ext cx="82407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0" y="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8 – 2023 ГОД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736560" y="1220760"/>
            <a:ext cx="909324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е исполнение полномочий по решению  вопросов местного значения и отдельных государственных полномочий Брянской области, переданных в соответствии с законами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ация полномочий администрации Навлинского района  по решению вопросов местного значения муниципального образования «Навлинский   район», а также отдельных государственных полномочий Брянской области, переданных в соответствии с законами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оптимизации и повышения эффективности расходов бюджета Навлинского муниципального района в части расходов администрации Навлинского 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словий для обеспечения комплексного социально-экономического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0" y="0"/>
            <a:ext cx="9678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8 – 2023 ГОДЫ)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5440" y="923760"/>
          <a:ext cx="9623520" cy="4778640"/>
        </p:xfrm>
        <a:graphic>
          <a:graphicData uri="http://schemas.openxmlformats.org/drawingml/2006/table">
            <a:tbl>
              <a:tblPr/>
              <a:tblGrid>
                <a:gridCol w="7388280"/>
                <a:gridCol w="828720"/>
                <a:gridCol w="692280"/>
                <a:gridCol w="714240"/>
              </a:tblGrid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40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 и финансовому обеспечению  деятельности аппарата администрац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37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защите населения и территории от чрезвычайных ситуаций природного и техногенного характера, гражданская оборо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реализации стратегической роли культуры как духовно-нравственного основания развития личности и государства, сохранения культурного и исторического насле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37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реализации единой социальной политики на территор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успешной самореализации молоде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240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вовлечению в занятия физической культурой и массовом спортом, участие в соревнованиях различного уров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79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существлению отдельных государственных полномочий Брянской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области жилищно-коммунального хозяй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для эффективной деятельности многофункционального цен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обилизационной подготовки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системы управления пассажирскими перевоз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ое обеспечение деятельности органов местного само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МО «Навлинский район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рограмма «Обеспечение жильем молодых семей» (2013-2020г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7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рограмма «Поддержка местных инициатив граждан на территории Навлинского района» на 2017-2020 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 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 7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0" y="0"/>
            <a:ext cx="96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ОБРАЗОВАНИЯ НАВЛИНСКОГО РАЙОНА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2018 – 2023 ГОД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728640" y="1168560"/>
            <a:ext cx="90504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беспечение высокого качества образования в соответствии с меняющимися запросами населения и перспективными задачами развития российского общества и эконом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экономических условий, обеспечивающих муниципальную систему образования финансовыми, материально-техническими ресурс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новление содержания и структуры образования на основе новых стандартов общего образования второго поколения. Повышение качества образования на основе развития инновационных процессов. Развитие системы оценки качества образования на каждом его уро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уществление комплексных мер по стимулированию инновационной деятельности образовательных учреждений и педагогических работ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механизмов координации и интеграции сетевого взаимодействия в работе с одаренными детьми и талантливой молодеж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.создание необходимых условий полноценного и безопасного отдыха и оздоровления де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фессиональной компетентности педагогических и управленческих кадров, укрепление их социального статуса через разработку новой модели системы повышения  квалификации педагогических работников района, участие педагогов в конкурсах профессионального мастер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0" y="0"/>
            <a:ext cx="96789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ОБРАЗОВАНИЯ НАВЛИНСКОГО РАЙОНА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8 – 2023 ГОДЫ),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98440" y="861840"/>
          <a:ext cx="9269280" cy="4345200"/>
        </p:xfrm>
        <a:graphic>
          <a:graphicData uri="http://schemas.openxmlformats.org/drawingml/2006/table">
            <a:tbl>
              <a:tblPr/>
              <a:tblGrid>
                <a:gridCol w="6289560"/>
                <a:gridCol w="997200"/>
                <a:gridCol w="1020600"/>
                <a:gridCol w="961920"/>
              </a:tblGrid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шко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8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бще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 3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41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, финансовое, информационное обеспечение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1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тдельных мероприятий в сфере образования и материально-техническое обеспечение прочих учреждений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60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отдельных государственных полномочий Брян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рганизации временного   трудоустройства несовершеннолетних граждан в возрасте от 14 до 18 лет в Навлинском рай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541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вершенствованию системы   профилактики правонарушений и усиление борьбы с преступность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охране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роведению оздоровительной кампани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3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 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 3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0" y="0"/>
            <a:ext cx="967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УПРАВЛЕНИЕ МУНИЦИПАЛЬНЫМИ ФИНАНСАМИ МУНИЦИПАЛЬНОГО ОБРАЗ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НАВЛИНСКИЙ РАЙОН»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(2018 – 2023 ГОДЫ), (тыс. 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85680" y="853920"/>
            <a:ext cx="982044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программы -  обеспечение долгосрочной сбалансированности и устойчивости бюджетной системы муниципального образования «Навлинский район», создание условий для оптимизации и повышения эффективности расходов бюджета района, создание условий для эффективного выполнения полномочий органов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ализация мероприятий, направленных на сбалансированное управление расходами бюджета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недрение современных методов и технологий управления муниципальными финанс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зрачности бюджетной системы муниципального образования «Навлинский район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внивание бюджетной обеспеченности муниципальных образований и поддержка мер по обеспечению сбалансированности местных бюджетов в Навлинском районе в рамках содействия органам местного самоуправления в осуществлении реализации полномочий по решению вопросов местного знач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6880" y="3909960"/>
          <a:ext cx="9352080" cy="1930320"/>
        </p:xfrm>
        <a:graphic>
          <a:graphicData uri="http://schemas.openxmlformats.org/drawingml/2006/table">
            <a:tbl>
              <a:tblPr/>
              <a:tblGrid>
                <a:gridCol w="6712200"/>
                <a:gridCol w="961920"/>
                <a:gridCol w="873000"/>
                <a:gridCol w="804960"/>
              </a:tblGrid>
              <a:tr h="40500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, финансовому и информационному обеспечению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268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межбюджетным отношениям с городскими и сельскими пос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618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отношения с муниципальными образованиями за счет средств бюджета МО "Навлинский район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9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0" y="0"/>
            <a:ext cx="967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УПРАВЛЕНИЕ МУНИЦИПАЛЬНОЙ СОБСТВЕННОСТЬЮ НАВЛИНСКОГО РАЙОНА БРЯНСКОЙ ОБЛАСТИ» (2018 – 2023 ГОДЫ),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217440" y="830160"/>
            <a:ext cx="946152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- обеспечение эффективного управления, распоряжения, а также рационального использования муниципального имущества Навлинского района Брянской  об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еспечение функционирования системы учета муниципального  имущества Навлинского района Брянской области, управления, распоряжения и контроля за  его рациональным использованием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уществление приватизации муниципального  имущества Навлинского района Брянской области и обеспечение системного и планового подхода к приватизационному процессу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и координация работы по  управлению и распоряжению земельными  участками, находящимися в собственности  Навлинского района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споряжение земельными участками, государственная собственность на которые не разграничена, находящимися на территории Навлинского района 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7440" y="3903840"/>
          <a:ext cx="9536040" cy="1973160"/>
        </p:xfrm>
        <a:graphic>
          <a:graphicData uri="http://schemas.openxmlformats.org/drawingml/2006/table">
            <a:tbl>
              <a:tblPr/>
              <a:tblGrid>
                <a:gridCol w="5897520"/>
                <a:gridCol w="1116000"/>
                <a:gridCol w="1225800"/>
                <a:gridCol w="1296720"/>
              </a:tblGrid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55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и финансовое обеспечение деятельности отдела по управлению муниципальн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эффективного управления и распоряжения муниципальным имуществом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152280" y="0"/>
            <a:ext cx="967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ЭНЕРГОСБЕРЕЖЕНИЕ И ПОВЫШЕНИЕ ЭНЕРГЕТИЧЕСКОЙ ЭФФЕКТИВНОСТИ В НАВЛИНСКОМ РАЙОНЕ БРЯНСКОЙ ОБЛАСТИ НА 2010-2017 ГОДЫ И ЦЕЛЕВЫЕ УСТАНОВКИ НА ПЕРИОД ДО 2020 ГОДА»,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235080" y="1077840"/>
            <a:ext cx="9671040" cy="25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рациональное использование топливно-энергетических ресурсов и внедрение технологий энергосбе­ре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повышение энергетической эффективности потребления тепла, газа, электроэнергии, воды и стиму­лирование использования энергосберегающих технолог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отенциала энергосбережения и повышения энергетическо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еречня мероприятий по энергосбережению и повышению энергетической эффективности и проведение их стоимостной оце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обеспечивающих максимально эффективное использование потенциала топливно-энергетических ресурсов для роста экономии и повышения качества жизни Навлинского района, за счет сокращения количества потребляемой энергии, выхода на более высокую ступень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79520" y="3724200"/>
          <a:ext cx="9177120" cy="1287360"/>
        </p:xfrm>
        <a:graphic>
          <a:graphicData uri="http://schemas.openxmlformats.org/drawingml/2006/table">
            <a:tbl>
              <a:tblPr/>
              <a:tblGrid>
                <a:gridCol w="6308640"/>
                <a:gridCol w="1047600"/>
                <a:gridCol w="911520"/>
                <a:gridCol w="909360"/>
              </a:tblGrid>
              <a:tr h="443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повышению энергетической эффективности и обеспечению энергосбере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2"/>
          <p:cNvSpPr/>
          <p:nvPr/>
        </p:nvSpPr>
        <p:spPr>
          <a:xfrm>
            <a:off x="312840" y="1095480"/>
            <a:ext cx="917424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рограммная часть бюджета на 2019 год определена в сумме 2081 тыс. рублей, или 0,5 процента всей расходной части бюджета, в нее вошли расходы на обеспечение деятель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ставительного органа муниципального образования – Навлинский районный Совет народных депутатов в сумме 778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о-счётного органа муниципального образования – Контрольно-счётная палата Навлинского района в сумме 964 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проведения референдумов и выборов – Администрация Навлинского района – 239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ервный фонд администрации Навлинского района в объеме 100 тыс. 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95400" y="157320"/>
            <a:ext cx="962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ПРОГРАММНАЯ ЧАСТЬ РАСХОДО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бюдж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2560" y="668160"/>
            <a:ext cx="9399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Бюджетным кодексом Российской Федер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о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а образования и расходования денежных средст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едназначенных для финансового обеспечения задач и функций государства и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 состоит из трех основных частей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ходов, расходов и источников финансирования дефицита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ход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понимаются денежные средств, поступающие в бюджет в безвозмездном и безвозвратном порядке в соответствии с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Бюджетным кодексом Российской Федерации доходы бюджета образуются за счет налоговых и неналоговых доходов, а также за счет безвозмездных поступле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х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- это выплачиваемые из бюджета денежные средства, которые направляются на финансовое обеспечение задач и функций государственной власти и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а - превышение расходов бюджета над его доход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балансированность бюджета по доходам и расхода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основополагающее требование, предъявляемое к органам, составляющим и утверждающим бюдж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7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Овал 6"/>
          <p:cNvGrpSpPr/>
          <p:nvPr/>
        </p:nvGrpSpPr>
        <p:grpSpPr>
          <a:xfrm>
            <a:off x="2981160" y="2146320"/>
            <a:ext cx="3943440" cy="3352680"/>
            <a:chOff x="2981160" y="2146320"/>
            <a:chExt cx="3943440" cy="3352680"/>
          </a:xfrm>
        </p:grpSpPr>
        <p:pic>
          <p:nvPicPr>
            <p:cNvPr id="273" name="Овал 6" descr=""/>
            <p:cNvPicPr/>
            <p:nvPr/>
          </p:nvPicPr>
          <p:blipFill>
            <a:blip r:embed="rId1"/>
            <a:stretch/>
          </p:blipFill>
          <p:spPr>
            <a:xfrm>
              <a:off x="2981160" y="2146320"/>
              <a:ext cx="394344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543480" y="2617920"/>
              <a:ext cx="249840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Box 5"/>
          <p:cNvSpPr/>
          <p:nvPr/>
        </p:nvSpPr>
        <p:spPr>
          <a:xfrm>
            <a:off x="1494000" y="2479680"/>
            <a:ext cx="6813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е управление администрации Навли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чтовый адрес: 242130, п. Нав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. Красных Партизан 21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с: (4832) 2198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Тел.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(48342)21988, 8(48342)2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фициальный сайт администрации района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dmnav.ru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E-mail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ea typeface="Tahoma"/>
                <a:hlinkClick r:id="rId3"/>
              </a:rPr>
              <a:t>nvlfinotdel@mail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958400" y="1101600"/>
            <a:ext cx="55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808200" y="163440"/>
            <a:ext cx="8721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87480" y="0"/>
            <a:ext cx="92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177840" y="1058760"/>
            <a:ext cx="97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Вертикальный свиток 5"/>
          <p:cNvSpPr/>
          <p:nvPr/>
        </p:nvSpPr>
        <p:spPr>
          <a:xfrm>
            <a:off x="522360" y="523800"/>
            <a:ext cx="8358120" cy="2094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b0f0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бюджетные трансфер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редства, предоставляемые одним бюджетом бюджетной системы Российской Федерации другому бюджету бюджетной систем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ая прямоугольная выноска 7"/>
          <p:cNvSpPr/>
          <p:nvPr/>
        </p:nvSpPr>
        <p:spPr>
          <a:xfrm>
            <a:off x="787320" y="3076560"/>
            <a:ext cx="2643120" cy="2117880"/>
          </a:xfrm>
          <a:prstGeom prst="wedgeRoundRectCallout">
            <a:avLst>
              <a:gd name="adj1" fmla="val -26523"/>
              <a:gd name="adj2" fmla="val 70023"/>
              <a:gd name="adj3" fmla="val 16667"/>
            </a:avLst>
          </a:prstGeom>
          <a:gradFill rotWithShape="0">
            <a:gsLst>
              <a:gs pos="0">
                <a:srgbClr val="49c18d"/>
              </a:gs>
              <a:gs pos="100000">
                <a:srgbClr val="cceedf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ДОТАЦИИ </a:t>
            </a:r>
            <a:r>
              <a:rPr b="1" i="1" lang="ru-RU" sz="1600" spc="-1" strike="noStrike">
                <a:solidFill>
                  <a:srgbClr val="3333cc"/>
                </a:solidFill>
                <a:latin typeface="Calibri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3333cc"/>
                </a:solidFill>
                <a:latin typeface="Calibri"/>
                <a:ea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без установления направлений и (или) условий их исполь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ая прямоугольная выноска 8"/>
          <p:cNvSpPr/>
          <p:nvPr/>
        </p:nvSpPr>
        <p:spPr>
          <a:xfrm>
            <a:off x="3919680" y="3165480"/>
            <a:ext cx="271440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f5f5fc"/>
              </a:gs>
              <a:gs pos="100000">
                <a:srgbClr val="c2c2f0"/>
              </a:gs>
            </a:gsLst>
            <a:lin ang="5400000"/>
          </a:gra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СУБВ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на финанс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«переданных» другим публично-правовым образованиям полномоч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кругленная прямоугольная выноска 9"/>
          <p:cNvSpPr/>
          <p:nvPr/>
        </p:nvSpPr>
        <p:spPr>
          <a:xfrm>
            <a:off x="6946920" y="3121200"/>
            <a:ext cx="271476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f0fffb"/>
              </a:gs>
              <a:gs pos="100000">
                <a:srgbClr val="a3ffe8"/>
              </a:gs>
            </a:gsLst>
            <a:lin ang="5400000"/>
          </a:gra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СУБСИ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99"/>
                </a:solidFill>
                <a:latin typeface="Calibri"/>
              </a:rPr>
              <a:t>на софинансирование расходных обязательств, возникающих при выполнении полномочий по вопросам местного зна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87480" y="0"/>
            <a:ext cx="92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68200" y="1046160"/>
            <a:ext cx="97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Овальная выноска 11"/>
          <p:cNvSpPr/>
          <p:nvPr/>
        </p:nvSpPr>
        <p:spPr>
          <a:xfrm>
            <a:off x="939960" y="523800"/>
            <a:ext cx="2360520" cy="1143000"/>
          </a:xfrm>
          <a:prstGeom prst="wedgeEllipseCallout">
            <a:avLst>
              <a:gd name="adj1" fmla="val -21435"/>
              <a:gd name="adj2" fmla="val 68574"/>
            </a:avLst>
          </a:prstGeom>
          <a:solidFill>
            <a:srgbClr val="fa6e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Овальная выноска 12"/>
          <p:cNvSpPr/>
          <p:nvPr/>
        </p:nvSpPr>
        <p:spPr>
          <a:xfrm>
            <a:off x="6769080" y="539640"/>
            <a:ext cx="2546280" cy="1143000"/>
          </a:xfrm>
          <a:prstGeom prst="wedgeEllipseCallout">
            <a:avLst>
              <a:gd name="adj1" fmla="val -21435"/>
              <a:gd name="adj2" fmla="val 68574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Блок-схема: процесс 13" descr=""/>
          <p:cNvPicPr/>
          <p:nvPr/>
        </p:nvPicPr>
        <p:blipFill>
          <a:blip r:embed="rId1"/>
          <a:stretch/>
        </p:blipFill>
        <p:spPr>
          <a:xfrm>
            <a:off x="1225440" y="1908000"/>
            <a:ext cx="1689120" cy="33163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5" descr=""/>
          <p:cNvPicPr/>
          <p:nvPr/>
        </p:nvPicPr>
        <p:blipFill>
          <a:blip r:embed="rId2"/>
          <a:stretch/>
        </p:blipFill>
        <p:spPr>
          <a:xfrm>
            <a:off x="2908440" y="2620800"/>
            <a:ext cx="1187280" cy="267660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17"/>
          <p:cNvSpPr/>
          <p:nvPr/>
        </p:nvSpPr>
        <p:spPr>
          <a:xfrm>
            <a:off x="1050840" y="5211720"/>
            <a:ext cx="32148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евышение расходов бюджета над его доход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19"/>
          <p:cNvSpPr/>
          <p:nvPr/>
        </p:nvSpPr>
        <p:spPr>
          <a:xfrm>
            <a:off x="5880240" y="5218200"/>
            <a:ext cx="3214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евышение доходов бюджета над его расход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Прямоугольник 20" descr=""/>
          <p:cNvPicPr/>
          <p:nvPr/>
        </p:nvPicPr>
        <p:blipFill>
          <a:blip r:embed="rId3"/>
          <a:stretch/>
        </p:blipFill>
        <p:spPr>
          <a:xfrm>
            <a:off x="6267600" y="1994040"/>
            <a:ext cx="1474560" cy="3224160"/>
          </a:xfrm>
          <a:prstGeom prst="rect">
            <a:avLst/>
          </a:prstGeom>
          <a:ln w="0">
            <a:noFill/>
          </a:ln>
        </p:spPr>
      </p:pic>
      <p:pic>
        <p:nvPicPr>
          <p:cNvPr id="123" name="Блок-схема: процесс 21" descr=""/>
          <p:cNvPicPr/>
          <p:nvPr/>
        </p:nvPicPr>
        <p:blipFill>
          <a:blip r:embed="rId4"/>
          <a:stretch/>
        </p:blipFill>
        <p:spPr>
          <a:xfrm>
            <a:off x="7729560" y="2664000"/>
            <a:ext cx="1017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сновные понят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ак детализируются расхо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3000" y="298080"/>
            <a:ext cx="96789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Вертикальный свиток 3"/>
          <p:cNvSpPr/>
          <p:nvPr/>
        </p:nvSpPr>
        <p:spPr>
          <a:xfrm>
            <a:off x="738360" y="1214280"/>
            <a:ext cx="257148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ные  рас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Вертикальный свиток 4"/>
          <p:cNvSpPr/>
          <p:nvPr/>
        </p:nvSpPr>
        <p:spPr>
          <a:xfrm>
            <a:off x="6622920" y="1214280"/>
            <a:ext cx="3011760" cy="1285920"/>
          </a:xfrm>
          <a:prstGeom prst="verticalScroll">
            <a:avLst>
              <a:gd name="adj" fmla="val 12500"/>
            </a:avLst>
          </a:prstGeom>
          <a:solidFill>
            <a:srgbClr val="60c99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Стрелка вправо 5"/>
          <p:cNvSpPr/>
          <p:nvPr/>
        </p:nvSpPr>
        <p:spPr>
          <a:xfrm>
            <a:off x="3699000" y="4506840"/>
            <a:ext cx="2600280" cy="890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ГРБ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Стрелка влево 6"/>
          <p:cNvSpPr/>
          <p:nvPr/>
        </p:nvSpPr>
        <p:spPr>
          <a:xfrm>
            <a:off x="3763800" y="2995560"/>
            <a:ext cx="2379960" cy="8571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2 раз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Вертикальный свиток 8"/>
          <p:cNvSpPr/>
          <p:nvPr/>
        </p:nvSpPr>
        <p:spPr>
          <a:xfrm>
            <a:off x="573120" y="4317840"/>
            <a:ext cx="2736720" cy="12859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едомствен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Вертикальный свиток 9"/>
          <p:cNvSpPr/>
          <p:nvPr/>
        </p:nvSpPr>
        <p:spPr>
          <a:xfrm>
            <a:off x="573120" y="2805120"/>
            <a:ext cx="2571840" cy="12859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правление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Вертикальный свиток 10"/>
          <p:cNvSpPr/>
          <p:nvPr/>
        </p:nvSpPr>
        <p:spPr>
          <a:xfrm>
            <a:off x="6711840" y="4292640"/>
            <a:ext cx="3194280" cy="14907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Главные распорядители бюджетных сред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Вертикальный свиток 11"/>
          <p:cNvSpPr/>
          <p:nvPr/>
        </p:nvSpPr>
        <p:spPr>
          <a:xfrm>
            <a:off x="6711840" y="2808360"/>
            <a:ext cx="310032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ункциональ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трелка вправо 12"/>
          <p:cNvSpPr/>
          <p:nvPr/>
        </p:nvSpPr>
        <p:spPr>
          <a:xfrm>
            <a:off x="3699000" y="1438200"/>
            <a:ext cx="2600280" cy="951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5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0"/>
          <p:cNvSpPr/>
          <p:nvPr/>
        </p:nvSpPr>
        <p:spPr>
          <a:xfrm>
            <a:off x="382680" y="1033560"/>
            <a:ext cx="319860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Бюджетное посл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езидента РФ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Федеральному Собранию РФ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О бюджетной поли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52680" y="149400"/>
            <a:ext cx="86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 ЧЕМ ОСНОВЫВАЕТСЯ СОСТАВЛЕНИЕ ПРОЕКТА БЮДЖЕТА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3581280" y="2309760"/>
            <a:ext cx="2952720" cy="1544760"/>
          </a:xfrm>
          <a:prstGeom prst="ellipse">
            <a:avLst/>
          </a:prstGeom>
          <a:solidFill>
            <a:srgbClr val="a3ab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19-2021 г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6534000" y="1033560"/>
            <a:ext cx="315144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огноз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социально-экономического развит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6534000" y="3726000"/>
            <a:ext cx="315144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1658880" y="3995640"/>
            <a:ext cx="3294000" cy="15512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Основные направл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бюджетной и налоговой полити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3044880" y="3129120"/>
            <a:ext cx="812880" cy="866520"/>
          </a:xfrm>
          <a:custGeom>
            <a:avLst/>
            <a:gdLst>
              <a:gd name="textAreaLeft" fmla="*/ 467640 w 812880"/>
              <a:gd name="textAreaRight" fmla="*/ 683280 w 8128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8"/>
          <p:cNvSpPr/>
          <p:nvPr/>
        </p:nvSpPr>
        <p:spPr>
          <a:xfrm rot="5400000">
            <a:off x="3607560" y="1712160"/>
            <a:ext cx="814320" cy="866880"/>
          </a:xfrm>
          <a:custGeom>
            <a:avLst/>
            <a:gdLst>
              <a:gd name="textAreaLeft" fmla="*/ 468360 w 814320"/>
              <a:gd name="textAreaRight" fmla="*/ 684720 w 814320"/>
              <a:gd name="textAreaTop" fmla="*/ 117000 h 866880"/>
              <a:gd name="textAreaBottom" fmla="*/ 37080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9"/>
          <p:cNvSpPr/>
          <p:nvPr/>
        </p:nvSpPr>
        <p:spPr>
          <a:xfrm rot="16200000">
            <a:off x="5824440" y="3475080"/>
            <a:ext cx="652320" cy="766440"/>
          </a:xfrm>
          <a:custGeom>
            <a:avLst/>
            <a:gdLst>
              <a:gd name="textAreaLeft" fmla="*/ 375480 w 652320"/>
              <a:gd name="textAreaRight" fmla="*/ 548280 w 652320"/>
              <a:gd name="textAreaTop" fmla="*/ 103320 h 766440"/>
              <a:gd name="textAreaBottom" fmla="*/ 327960 h 766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0"/>
          <p:cNvSpPr/>
          <p:nvPr/>
        </p:nvSpPr>
        <p:spPr>
          <a:xfrm rot="10800000">
            <a:off x="6257880" y="2552400"/>
            <a:ext cx="682560" cy="817560"/>
          </a:xfrm>
          <a:custGeom>
            <a:avLst/>
            <a:gdLst>
              <a:gd name="textAreaLeft" fmla="*/ 392760 w 682560"/>
              <a:gd name="textAreaRight" fmla="*/ 573840 w 682560"/>
              <a:gd name="textAreaTop" fmla="*/ 110160 h 817560"/>
              <a:gd name="textAreaBottom" fmla="*/ 349920 h 817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04:33:03Z</dcterms:created>
  <dc:creator>Reanimator 98</dc:creator>
  <dc:description/>
  <dc:language>en-US</dc:language>
  <cp:lastModifiedBy>User</cp:lastModifiedBy>
  <cp:lastPrinted>2016-12-13T08:39:40Z</cp:lastPrinted>
  <dcterms:modified xsi:type="dcterms:W3CDTF">2018-11-26T14:34:49Z</dcterms:modified>
  <cp:revision>1079</cp:revision>
  <dc:subject/>
  <dc:title>Презентация PowerPoint</dc:title>
</cp:coreProperties>
</file>