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278-78AD-4582-8F5C-F9BB45B4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103964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3793680"/>
            <a:ext cx="103964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64C-3D4C-4279-8C01-D9D453D3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1272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37936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12720" y="37936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826-370D-41B2-A5D3-84F603D2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00480" y="20638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715520" y="20638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37936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00480" y="37936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715520" y="37936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9A7-0B07-4C30-9A93-A2CD2002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4571-598A-41D1-BFF6-3BA71129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440" y="2063880"/>
            <a:ext cx="1039644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8F1C-1D21-4D0E-9E3F-D93524F7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103964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E85F-9C09-4338-9898-7A5F7112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50731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12720" y="2063880"/>
            <a:ext cx="50731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A058-2188-411E-BC54-77E489BF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1424-E699-4816-B20E-4A9195E7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440" y="685440"/>
            <a:ext cx="1039644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DBB2-EEC7-4BDF-9D89-60CB192B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12720" y="2063880"/>
            <a:ext cx="50731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37936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B703-DCF2-4E62-BD68-639DC3FF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2063880"/>
            <a:ext cx="1039644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9D0-3E18-4F28-A4B5-A45F8EF6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50731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1272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2720" y="37936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4A02-2BF6-40A0-B21D-06BA318A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1272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440" y="3793680"/>
            <a:ext cx="103964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7ACF-E9C2-48A7-8BA9-79CBC0C4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103964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440" y="3793680"/>
            <a:ext cx="103964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6ECE-4C2C-455E-84D9-8A99EA45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1272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440" y="37936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012720" y="37936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B338-8654-46CE-96CB-C83B77A0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00480" y="20638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715520" y="20638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440" y="37936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200480" y="37936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7715520" y="37936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9411-9EF5-409B-8C5D-65D43A7B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CC70-E991-445D-91FD-49135CC4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85440" y="2063880"/>
            <a:ext cx="1039644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726C-0446-47DB-B89B-C0AC9772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103964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1A659-D4F5-4746-965F-A075488C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50731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012720" y="2063880"/>
            <a:ext cx="50731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5AD9A-D402-4DED-80A9-AB31C42F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51F97-239D-4E50-91FC-E12881AF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103964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6E1-8DAB-402E-805B-12B3FC2A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5440" y="685440"/>
            <a:ext cx="1039644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D2F6D-E28D-487D-B5CF-D5383520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012720" y="2063880"/>
            <a:ext cx="50731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440" y="37936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B2E5-EAC5-44E9-BD22-B2FF05B1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50731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01272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12720" y="37936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7826E-5FE8-43D1-9E2B-9F3697E8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01272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440" y="3793680"/>
            <a:ext cx="103964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C4E92-CA68-4185-A1C4-204136F4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103964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85440" y="3793680"/>
            <a:ext cx="103964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E88DD-0B2E-48E5-8275-6A8BB930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1272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440" y="37936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12720" y="37936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231E0-D8DB-4071-95EE-FB69B48B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00480" y="20638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715520" y="20638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85440" y="37936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200480" y="37936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715520" y="3793680"/>
            <a:ext cx="334728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F4445-A251-4D31-8931-F4925196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50731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12720" y="2063880"/>
            <a:ext cx="50731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95E-D047-49B0-85C1-1CE339D5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712-3320-4245-803C-08FA75D8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685440"/>
            <a:ext cx="1039644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B08-9C7C-4CA8-9B9F-CD954501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12720" y="2063880"/>
            <a:ext cx="50731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7936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63C-20C1-4704-9B6C-4BB03444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50731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1272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12720" y="37936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B63-DFC8-465E-8D46-215D2BC9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12720" y="2063880"/>
            <a:ext cx="5073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93680"/>
            <a:ext cx="103964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498-37CC-4752-B269-AB3B7350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rickwork-HD-R1a.jp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9"/>
          <p:cNvGrpSpPr/>
          <p:nvPr/>
        </p:nvGrpSpPr>
        <p:grpSpPr>
          <a:xfrm>
            <a:off x="-25560" y="0"/>
            <a:ext cx="12004920" cy="6643800"/>
            <a:chOff x="-25560" y="0"/>
            <a:chExt cx="12004920" cy="6643800"/>
          </a:xfrm>
        </p:grpSpPr>
        <p:grpSp>
          <p:nvGrpSpPr>
            <p:cNvPr id="2" name="Rectangle 10"/>
            <p:cNvGrpSpPr/>
            <p:nvPr/>
          </p:nvGrpSpPr>
          <p:grpSpPr>
            <a:xfrm>
              <a:off x="-25560" y="0"/>
              <a:ext cx="12004920" cy="6643800"/>
              <a:chOff x="-25560" y="0"/>
              <a:chExt cx="12004920" cy="6643800"/>
            </a:xfrm>
          </p:grpSpPr>
          <p:pic>
            <p:nvPicPr>
              <p:cNvPr id="3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560" y="0"/>
                <a:ext cx="120049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2200" y="29520"/>
                <a:ext cx="11808000" cy="64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5" name="Freeform 11"/>
            <p:cNvSpPr/>
            <p:nvPr/>
          </p:nvSpPr>
          <p:spPr>
            <a:xfrm>
              <a:off x="27360" y="29520"/>
              <a:ext cx="11604240" cy="622476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6" name="Rectangle 12"/>
            <p:cNvGrpSpPr/>
            <p:nvPr/>
          </p:nvGrpSpPr>
          <p:grpSpPr>
            <a:xfrm>
              <a:off x="52200" y="5461920"/>
              <a:ext cx="11536560" cy="756360"/>
              <a:chOff x="52200" y="5461920"/>
              <a:chExt cx="11536560" cy="756360"/>
            </a:xfrm>
          </p:grpSpPr>
          <p:pic>
            <p:nvPicPr>
              <p:cNvPr id="7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5463720"/>
                <a:ext cx="11534400" cy="75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>
                <a:off x="52200" y="5461920"/>
                <a:ext cx="11536560" cy="7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440" y="2063880"/>
            <a:ext cx="103964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297200" y="5757480"/>
            <a:ext cx="37846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c0708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85440" y="5757480"/>
            <a:ext cx="5499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286680" y="5757480"/>
            <a:ext cx="907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24E35-685A-4B98-BEEF-375E023EF47B}" type="slidenum">
              <a:rPr b="0" lang="en-US" sz="32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Brickwork-HD-R1a.jp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" name="Freeform 11"/>
          <p:cNvGrpSpPr/>
          <p:nvPr/>
        </p:nvGrpSpPr>
        <p:grpSpPr>
          <a:xfrm>
            <a:off x="-79200" y="0"/>
            <a:ext cx="11893320" cy="6838920"/>
            <a:chOff x="-79200" y="0"/>
            <a:chExt cx="11893320" cy="6838920"/>
          </a:xfrm>
        </p:grpSpPr>
        <p:pic>
          <p:nvPicPr>
            <p:cNvPr id="52" name="Freeform 11" descr=""/>
            <p:cNvPicPr/>
            <p:nvPr/>
          </p:nvPicPr>
          <p:blipFill>
            <a:blip r:embed="rId4"/>
            <a:stretch/>
          </p:blipFill>
          <p:spPr>
            <a:xfrm>
              <a:off x="-79200" y="0"/>
              <a:ext cx="11893320" cy="68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-15840" y="0"/>
              <a:ext cx="11683800" cy="65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54" name="Freeform 13"/>
          <p:cNvGrpSpPr/>
          <p:nvPr/>
        </p:nvGrpSpPr>
        <p:grpSpPr>
          <a:xfrm>
            <a:off x="0" y="4280040"/>
            <a:ext cx="11326680" cy="2028240"/>
            <a:chOff x="0" y="4280040"/>
            <a:chExt cx="11326680" cy="2028240"/>
          </a:xfrm>
        </p:grpSpPr>
        <p:pic>
          <p:nvPicPr>
            <p:cNvPr id="55" name="Freeform 13" descr=""/>
            <p:cNvPicPr/>
            <p:nvPr/>
          </p:nvPicPr>
          <p:blipFill>
            <a:blip r:embed="rId5"/>
            <a:stretch/>
          </p:blipFill>
          <p:spPr>
            <a:xfrm>
              <a:off x="0" y="4280040"/>
              <a:ext cx="11323440" cy="20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4281120"/>
              <a:ext cx="1132668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57" name="Freeform 25"/>
          <p:cNvGrpSpPr/>
          <p:nvPr/>
        </p:nvGrpSpPr>
        <p:grpSpPr>
          <a:xfrm>
            <a:off x="0" y="0"/>
            <a:ext cx="8717040" cy="457200"/>
            <a:chOff x="0" y="0"/>
            <a:chExt cx="8717040" cy="457200"/>
          </a:xfrm>
        </p:grpSpPr>
        <p:pic>
          <p:nvPicPr>
            <p:cNvPr id="58" name="Freeform 25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87138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871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60" name="Freeform 14"/>
          <p:cNvSpPr/>
          <p:nvPr/>
        </p:nvSpPr>
        <p:spPr>
          <a:xfrm rot="21420000">
            <a:off x="-161640" y="293400"/>
            <a:ext cx="11366640" cy="5751360"/>
          </a:xfrm>
          <a:custGeom>
            <a:avLst/>
            <a:gdLst/>
            <a:ahLst/>
            <a:rect l="l" t="t" r="r" b="b"/>
            <a:pathLst>
              <a:path w="11367116" h="5751804">
                <a:moveTo>
                  <a:pt x="11346705" y="0"/>
                </a:moveTo>
                <a:cubicBezTo>
                  <a:pt x="11353509" y="1915114"/>
                  <a:pt x="11360312" y="3830229"/>
                  <a:pt x="11367116" y="5745343"/>
                </a:cubicBezTo>
                <a:lnTo>
                  <a:pt x="0" y="5751804"/>
                </a:lnTo>
              </a:path>
            </a:pathLst>
          </a:custGeom>
          <a:noFill/>
          <a:ln w="82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5-Point Star 24"/>
          <p:cNvSpPr/>
          <p:nvPr/>
        </p:nvSpPr>
        <p:spPr>
          <a:xfrm rot="21420000">
            <a:off x="4221000" y="5111640"/>
            <a:ext cx="516240" cy="514440"/>
          </a:xfrm>
          <a:custGeom>
            <a:avLst/>
            <a:gdLst/>
            <a:ahLst/>
            <a:rect l="l" t="t" r="r" b="b"/>
            <a:pathLst>
              <a:path w="515386" h="515386">
                <a:moveTo>
                  <a:pt x="1" y="196859"/>
                </a:moveTo>
                <a:lnTo>
                  <a:pt x="172669" y="161850"/>
                </a:lnTo>
                <a:lnTo>
                  <a:pt x="257693" y="0"/>
                </a:lnTo>
                <a:lnTo>
                  <a:pt x="342717" y="161850"/>
                </a:lnTo>
                <a:lnTo>
                  <a:pt x="515385" y="196859"/>
                </a:lnTo>
                <a:lnTo>
                  <a:pt x="395265" y="331898"/>
                </a:lnTo>
                <a:lnTo>
                  <a:pt x="416956" y="515385"/>
                </a:lnTo>
                <a:lnTo>
                  <a:pt x="257693" y="436993"/>
                </a:lnTo>
                <a:lnTo>
                  <a:pt x="98430" y="515385"/>
                </a:lnTo>
                <a:lnTo>
                  <a:pt x="120121" y="331898"/>
                </a:lnTo>
                <a:lnTo>
                  <a:pt x="1" y="196859"/>
                </a:lnTo>
                <a:close/>
              </a:path>
            </a:pathLst>
          </a:cu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440" y="2063880"/>
            <a:ext cx="103964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 rot="21420000">
            <a:off x="4947840" y="4578480"/>
            <a:ext cx="614376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54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5c0708"/>
                </a:solidFill>
                <a:latin typeface="Times New Roman"/>
              </a:rPr>
              <a:t>&lt;date/time&gt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 rot="21420000">
            <a:off x="-6480" y="4882680"/>
            <a:ext cx="40482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 rot="21420000">
            <a:off x="9851760" y="3831840"/>
            <a:ext cx="906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3927D-703A-4B67-87AA-3B00EAA8A3E0}" type="slidenum"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Brickwork-HD-R1a.jp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9"/>
          <p:cNvGrpSpPr/>
          <p:nvPr/>
        </p:nvGrpSpPr>
        <p:grpSpPr>
          <a:xfrm>
            <a:off x="-25560" y="0"/>
            <a:ext cx="12004920" cy="6643800"/>
            <a:chOff x="-25560" y="0"/>
            <a:chExt cx="12004920" cy="6643800"/>
          </a:xfrm>
        </p:grpSpPr>
        <p:grpSp>
          <p:nvGrpSpPr>
            <p:cNvPr id="105" name="Rectangle 10"/>
            <p:cNvGrpSpPr/>
            <p:nvPr/>
          </p:nvGrpSpPr>
          <p:grpSpPr>
            <a:xfrm>
              <a:off x="-25560" y="0"/>
              <a:ext cx="12004920" cy="6643800"/>
              <a:chOff x="-25560" y="0"/>
              <a:chExt cx="12004920" cy="6643800"/>
            </a:xfrm>
          </p:grpSpPr>
          <p:pic>
            <p:nvPicPr>
              <p:cNvPr id="106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560" y="0"/>
                <a:ext cx="12004920" cy="66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2200" y="29520"/>
                <a:ext cx="11808000" cy="64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08" name="Freeform 11"/>
            <p:cNvSpPr/>
            <p:nvPr/>
          </p:nvSpPr>
          <p:spPr>
            <a:xfrm>
              <a:off x="27360" y="29520"/>
              <a:ext cx="11604240" cy="622476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09" name="Rectangle 12"/>
            <p:cNvGrpSpPr/>
            <p:nvPr/>
          </p:nvGrpSpPr>
          <p:grpSpPr>
            <a:xfrm>
              <a:off x="52200" y="5461920"/>
              <a:ext cx="11536560" cy="756360"/>
              <a:chOff x="52200" y="5461920"/>
              <a:chExt cx="11536560" cy="756360"/>
            </a:xfrm>
          </p:grpSpPr>
          <p:pic>
            <p:nvPicPr>
              <p:cNvPr id="110" name="Rectangl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5463720"/>
                <a:ext cx="11534400" cy="75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52200" y="5461920"/>
                <a:ext cx="11536560" cy="7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112" name="TextBox 13"/>
          <p:cNvSpPr/>
          <p:nvPr/>
        </p:nvSpPr>
        <p:spPr>
          <a:xfrm>
            <a:off x="685800" y="89208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10472760" y="292248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10396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80e0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b80e0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440" y="2063880"/>
            <a:ext cx="103964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6580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7297200" y="5757480"/>
            <a:ext cx="37846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c0708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685440" y="5757480"/>
            <a:ext cx="5499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286680" y="5757480"/>
            <a:ext cx="907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5c07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99B45-4695-4622-824C-0421CE18A189}" type="slidenum">
              <a:rPr b="0" lang="en-US" sz="3200" spc="-1" strike="noStrike">
                <a:solidFill>
                  <a:srgbClr val="5c0708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consultantplus://offline/ref=32B161DB8AEB4CF9E05A6755A9DACDB13ED4776D58BC07260230B61CC7FC32CB85E9CC77025460B900AE68BBE1A0BB5B99D92AD01C0C80m5h2I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 rot="21420000">
            <a:off x="556920" y="1186920"/>
            <a:ext cx="10299600" cy="304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80e0f"/>
                </a:solidFill>
                <a:latin typeface="Impact"/>
              </a:rPr>
              <a:t>ОБЗОР ИЗМЕНЕНИЙ ЗАКОНОДАТЕЛЬСТВА В СФЕРЕ ОБРАЗОВАНИЯ</a:t>
            </a:r>
            <a:br>
              <a:rPr sz="3200"/>
            </a:br>
            <a:r>
              <a:rPr b="1" lang="ru-RU" sz="3200" spc="-1" strike="noStrike">
                <a:solidFill>
                  <a:srgbClr val="b80e0f"/>
                </a:solidFill>
                <a:latin typeface="Impact"/>
              </a:rPr>
              <a:t>(ПРИНЯТЫЕ И (ИЛИ) ВСТУПИВШИЕ В СИЛУ НОРМАТИВНЫЕ ПРАВОВЫЕ АКТЫ В ЯНВАРЕ-МАРТЕ 2020 - 2021 ГОДА, ДЕЙСТВУЮЩИЕ)</a:t>
            </a:r>
            <a:br>
              <a:rPr sz="7200"/>
            </a:br>
            <a:endParaRPr b="0" lang="en-US" sz="3200" spc="-1" strike="noStrike">
              <a:solidFill>
                <a:srgbClr val="b80e0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440" y="299520"/>
            <a:ext cx="10395000" cy="186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ФЕДЕРАЛЬНЫЙ ЗАКОН ОТ 01.03.2020 № 47-ФЗ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ВНЕСЕНИИ ИЗМЕНЕНИЙ В ФЕДЕРАЛЬНЫЙ ЗАКОН «О КАЧЕСТВЕ И БЕЗОПАСНОСТИ ПИЩЕВЫХ ПРОДУКТОВ» И СТАТЬЮ 37 ФЕДЕРАЛЬНОГО ЗАКОНА «ОБ ОБРАЗОВАНИИ В РОССИЙСКОЙ ФЕДЕРАЦИИ»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ЧАЛО ДЕЙСТВИЯ ДОКУМЕНТА - 01.05.2020 (ПУНКТ 1 СТАТЬИ 2 - С 01.09.2020)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Объект 2"/>
          <p:cNvSpPr/>
          <p:nvPr/>
        </p:nvSpPr>
        <p:spPr>
          <a:xfrm>
            <a:off x="685800" y="2168640"/>
            <a:ext cx="10395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ФЕДЕРАЛЬНЫЙ ЗАКОН ОТ 06.02.2020 № 9-ФЗ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ВНЕСЕНИИ ИЗМЕНЕНИЙ В СТАТЬЮ 76 ФЕДЕРАЛЬНОГО ЗАКОНА «ОБ ОБРАЗОВАНИИ В РОССИЙСКОЙ ФЕДЕРАЦИИ»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ЧАЛО ДЕЙСТВИЯ ДОКУМЕНТА – 17.02.2020 ГОДА)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Объект 2"/>
          <p:cNvSpPr/>
          <p:nvPr/>
        </p:nvSpPr>
        <p:spPr>
          <a:xfrm>
            <a:off x="392040" y="3697200"/>
            <a:ext cx="1122048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КАЗ МИНПРОСВЕЩЕНИЯ РОССИИ ОТ 17.03.2020 № 103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ВРЕМЕННОГО ПОРЯДКА СОПРОВОЖДЕНИЯ РЕАЛИЗАЦИИ ОБРАЗОВАТЕЛЬНЫХ ПРОГРАММ НАЧАЛЬНОГО ОБЩЕГО, ОСНОВНОГО ОБЩЕГО, СРЕДНЕГО ОБЩЕГО ОБРАЗОВАНИЯ, ОБРАЗОВАТЕЛЬНЫХ ПРОГРАММ СРЕДНЕГО ПРОФЕССИОНАЛЬНОГО ОБРАЗОВАНИЯ И ДОПОЛНИТЕЛЬНЫХ ОБЩЕОБРАЗОВАТЕЛЬНЫХ ПРОГРАММ С ПРИМЕНЕНИЕМ ЭЛЕКТРОННОГО ОБУЧЕНИЯ И ДИСТАНЦИОННЫХ ОБРАЗОВАТЕЛЬНЫХ ТЕХНОЛОГИЙ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ЧАЛО ДЕЙСТВИЯ ДОКУМЕНТА - 31.03.2020 ГОДА)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55120" y="364680"/>
            <a:ext cx="10395000" cy="15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ФЕДЕРАЛЬНЫЙ ЗАКОН ОТ 25.05.2020 № 158-ФЗ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ВНЕСЕНИИ ИЗМЕНЕНИЙ В ФЕДЕРАЛЬНЫЙ ЗАКОН «ОБ ОБРАЗОВАНИИ В РОССИЙСКОЙ ФЕДЕРАЦИИ» В ЧАСТИ УСТАНОВЛЕНИЯ КВАЛИФИКАЦИОННЫХ РАЗРЯДОВ, КЛАССОВ, КАТЕГОРИЙ ПО СООТВЕТСТВУЮЩИМ ПРОФЕССИЯМ РАБОЧИХ, ДОЛЖНОСТЯМ СЛУЖАЩИХ» (НАЧАЛО ДЕЙСТВИЯ ДОКУМЕНТА - 05.06.2020)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Объект 2"/>
          <p:cNvSpPr/>
          <p:nvPr/>
        </p:nvSpPr>
        <p:spPr>
          <a:xfrm>
            <a:off x="685800" y="1698480"/>
            <a:ext cx="103950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ФЕДЕРАЛЬНЫЙ ЗАКОН ОТ 08.06.2020 № 165-ФЗ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ВНЕСЕНИИ ИЗМЕНЕНИЙ В СТАТЬИ 46 И 108 ФЕДЕРАЛЬНОГО ЗАКОНА «ОБ ОБРАЗОВАНИИ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ЧАЛО ДЕЙСТВИЯ ДОКУМЕНТА – 19.06.2020)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Объект 2"/>
          <p:cNvSpPr/>
          <p:nvPr/>
        </p:nvSpPr>
        <p:spPr>
          <a:xfrm>
            <a:off x="555480" y="3348000"/>
            <a:ext cx="103950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ФЕДЕРАЛЬНЫЙ ЗАКОН ФЕДЕРАЛЬНЫЙ ЗАКОН ОТ 31.07.2020 № 304-ФЗ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ВНЕСЕНИИ ИЗМЕНЕНИЙ В ФЕДЕРАЛЬНЫЙ ЗАКОН «ОБ ОБРАЗОВАНИИ В РОССИЙСКОЙ ФЕДЕРАЦИИ» ПО ВОПРОСАМ ВОСПИТАНИЯ ОБУЧАЮЩИХСЯ»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ЧАЛО ДЕЙСТВИЯ ДОКУМЕНТА – 01.09.2020)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55120" y="364680"/>
            <a:ext cx="10395000" cy="15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СТАНОВЛЕНИЕ ПРАВИТЕЛЬСТВА РФ ОТ 15.09.2020 № 1441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РАВИЛ ОКАЗАНИЯ ПЛАТНЫХ ОБРАЗОВАТЕЛЬНЫХ УСЛУГ»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ЧАЛО ДЕЙСТВИЯ ДОКУМЕНТА - 01.01.2021)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Объект 2"/>
          <p:cNvSpPr/>
          <p:nvPr/>
        </p:nvSpPr>
        <p:spPr>
          <a:xfrm>
            <a:off x="685800" y="1698480"/>
            <a:ext cx="103950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РИКАЗ МИНОБРНАУКИ РОССИИ № 882, МИНПРОСВЕЩЕНИЯ РОССИИ № 391 ОТ 05.08.2020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РГАНИЗАЦИИ И ОСУЩЕСТВЛЕНИИ ОБРАЗОВАТЕЛЬНОЙ ДЕЯТЕЛЬНОСТИ ПРИ СЕТЕВОЙ ФОРМЕ РЕАЛИЗАЦИИ ОБРАЗОВАТЕЛЬНЫХ ПРОГРАММ»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ЧАЛО ДЕЙСТВИЯ ДОКУМЕНТА – 22.09.2020)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" name="Объект 2"/>
          <p:cNvSpPr/>
          <p:nvPr/>
        </p:nvSpPr>
        <p:spPr>
          <a:xfrm>
            <a:off x="555480" y="3348000"/>
            <a:ext cx="103950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РИКАЗ МИНОБРНАУКИ РОССИИ № 885, МИНПРОСВЕЩЕНИЯ РОССИИ № 390 ОТ 05.08.2020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ПРАКТИЧЕСКОЙ ПОДГОТОВКЕ ОБУЧАЮЩИХСЯ»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ЧАЛО ДЕЙСТВИЯ ДОКУМЕНТА – 22.09.2020)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55120" y="364680"/>
            <a:ext cx="10395000" cy="15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ПРИКАЗ МИНПРОСВЕЩЕНИЯ РОССИИ ОТ 02.09.2020 № 458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ПРИЕМА НА ОБУЧЕНИЕ ПО ОБРАЗОВАТЕЛЬНЫМ ПРОГРАММАМ НАЧАЛЬНОГО ОБЩЕГО, ОСНОВНОГО ОБЩЕГО И СРЕДНЕГО ОБЩЕГО ОБРАЗОВАНИЯ»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ЧАЛО ДЕЙСТВИЯ ДОКУМЕНТА – 22.09.2020)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Объект 2"/>
          <p:cNvSpPr/>
          <p:nvPr/>
        </p:nvSpPr>
        <p:spPr>
          <a:xfrm>
            <a:off x="555480" y="2298600"/>
            <a:ext cx="103950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ПРИКАЗ МИНОБРНАУКИ РОССИИ № 845, МИНПРОСВЕЩЕНИЯ РОССИИ № 369 ОТ 30.07.2020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ЗАЧЕТА ОРГАНИЗАЦИЕЙ, ОСУЩЕСТВЛЯЮЩЕЙ ОБРАЗОВАТЕЛЬНУЮ ДЕЯТЕЛЬНОСТЬ, РЕЗУЛЬТАТОВ ОСВОЕНИЯ ОБУЧАЮЩИМИСЯ УЧЕБНЫХ ПРЕДМЕТОВ, КУРСОВ, ДИСЦИПЛИН (МОДУЛЕЙ), ПРАКТИКИ, ДОПОЛНИТЕЛЬНЫХ ОБРАЗОВАТЕЛЬНЫХ ПРОГРАММ В ДРУГИХ ОРГАНИЗАЦИЯХ, ОСУЩЕСТВЛЯЮЩИХ 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УЮ ДЕЯТЕЛЬНОСТЬ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ЧАЛО ДЕЙСТВИЯ ДОКУМЕНТА – 08.09.2020)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Объект 2"/>
          <p:cNvSpPr/>
          <p:nvPr/>
        </p:nvSpPr>
        <p:spPr>
          <a:xfrm>
            <a:off x="293760" y="4054320"/>
            <a:ext cx="103950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ПРИКАЗ МИНПРОСВЕЩЕНИЯ РОССИИ ОТ 28.08.2020 № 442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Б УТВЕРЖДЕНИИ ПОРЯДКА ОРГАНИЗАЦИИ И ОСУЩЕСТВЛЕНИЯ ОБРАЗОВАТЕЛЬНОЙ ДЕЯТЕЛЬНОСТИ ПО ОСНОВНЫМ ОБЩЕОБРАЗОВАТЕЛЬНЫМ ПРОГРАММАМ - ОБРАЗОВАТЕЛЬНЫМ ПРОГРАММАМ НАЧАЛЬНОГО ОБЩЕГО, ОСНОВНОГО ОБЩЕГО И СРЕДНЕГО ОБЩЕГО ОБРАЗОВАНИЯ» (НАЧАЛО ДЕЙСТВИЯ ДОКУМЕНТА -01.01.2021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55120" y="364680"/>
            <a:ext cx="1108404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ПРИКАЗ МИНПРОСВЕЩЕНИЯ РОССИИ ОТ 20.05.2020 № 254 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ФЕДЕРАЛЬНОГО ПЕРЕЧНЯ УЧЕБНИКОВ, ДОПУЩЕННЫХ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 ОРГАНИЗАЦИЯМИ, ОСУЩЕСТВЛЯЮЩИМИ ОБРАЗОВАТЕЛЬНУЮ ДЕЯТЕЛЬНОСТЬ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ЧАЛО ДЕЙСТВИЯ ДОКУМЕНТА - </a:t>
            </a:r>
            <a:r>
              <a:rPr b="0" lang="ru-RU" sz="1400" spc="-1" strike="noStrike" u="sng">
                <a:solidFill>
                  <a:srgbClr val="f21213"/>
                </a:solidFill>
                <a:uFillTx/>
                <a:latin typeface="Times New Roman"/>
                <a:ea typeface="Times New Roman"/>
                <a:hlinkClick r:id="rId1"/>
              </a:rPr>
              <a:t>25.09.202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9" name="Объект 2"/>
          <p:cNvSpPr/>
          <p:nvPr/>
        </p:nvSpPr>
        <p:spPr>
          <a:xfrm>
            <a:off x="555480" y="1581120"/>
            <a:ext cx="103950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ПОСТАНОВЛЕНИЕ ПРАВИТЕЛЬСТВА РФ ОТ 31.10.2020 № 1776 «О ВНЕСЕНИИ ИЗМЕНЕНИЙ В ПРАВИЛА ФОРМИРОВАНИЯ И ВЕДЕНИЯ ФЕДЕРАЛЬНОЙ ИНФОРМАЦИОННОЙ СИСТЕМЫ «ФЕДЕРАЛЬНЫЙ РЕЕСТР СВЕДЕНИЙ О ДОКУМЕНТАХ ОБ ОБРАЗОВАНИИ И (ИЛИ) О КВАЛИФИКАЦИИ, ДОКУМЕНТАХ ОБ ОБУЧЕНИИ» (НАЧАЛО ДЕЙСТВИЯ ДОКУМЕНТА - 13.11.2020)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Объект 2"/>
          <p:cNvSpPr/>
          <p:nvPr/>
        </p:nvSpPr>
        <p:spPr>
          <a:xfrm>
            <a:off x="358920" y="2795760"/>
            <a:ext cx="1039464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ПРИКАЗ МИНПРОСВЕЩЕНИЯ РОССИИ ОТ 24.09.2020 № 519 «О ВНЕСЕНИИ ИЗМЕНЕНИЯ В ФЕДЕРАЛЬНЫЙ ГОСУДАРСТВЕННЫЙ ОБРАЗОВАТЕЛЬНЫЙ СТАНДАРТ СРЕДНЕГО ОБЩЕГО ОБРАЗОВАНИЯ, УТВЕРЖДЕННЫЙ ПРИКАЗОМ МИНОБРНАУКИ РОССИИ ОТ 17.05.2012 № 413» (НАЧАЛО ДЕЙСТВИЯ ДОКУМЕНТА - 04.01.2021)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1" name="Объект 2"/>
          <p:cNvSpPr/>
          <p:nvPr/>
        </p:nvSpPr>
        <p:spPr>
          <a:xfrm>
            <a:off x="457200" y="4010040"/>
            <a:ext cx="103950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ПРИКАЗ МИНПРОСВЕЩЕНИЯ РОССИИ ОТ 05.10.2020 № 545 «ОБ УТВЕРЖДЕНИИ ОБРАЗЦОВ И ОПИСАНИЙ АТТЕСТАТОВ ОБ ОСНОВНОМ ОБЩЕМ И СРЕДНЕМ ОБЩЕМ ОБРАЗОВАНИИ И ПРИЛОЖЕНИЙ К НИМ» (НАЧАЛО ДЕЙСТВИЯ ДОКУМЕНТА - 09.01.2021)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55120" y="364680"/>
            <a:ext cx="1108404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ПРИКАЗ МИНПРОСВЕЩЕНИЯ РОССИИ ОТ 05.10.2020 № 546 «ОБ УТВЕРЖДЕНИИ ПОРЯДКА ЗАПОЛНЕНИЯ, УЧЕТА И ВЫДАЧИ АТТЕСТАТОВ ОБ ОСНОВНОМ ОБЩЕМ И СРЕДНЕМ ОБЩЕМ ОБРАЗОВАНИИ И ИХ ДУБЛИКАТОВ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ЧАЛО ДЕЙСТВИЯ ДОКУМЕНТА - 01.01.2021)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3" name="Объект 2"/>
          <p:cNvSpPr/>
          <p:nvPr/>
        </p:nvSpPr>
        <p:spPr>
          <a:xfrm>
            <a:off x="293760" y="1424160"/>
            <a:ext cx="110836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ПРИКАЗ МИНПРОСВЕЩЕНИЯ РОССИИ ОТ 20.11.2020 № 655 «О ВНЕСЕНИИ ИЗМЕНЕНИЯ В ПОРЯДОК ОРГАНИЗАЦИИ И ОСУЩЕСТВЛЕНИЯ ОБРАЗОВАТЕЛЬНОЙ ДЕЯТЕЛЬНОСТИ ПО ОСНОВНЫМ ОБЩЕОБРАЗОВАТЕЛЬНЫМ ПРОГРАММАМ - ОБРАЗОВАТЕЛЬНЫМ ПРОГРАММАМ НАЧАЛЬНОГО ОБЩЕГО, ОСНОВНОГО ОБЩЕГО И СРЕДНЕГО ОБЩЕГО ОБРАЗОВАНИЯ, УТВЕРЖДЕННЫЙ ПРИКАЗОМ МИНПРОСВЕЩЕНИЯ РОССИИ ОТ 28.08.2020 №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ДЕЙСТВИЯ ДОКУМЕНТА - 01.01.2021)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Объект 2"/>
          <p:cNvSpPr/>
          <p:nvPr/>
        </p:nvSpPr>
        <p:spPr>
          <a:xfrm>
            <a:off x="195120" y="2852640"/>
            <a:ext cx="1131264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ПРИКАЗ МИНПРОСВЕЩЕНИЯ РОССИИ ОТ 11.12.2020 № 712 «О ВНЕСЕНИИ ИЗМЕНЕНИЙ В НЕКОТОРЫЕ ФЕДЕРАЛЬНЫЕ ГОСУДАРСТВЕННЫЕ ОБРАЗОВАТЕЛЬНЫЕ СТАНДАРТЫ ОБЩЕГО ОБРАЗОВАНИЯ ПО ВОПРОСАМ ВОСПИТАНИЯ ОБУЧАЮЩИХСЯ» (НАЧАЛО ДЕЙСТВИЯ ДОКУМЕНТА - 08.01.2021)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Объект 2"/>
          <p:cNvSpPr/>
          <p:nvPr/>
        </p:nvSpPr>
        <p:spPr>
          <a:xfrm>
            <a:off x="293760" y="3970440"/>
            <a:ext cx="103950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ПРИКАЗ МИНПРОСВЕЩЕНИЯ РОССИИ ОТ 11.12.2020 № 713 «ОБ ОСОБЕННОСТЯХ АТТЕСТАЦИИ ПЕДАГОГИЧЕСКИХ РАБОТНИКОВ ОРГАНИЗАЦИЙ, ОСУЩЕСТВЛЯЮЩИХ ОБРАЗОВАТЕЛЬНУЮ ДЕЯТЕЛЬНОСТЬ» (НАЧАЛО ДЕЙСТВИЯ ДОКУМЕНТА - 08.01.2021)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1T19:49:31Z</dcterms:created>
  <dc:creator>Пользователь Windows</dc:creator>
  <dc:description/>
  <dc:language>en-US</dc:language>
  <cp:lastModifiedBy>Пользователь Windows</cp:lastModifiedBy>
  <dcterms:modified xsi:type="dcterms:W3CDTF">2021-04-01T21:41:59Z</dcterms:modified>
  <cp:revision>12</cp:revision>
  <dc:subject/>
  <dc:title>Обзор изменений законодательства в сфере образования (принятые и (или) вступившие в силу нормативные правовые акты в январе-марте 2020 - 2021 года, действующие)</dc:title>
</cp:coreProperties>
</file>