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B115-CF87-44D7-862E-D95A95B1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DC13-67CB-45FA-99F0-55155A6C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2686-57F0-4E36-93A0-73AE077A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30AF-EEE6-44A8-B3F2-6FB8A6E2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CCA5-4646-462F-A23C-F0B429A5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C731-F947-4B6F-9BBB-F92E29C3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E671-58D1-45FD-8B2D-AB30F3D5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8376-143F-4FBE-B964-39B00E21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A3B5-F941-4E1C-8878-4A526DCB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F02F-85CC-41FB-B3F3-03595B20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8492-9145-4AB0-8088-DB4A8AFD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CA08-8EF0-4169-86B1-EE098B9D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557E-ECF7-4875-88C2-99FEAA37BC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disk.yandex.ru/client/disk" TargetMode="External"/><Relationship Id="rId2" Type="http://schemas.openxmlformats.org/officeDocument/2006/relationships/hyperlink" Target="https://disk.yandex.ru/client/recent" TargetMode="External"/><Relationship Id="rId3" Type="http://schemas.openxmlformats.org/officeDocument/2006/relationships/hyperlink" Target="https://disk.yandex.ru/client/photo" TargetMode="External"/><Relationship Id="rId4" Type="http://schemas.openxmlformats.org/officeDocument/2006/relationships/hyperlink" Target="https://disk.yandex.ru/client/albums" TargetMode="External"/><Relationship Id="rId5" Type="http://schemas.openxmlformats.org/officeDocument/2006/relationships/hyperlink" Target="https://disk.yandex.ru/client/shared" TargetMode="External"/><Relationship Id="rId6" Type="http://schemas.openxmlformats.org/officeDocument/2006/relationships/hyperlink" Target="https://disk.yandex.ru/client/published" TargetMode="External"/><Relationship Id="rId7" Type="http://schemas.openxmlformats.org/officeDocument/2006/relationships/hyperlink" Target="https://disk.yandex.ru/client/journal" TargetMode="External"/><Relationship Id="rId8" Type="http://schemas.openxmlformats.org/officeDocument/2006/relationships/hyperlink" Target="https://disk.yandex.ru/client/disk" TargetMode="External"/><Relationship Id="rId9" Type="http://schemas.openxmlformats.org/officeDocument/2006/relationships/hyperlink" Target="https://disk.yandex.ru/client/recent" TargetMode="External"/><Relationship Id="rId10" Type="http://schemas.openxmlformats.org/officeDocument/2006/relationships/hyperlink" Target="https://disk.yandex.ru/client/photo" TargetMode="External"/><Relationship Id="rId11" Type="http://schemas.openxmlformats.org/officeDocument/2006/relationships/hyperlink" Target="https://disk.yandex.ru/client/albums" TargetMode="External"/><Relationship Id="rId12" Type="http://schemas.openxmlformats.org/officeDocument/2006/relationships/hyperlink" Target="https://disk.yandex.ru/client/shared" TargetMode="External"/><Relationship Id="rId13" Type="http://schemas.openxmlformats.org/officeDocument/2006/relationships/hyperlink" Target="https://disk.yandex.ru/client/published" TargetMode="External"/><Relationship Id="rId14" Type="http://schemas.openxmlformats.org/officeDocument/2006/relationships/hyperlink" Target="https://disk.yandex.ru/client/journal" TargetMode="External"/><Relationship Id="rId15" Type="http://schemas.openxmlformats.org/officeDocument/2006/relationships/hyperlink" Target="https://disk.yandex.ru/client/trash" TargetMode="External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 Light"/>
              </a:rPr>
              <a:t>М</a:t>
            </a:r>
            <a:r>
              <a:rPr b="1" lang="en-US" sz="6000" spc="-1" strike="noStrike">
                <a:solidFill>
                  <a:srgbClr val="000000"/>
                </a:solidFill>
                <a:latin typeface="Calibri Light"/>
              </a:rPr>
              <a:t>униципальный контроль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аспекты организации в Брянском райо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17 – 2018 учебный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зультатов диагностической работы (вводной) по МАТЕМАТИКЕ в 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6,7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ассе («Знаника»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838080" y="3147840"/>
          <a:ext cx="10379160" cy="1500480"/>
        </p:xfrm>
        <a:graphic>
          <a:graphicData uri="http://schemas.openxmlformats.org/drawingml/2006/table">
            <a:tbl>
              <a:tblPr/>
              <a:tblGrid>
                <a:gridCol w="2413080"/>
                <a:gridCol w="2862360"/>
                <a:gridCol w="1488960"/>
                <a:gridCol w="852480"/>
                <a:gridCol w="954000"/>
                <a:gridCol w="955800"/>
                <a:gridCol w="852480"/>
              </a:tblGrid>
              <a:tr h="1500480"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</a:tbl>
          </a:graphicData>
        </a:graphic>
      </p:graphicFrame>
      <p:pic>
        <p:nvPicPr>
          <p:cNvPr id="69" name="Таблица 13" descr=""/>
          <p:cNvPicPr/>
          <p:nvPr/>
        </p:nvPicPr>
        <p:blipFill>
          <a:blip r:embed="rId2"/>
          <a:stretch/>
        </p:blipFill>
        <p:spPr>
          <a:xfrm>
            <a:off x="828720" y="1657440"/>
            <a:ext cx="1055196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Анализ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и сопоставление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результатов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внутренней оценки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с </a:t>
            </a:r>
            <a:r>
              <a:rPr b="1" lang="en-US" sz="3200" spc="-1" strike="noStrike">
                <a:solidFill>
                  <a:srgbClr val="000000"/>
                </a:solidFill>
                <a:latin typeface="Calibri Light"/>
              </a:rPr>
              <a:t>ГИА </a:t>
            </a:r>
            <a:r>
              <a:rPr b="1" lang="en-US" sz="18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alibri Light"/>
              </a:rPr>
              <a:t>МБОУ “Супоневская СОШ №1 имени Героя Советского Союза Н.И.Чувина)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838080" y="1690560"/>
          <a:ext cx="10515600" cy="4351320"/>
        </p:xfrm>
        <a:graphic>
          <a:graphicData uri="http://schemas.openxmlformats.org/drawingml/2006/table">
            <a:tbl>
              <a:tblPr/>
              <a:tblGrid>
                <a:gridCol w="3602160"/>
                <a:gridCol w="2563920"/>
                <a:gridCol w="1778040"/>
                <a:gridCol w="2571480"/>
              </a:tblGrid>
              <a:tr h="89712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ний бал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межуточная аттест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Г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89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тематика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91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усский язык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 Light"/>
              </a:rPr>
              <a:t>Анализ и разработка мер методической поддержки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 Light"/>
              </a:rPr>
              <a:t>на муниципальном уровне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4" name="Объект 5"/>
          <p:cNvGraphicFramePr/>
          <p:nvPr/>
        </p:nvGraphicFramePr>
        <p:xfrm>
          <a:off x="787320" y="177480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182880" indent="-18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Файлы</a:t>
            </a: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82880" indent="-18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Последние файлы</a:t>
            </a: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82880" indent="-18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Все фото</a:t>
            </a: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82880" indent="-18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Альбомы</a:t>
            </a: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82880" indent="-18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Общие папки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82880" indent="-18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82880" indent="-18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Ссылки</a:t>
            </a: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82880" indent="-18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История</a:t>
            </a: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82880" indent="-18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Файлы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82880" indent="-18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Последние файлы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82880" indent="-18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Все фото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82880" indent="-18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Альбомы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82880" indent="-18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Общие папки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82880" indent="-18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Ссылки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82880" indent="-18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История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82880" indent="-18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Корзин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82880" indent="-18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Фотокамер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82880" indent="-18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Фото из соцсетей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82880" indent="-18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Я.Картинки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82880" indent="-18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очтовые вложения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82880" indent="-18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Загрузки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82880" indent="-18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Скриншоты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82880" indent="-18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Архив Яндекс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82880" indent="-18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Народ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82880" indent="-18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росмотреть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82880" indent="-18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очтаКалендарьКартыещё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82880" indent="-18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Установить Диск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182880" indent="-18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3" descr=""/>
          <p:cNvPicPr/>
          <p:nvPr/>
        </p:nvPicPr>
        <p:blipFill>
          <a:blip r:embed="rId16"/>
          <a:stretch/>
        </p:blipFill>
        <p:spPr>
          <a:xfrm>
            <a:off x="539640" y="0"/>
            <a:ext cx="11415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ь деятельности образовательных организаций  по к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итери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м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эффективности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br>
              <a:rPr sz="18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тверждены приказом управления образования от 27.07.16 № 252-п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1400"/>
            </a:br>
            <a:br>
              <a:rPr sz="3600"/>
            </a:b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лок 1. Эффективность реализации образовательной программы учреждением</a:t>
            </a: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том числе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о учебных достижений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числяется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лл;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адровое обеспечение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числяются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лла; 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зультативность профилактики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знадзорности и правонарушений, наркомании и алкоголизма среди подростков –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балла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лок 2. Показатели эффективности инновационной (научной, методической, организационной) работы учреждения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дение экспериментальной работы(5 баллов)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дение на базе учреждения семинаров, совещаний, мастер-классов и др. (5 баллов)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астие руководителей в профессиональных конкурсах, грантах, проектах, научно-практических конференциях  и др. ( 5 баллов)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личие и продуктивность образовательной программы и программы развития Учреждения (2 балла)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ние доступной среды для различных категорий обучающихся (2 балла)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зация и проведение научно-практических мероприятий по распространению передового опыта на базе Учреждения (5 баллов)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личие педагогических  материалов по распространению передового опыта работников Учреждения (2 балла)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ое развитие работников Учреждения (5 баллов)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тивное использование в учебном процессе инфформационно-коммуникационных технологий(1 балл)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лок 3. Эффективность реализации государственно-общественного характера управления Учреждением </a:t>
            </a:r>
            <a:r>
              <a:rPr b="1" lang="ru-RU" sz="1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: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 публичный доклад  руководителя Учреждения на сайте – 1 балл; 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 привлечение внебюджетных средств – 2 балл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ственная составляющая управления Учреждения- 3 балл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личие регулярно обновляемого сайта Учреждения – 3 балл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лок 4. Показатели результативности финансово-экономической и имущественной деятельности Учреждения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лок 5. Показатели эффективности обеспечения условий, направленных на здоровьесбережение и безопасность участников образовательного процесс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лок 6. Уровень исполнительской дисциплины.</a:t>
            </a:r>
            <a:br>
              <a:rPr sz="1200"/>
            </a:br>
            <a:br>
              <a:rPr sz="1200"/>
            </a:br>
            <a:br>
              <a:rPr sz="1000"/>
            </a:b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ь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ятельности ОУ в 2016-2017 учебном году по критериям эффективности (начальное общее, основное общее, среднее общее образование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pic>
        <p:nvPicPr>
          <p:cNvPr id="84" name="Таблица 4" descr=""/>
          <p:cNvPicPr/>
          <p:nvPr/>
        </p:nvPicPr>
        <p:blipFill>
          <a:blip r:embed="rId2"/>
          <a:stretch/>
        </p:blipFill>
        <p:spPr>
          <a:xfrm>
            <a:off x="828720" y="1182600"/>
            <a:ext cx="1044900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 Light"/>
              </a:rPr>
              <a:t>Дошкольный уровень общего образов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pic>
        <p:nvPicPr>
          <p:cNvPr id="87" name="Таблица 4" descr=""/>
          <p:cNvPicPr/>
          <p:nvPr/>
        </p:nvPicPr>
        <p:blipFill>
          <a:blip r:embed="rId2"/>
          <a:stretch/>
        </p:blipFill>
        <p:spPr>
          <a:xfrm>
            <a:off x="828720" y="1487520"/>
            <a:ext cx="1055196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Итоговый документ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каз от 27.07. 2017 года  №  252 -п   "Об итогах  деятельности образовательных учреждений в 2016-2017 учебном году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йтин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образовательных организаци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 группа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«Инновационные учреждени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п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-1 «Средние общеобразовательные учреждения с контингентом от 200 до 400 уча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п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-2 «Средние общеобразовательные учреждения с контингентом  от 100 до 200 уча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п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«Образовательные учреждения с контингентом от 50 до 100 учащихс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ппе С «Образовательные учреждения с контингентом  до 50 уча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ые образовательные учреж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09640" y="138240"/>
            <a:ext cx="10515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 Light"/>
              </a:rPr>
              <a:t>Перспектива  - повышение качества образования 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 Light"/>
              </a:rPr>
              <a:t> в условиях адаптации муниципального контроля в системе новой модели контрольно-надзорной деятельности 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838080" y="1293840"/>
            <a:ext cx="10515600" cy="5316480"/>
          </a:xfrm>
          <a:prstGeom prst="rect">
            <a:avLst/>
          </a:prstGeom>
          <a:ln w="648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Нормативная баз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каз  от 12 .01.2017 №  08 -н "Об утверждении Порядка осуществления контроля выполнения муниципального задания муниципальными учреждения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каз от 05.05.2016 г. №158-п "Об утверждении положения о порядке осуществления контроля за деятель­ностью муниципальных образовательных организаций Брянского райо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каз №283-п от 29.08.2016 "Об утверждении "Показателей эффективности деятельности руководителей образовательных учреждений, находящихся в ведении управления образования администрации Брянского района" и "Положения о порядке распределения стимулирующей части оплаты труда руководителей образовательных учреждений Брянского райо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каз от 27.07.2016 №252-п "Об утверждении целевых показателей эффективности деятельности  муниципальных образовательных  учреждений  Брянского района 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левые показатели эффективности деятельности муниципальных бюджетных общеобразовательных учреждений Брянского района и критерии оценки эффективности работы их руководителей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каз № 37-п от 08.02.2016 "Об утверждения графика контрольной деятельности на  2016  г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рядок по осуществлению контроля за исполнением муниципальных заданий на оказание муниципальных услуг (выполнение работ) муниципальными учреждениями Брянского района, подведомственных управлению образования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 Light"/>
              </a:rPr>
              <a:t>Контроль и анализ учебных планов образовательных учреждени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90360"/>
            <a:ext cx="10515600" cy="36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08.2017 г. №  243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ям ОУ Брянского райо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итогами  работы методического совета ( далее, МС) по изучению учебных планов в ходе предварительного комплектования ОУ в марте 2017 года управление образования просит учесть рекомендации МС при разработке учебных планов на 2017-2018 учебный год с внесением соответствующих корректив, а также изучить возможности для введения  предмета «Астрономия» во 2 полугодии 10 класса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ик  управления образования                                  А.В.Азаркина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 Light"/>
              </a:rPr>
              <a:t>Итоговый докумен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 Light"/>
              </a:rPr>
              <a:t>  индивидуален для каждого ОУ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ОУ «Глинищевская СОШ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-4 кл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быточная информация по характеристике учебных предметов, формам контроля. Оставить только сет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указана система оценивания для 1 класса ( безотметочное обучение). Рекомендуются комплексные контрольные работы интегрированного харак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5-7 кл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делить: 5-7 класс (ФГОС), 8-9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ояснительной записке указать , что курс «Искусство» -интегрирован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точнить название формы промежуточной аттестации как тестирование, приближенное к формату ЕГ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0-11 кл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тка не соответствует требованиям формы для старшей школы. Не указано общее количество часов. Необходимо  привести в соответствие предметы вариативной и инвариантно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нять название – элективные учебные предм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843520" y="1690560"/>
            <a:ext cx="551016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ОУ «Домашовская СОШ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5-7 кл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О, ОБЖ – прописывать названия предметов пол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8-9 кл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Элективные курсы не прописаны в пояснительной запис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0-11 кл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0 классе в плане-сетке не прописаны элективные учебные предм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1 классе-конкретизировать и распределить учебные предметы в соответствии с их функ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БОУ «Колтовская ООШ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-4 кл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Убрать избыточную информацию (характеристику предмет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точнить систему оценивания для 2 класса (безотметочно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5-9 кл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звание области «Филология» - не в соответствии с используемым в форм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кретизировать способ преподавания модуля «Брянский край» (записан 1 ча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 Light"/>
              </a:rPr>
              <a:t>Мониторинг качества образова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ланом работы управления образования на 2017-2018 учебный год, учитывая сроки предоставления результатов ОГЭ и ЭГЭ за 2016-2017 учебный год, а также в целях апробирования мониторинга качества образования ОУ Брянского района   :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ЫВАЮ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мониторинг качества образования МБОУ «Лицей №1 Брянского района», МБОУ «Супоневская СОШ №1 имени Героя Советского Союза Н.И.Чувина» в сроки с 25.09.2017 г. по  05.10.2017 г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орам МБОУ «Супоневская СОШ №1 имени Героя Советского Союза Н.И.Чувина» Савкину Л.И., МБОУ «Лицей №1 Брянского района» Козиной Е.Н. материалы самоанализа для подготовки итогового документа предоставить к 06.10.2017 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а исполнением настоящего приказа  возложить на  начальника методического кабинета Пищулину В.Ю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ик  управления образования                         А.В.Азарки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формация по материалам самообследования и внутренней системы оценки качества образова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____________________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наименование образовательной организации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информация о школе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II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 У</a:t>
            </a:r>
            <a:r>
              <a:rPr b="1" i="1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ия реализации ООП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2.1.Кадровые услови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2.2. Материально-технические услов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2.4.Психолого-педагогические услов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0000"/>
                </a:solidFill>
                <a:latin typeface="Times New Roman"/>
                <a:ea typeface="Calibri"/>
              </a:rPr>
              <a:t>(Описать,  основываясь на 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п. 28 ФГОС НОО  и  п. 25 ФГОС ООО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i="1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блемы: …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мые пути решения: …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III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. Оценка результатов освоения ООП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3.1Оценка качества подготовки обучающихс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   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3.2. Соотношение внешней оценки и внутренней самооцен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из результатов ВПР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Построить график   решаемости зада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ыво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(указать типичные ошибки, определить западающие темы по кодификатору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Управленческие решения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(возможно, пересмотреть рабочую программу в части распределения часов; возможно, что-то друго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Объект 7"/>
          <p:cNvGraphicFramePr/>
          <p:nvPr/>
        </p:nvGraphicFramePr>
        <p:xfrm>
          <a:off x="787320" y="1774800"/>
          <a:ext cx="528336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528336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Анализ</a:t>
            </a:r>
            <a:r>
              <a:rPr b="1" i="1" lang="en-US" sz="29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и сопоставление </a:t>
            </a: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результатов </a:t>
            </a:r>
            <a:r>
              <a:rPr b="1" i="1" lang="en-US" sz="29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нутренней оценки</a:t>
            </a: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</a:t>
            </a:r>
            <a:br>
              <a:rPr sz="2900"/>
            </a:br>
            <a:r>
              <a:rPr b="1" i="1" lang="en-US" sz="29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 ВПР</a:t>
            </a:r>
            <a:r>
              <a:rPr b="1" i="1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</a:t>
            </a:r>
            <a:br>
              <a:rPr sz="2900"/>
            </a:br>
            <a:r>
              <a:rPr b="0" lang="en-US" sz="2200" spc="-1" strike="noStrike">
                <a:solidFill>
                  <a:srgbClr val="000000"/>
                </a:solidFill>
                <a:latin typeface="Calibri Light"/>
              </a:rPr>
              <a:t>( МБОУ “Супоневская СОШ №1 имени Героя Советского Союза Н.И.Чувина)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"/>
          <p:cNvGraphicFramePr/>
          <p:nvPr/>
        </p:nvGraphicFramePr>
        <p:xfrm>
          <a:off x="838080" y="1782720"/>
          <a:ext cx="10515600" cy="4394160"/>
        </p:xfrm>
        <a:graphic>
          <a:graphicData uri="http://schemas.openxmlformats.org/drawingml/2006/table">
            <a:tbl>
              <a:tblPr/>
              <a:tblGrid>
                <a:gridCol w="3773520"/>
                <a:gridCol w="2578320"/>
                <a:gridCol w="1982520"/>
                <a:gridCol w="2181240"/>
              </a:tblGrid>
              <a:tr h="54756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ачество знаний  4-е классы 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межуточная аттест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547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тематика  4-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47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усский язык 4-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кружающий мир 4-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тематика  4-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547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усский язык 4-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47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кружающий мир 4-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равнительный анализ качества знаний</a:t>
            </a:r>
            <a:br>
              <a:rPr sz="32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(доля "4" и "5") в 4-х классах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иаграмма 1)</a:t>
            </a:r>
            <a:br>
              <a:rPr sz="3200"/>
            </a:b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600"/>
            </a:br>
            <a:r>
              <a:rPr b="0" lang="en-US" sz="2500" spc="-1" strike="noStrike">
                <a:solidFill>
                  <a:srgbClr val="000000"/>
                </a:solidFill>
                <a:latin typeface="Calibri Light"/>
              </a:rPr>
              <a:t>( МБОУ “Супоневская СОШ №1 имени Героя Советского Союза Н.И.Чувина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2" name="Объект 7"/>
          <p:cNvGraphicFramePr/>
          <p:nvPr/>
        </p:nvGraphicFramePr>
        <p:xfrm>
          <a:off x="787320" y="1774800"/>
          <a:ext cx="528336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528336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Объект 10"/>
          <p:cNvGraphicFramePr/>
          <p:nvPr/>
        </p:nvGraphicFramePr>
        <p:xfrm>
          <a:off x="6121440" y="1774800"/>
          <a:ext cx="5283000" cy="4452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" name="Объект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21440" y="1774800"/>
                    <a:ext cx="528300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Иванов Сергей</cp:lastModifiedBy>
  <dcterms:modified xsi:type="dcterms:W3CDTF">2021-07-15T12:22:35Z</dcterms:modified>
  <cp:revision>2</cp:revision>
  <dc:subject/>
  <dc:title>Муниципальный контроль</dc:title>
</cp:coreProperties>
</file>