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CD45-A042-4ACC-8E61-5893F5332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3961-C813-4E25-8987-8E99621E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1EFE20-6238-48FA-9295-85E54F31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952906-C560-44B5-9336-7D68A54B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2B7D9B-CA17-43A8-AFD2-99298309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91A09B-F24D-45CD-AE15-F15DC82F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E5BB23-49A6-4F8F-847E-3E7AFBCA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249EB0-A8BA-4E70-953D-30AA5106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B0CA33-C174-44A3-8C10-EFD6AB37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D296C6-4B03-46DB-B3BD-A9BBC6609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7D6118-E2A4-4469-96D3-5A9CDDFE4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05C756-6661-4E60-B89B-D578B06AD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F133-C42A-4BBE-B873-5166E74EC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03EC94-9FDD-4932-B530-8FC31256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6E1338-1849-40D7-9539-679661AB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B8B54E-A5B6-4D6F-B48A-6A9DF3E7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3FF793-78A9-4E5B-9DFB-E5ECA03E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1D9C6B-AD3F-4979-A79B-CA910C494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36F90C-B1D4-42B0-92DA-DA7B4E90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4AB008-FE13-49FC-B012-534A6F71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586443-2594-4E3F-9C4E-85455F9D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F5CF31-A6EE-47F4-9805-5B1987F6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6AB77E-85A5-4655-8539-87FFCA5C5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AB2E-0439-41CB-B2BA-2BE4B6858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D1E7E0-6C03-49AD-A15F-373121ACF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D6A1C-EC43-485D-B591-4B502D454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51CED-A8A4-47CA-B62F-45783992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124D3D-EA40-4E73-BCEF-85847EF4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0AA6A2-DC82-4D43-AFDE-8F7DEB4B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4B2ED-6F2A-4A69-9355-45A953AF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3E083-82C2-4EF9-82C0-473322A5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AD54B-ABC0-4B9A-85AB-6DCD67F8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CBB18-AEE5-4E6E-BA8E-812EEBA8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AE3D3-56F1-473D-B318-16134470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148F-6A60-42CC-9A79-EEB5BEBFA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26153-A506-46DA-AA77-5DC4100E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69626-A5F8-4C4A-BE95-92795A328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855E0-E5E1-4588-945B-BB900C80B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3DDD35-97BA-4316-80C8-6543F965E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D48A20-083F-473B-814D-8A33B7C3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11BEA0-AA1E-4477-B530-040E145F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F3E41F-1DCD-465F-90D4-020C3F2B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973041-0E99-4DB4-B110-7830BB46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5469C3-AEBB-4313-B653-B0EA06D5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26CD3C-9EA2-4AC2-BA8C-B18BB524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F5B8-5339-4A58-A8D2-7A9751E1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9E2628-03AA-42DF-A865-774EE7C0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676C0F-CE4D-4A82-9073-60571289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A61C45-891B-4948-A5AC-A14DC36C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E7050B-543E-425E-9247-9E4124310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62495B-0AE0-464A-A72A-D535736E1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63CF-5496-406F-8DE2-2106F223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8A18-7F6B-4864-97A4-427234FE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45C01-17A9-4BD3-B666-5B3249C9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3D78-B7A2-4C50-9275-39C0D23C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F7A7-67B0-484A-8539-ACC1E252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B925-19E5-4478-8B04-13A922C7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6BCF-B647-4106-A7EA-10BDC1D7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08B6-8F1E-4A58-B8D1-AFE12AD3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95EB-DE1F-4C0C-93AF-8D489655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A20D-50F3-436A-A739-37F2EA2CD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2DFB-AEFF-45DA-A499-310563274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8FC44-A509-4381-BE19-C0DB787CC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2010C-EE63-44D0-9EF9-E76EAE11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1A993-67A9-4EC9-B441-83674509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4E15A-8A4B-40A1-8EC7-8E0F9641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D563A-192E-4B98-B0D0-6557662D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E925-5A3F-4D1F-A95E-57E59749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10441-0BB4-4A43-B8AE-3EF56698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81EBE-247E-4AB7-89B5-DC3E068E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0D05E-88FE-425F-A0EB-3668642C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CA5B1-156E-42E9-9E3F-C98CDDE6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8586D-BE93-4D29-B4EE-49A680D1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CF126-7AA9-447C-B594-56FFD01D2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EFF19-8D7F-4167-BEE4-A5C9A1419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CF767-AE69-4AA2-A5FF-A9E270201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2BAFA-98C3-4666-AFF3-85A9AFAE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8B842-F85D-4C81-B32F-3C8C2A71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FF2F-57B4-4497-8FBE-4E91CD3C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93E36-0A06-45C2-A86B-BE737D87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2D0BF-560F-46EC-80DC-6CD67F41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766A4-E0A9-4E26-8F51-4C567578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70262-F97D-4CDE-ACD6-47E9CEE9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92C5F-7CB9-4A83-991F-848AFC64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AC557-2942-44CF-9FFF-71434DA0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C19E0-4EDC-4DE0-BEB9-EA80CFDE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376E8-1696-479E-817D-4B512E53E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92845-5673-4911-83F1-D891A7D0A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4E196-F112-40AA-9D39-6EBF2698E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9EE6-2F20-4AE6-80E5-31A3B80D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8CE40-D631-4748-9F52-892DB776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968C0-F5AE-47E7-9527-7FFE0131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B3806-A313-4F44-909A-DCB274D0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AF083-079C-484D-A8C7-3A779A6B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D4DE0-C792-4FCE-A7DE-773FC11F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81309-5EC2-471A-8A78-C9C1845D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71FF8-848F-4D17-BBE2-8A6A91EC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D2F49-52DD-4266-803F-5861833A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6786D-A49E-46EA-837A-704681A6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F30A9-C88C-4B00-A4A0-8C354CA6F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8003-6FAC-4C57-8CDE-8979CE8C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E43C3-A995-4118-970D-BF47F78CC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1E756-0A0E-48FB-B56C-2E9E5910E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25373-5DFD-4E78-8889-0D757B3F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9CB8F-4DCE-4284-ABEE-AD2941D9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8FB04-E9BF-43EF-BD58-34B70C9A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F7026-72DD-4064-8B01-B87A2965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E8D59-DA70-44DB-A6F2-20087776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717E9-AC49-4BAF-8A2C-1B893F25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6FB26-44DF-4F5D-957B-7DD9F1F1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7401E-0142-42F1-A29F-BC2D03CD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8ADB-000D-4D2A-9B26-6B951005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A9775-772B-4419-A4BA-89127877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A6F57-7C94-4BC4-AFF9-1F1B80CFD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501AB-672B-4633-B4EE-ABF2495D1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65541-D99C-4111-9A3F-9FEA27CC8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E97D1-A241-4FCD-AAE4-6536334C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C62CB-2614-4232-8E84-DCC88E51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6BD13-66AB-4009-890B-A838F8CB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B0398-3245-4AE3-8EE5-C187F638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B969E-181B-45AE-AEED-B1461CBC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C7B89-8E8F-4C1F-8592-B9453365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96C8-161B-4585-969B-76D68D9C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F80F4-04EA-41EC-A6A5-30A26555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F2282-0E2E-411B-86EC-31ACB74B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9E23D-7CCC-4A43-BD66-C61E86D1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23A44-3782-4466-BA00-BF9C76DF5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D0529-B786-4C0F-9395-CFA3B20D9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8EB0B-2DE3-4D10-A7A8-185F34BC9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88489-EF6B-466C-9829-4857FE46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4D5A2-3A42-4841-8F8E-6F777B8B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89596-00C5-4197-BF2A-0BAEB467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72EC6-6BBF-4B06-977E-D4AC365A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7B36-99F1-405A-86A7-00B3D71F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543E0-3FCF-46D1-BE3A-1B3DD8A4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41D0F-1902-4641-BD12-7F76FE81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6C04E-E502-4384-810E-4AE9266B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1A33B-9DB8-4120-ABB3-C038B55C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85FE4-3A58-4103-8E16-86AE8B7F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5ECC8-CA88-4D37-8C34-5D340F1E5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92436-6A96-4A54-AF77-9FE8229B7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BF9C49-3955-476B-9F6B-B727C0C1A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ED6FD3-FF27-4796-806D-59668F4B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FC9773-72D5-494E-A59E-92107D20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3b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3b4b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3b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3b4b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15AC-13FE-4EF1-9CBE-DD3440FE6A23}" type="slidenum">
              <a:rPr b="0" lang="ru-RU" sz="1600" spc="-1" strike="noStrike">
                <a:solidFill>
                  <a:srgbClr val="93b4b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3b4b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b0ccb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8cdd7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0bea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ec59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93b4b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3b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3b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3b4b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b0ccb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8cdd7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0bea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ec59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3b4b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8908-A11C-4B22-AA0B-E4C497B29BC7}" type="slidenum">
              <a:rPr b="0" lang="ru-RU" sz="1600" spc="-1" strike="noStrike">
                <a:solidFill>
                  <a:srgbClr val="93b4b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3b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3b4b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3b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3b4b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b0ccb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8cdd7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0bea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ec59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3b4b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396A-EC37-4147-B05D-5BFCA4B05BBF}" type="slidenum">
              <a:rPr b="0" lang="ru-RU" sz="1600" spc="-1" strike="noStrike">
                <a:solidFill>
                  <a:srgbClr val="93b4b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3b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93b4b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3b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3b4b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b0ccb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8cdd7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0bea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ec59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3b4b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4AC0-D691-43C9-B9AD-76585E1F42D7}" type="slidenum">
              <a:rPr b="0" lang="ru-RU" sz="1600" spc="-1" strike="noStrike">
                <a:solidFill>
                  <a:srgbClr val="93b4b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93b4b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93b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3b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3b4b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b0ccb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8cdd7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0bea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ec59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3b4b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18F9-2486-42FB-A634-21D472FB58C3}" type="slidenum">
              <a:rPr b="0" lang="ru-RU" sz="1600" spc="-1" strike="noStrike">
                <a:solidFill>
                  <a:srgbClr val="93b4b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3b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3b4b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3b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3b4b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b0ccb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8cdd7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0bea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ec59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3b4b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4229-AF14-49D6-808D-0AFCCEC68051}" type="slidenum">
              <a:rPr b="0" lang="ru-RU" sz="1600" spc="-1" strike="noStrike">
                <a:solidFill>
                  <a:srgbClr val="93b4b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93b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93b4b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3b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3b4b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b0ccb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8cdd7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0bea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ec59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3b4b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BE94-4A1E-438D-95F3-9869EF6C2B14}" type="slidenum">
              <a:rPr b="0" lang="ru-RU" sz="1600" spc="-1" strike="noStrike">
                <a:solidFill>
                  <a:srgbClr val="93b4b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3b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3b4b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3b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76a5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3b4b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b0ccb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8cdd7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0bea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ec59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3b4b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A963-1632-4E4A-B6D9-F63A7356E8D5}" type="slidenum">
              <a:rPr b="0" lang="ru-RU" sz="1600" spc="-1" strike="noStrike">
                <a:solidFill>
                  <a:srgbClr val="93b4b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76a5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93b4b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3b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3b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3b4b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b0ccb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8cdd7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0bea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ec59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3b4b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6FF9-832E-4AC6-A62F-68B062F6CC66}" type="slidenum">
              <a:rPr b="0" lang="ru-RU" sz="1600" spc="-1" strike="noStrike">
                <a:solidFill>
                  <a:srgbClr val="93b4b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3b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3b4b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3b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3b4b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b0ccb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8cdd7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0bea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ec59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3b4b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DB65-CE58-4B02-85E1-F441747D1FFD}" type="slidenum">
              <a:rPr b="0" lang="ru-RU" sz="1600" spc="-1" strike="noStrike">
                <a:solidFill>
                  <a:srgbClr val="93b4b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93b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3b4b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b0ccb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8cdd7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0bea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ec59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A63A-577A-4C44-8D4A-F74F3F33854E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93b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93b4b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3b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3b4b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b0ccb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8cdd7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0bea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ec59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3b4b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0445-9C63-4650-86D0-115B95AD97C9}" type="slidenum">
              <a:rPr b="0" lang="ru-RU" sz="1600" spc="-1" strike="noStrike">
                <a:solidFill>
                  <a:srgbClr val="93b4b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640080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76a55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676a55"/>
                </a:solidFill>
                <a:latin typeface="Georgia"/>
              </a:rPr>
              <a:t>УРОК ПО ОБЩЕСТВОЗНАНИЮ В 8 КЛАССЕ (В РАМКАХ ТЕМЫ «ЭКОНОМИКА»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76a55"/>
                </a:solidFill>
                <a:latin typeface="Georgia"/>
              </a:rPr>
              <a:t>СОСТАВИЛА: НИКИТИНА В.И., УЧИТЕЛЬ ИСТОРИИ И ОБЩЕСТВОЗНАНИЯ МБОУ САЛТАНОВСКАЯ СОШ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72a376"/>
                </a:solidFill>
                <a:latin typeface="Georgia"/>
              </a:rPr>
              <a:t>Распределение доходов</a:t>
            </a:r>
            <a:endParaRPr b="0" lang="en-US" sz="4200" spc="-1" strike="noStrike">
              <a:solidFill>
                <a:srgbClr val="93b4bd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3b4bd"/>
                </a:solidFill>
                <a:latin typeface="Georgia"/>
              </a:rPr>
              <a:t>Доходы граждан и прожиточный минимум</a:t>
            </a:r>
            <a:endParaRPr b="0" lang="en-US" sz="30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Доходы бывают в виде формы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2a37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Денежной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2a37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Натуральной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2a37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 виде благ и льгот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0" name="Схема 3" descr=""/>
          <p:cNvPicPr/>
          <p:nvPr/>
        </p:nvPicPr>
        <p:blipFill>
          <a:blip r:embed="rId1"/>
          <a:stretch/>
        </p:blipFill>
        <p:spPr>
          <a:xfrm>
            <a:off x="853920" y="4145040"/>
            <a:ext cx="750888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3b4bd"/>
                </a:solidFill>
                <a:latin typeface="Georgia"/>
              </a:rPr>
              <a:t>Доходы граждан и прожиточный минимум</a:t>
            </a:r>
            <a:endParaRPr b="0" lang="en-US" sz="30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24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Georgia"/>
              </a:rPr>
              <a:t>Прожиточный минимум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– стоимость минимума средств, необходимых для поддержания жизнедеятельности человека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Georgia"/>
              </a:rPr>
              <a:t>Потребительская корзина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– перечень товаров и услуг, необходимых для минимального удовлетворения потребностей человека и семьи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3" name="Рисунок 3" descr="Chto_vhodit_v_potrebitelskuju_korzinu.jpg"/>
          <p:cNvPicPr/>
          <p:nvPr/>
        </p:nvPicPr>
        <p:blipFill>
          <a:blip r:embed="rId1"/>
          <a:stretch/>
        </p:blipFill>
        <p:spPr>
          <a:xfrm>
            <a:off x="2500200" y="4000680"/>
            <a:ext cx="3886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520"/>
                            </p:stCondLst>
                            <p:childTnLst>
                              <p:par>
                                <p:cTn id="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pic>
        <p:nvPicPr>
          <p:cNvPr id="615" name="Содержимое 3" descr="24153145.jpg"/>
          <p:cNvPicPr/>
          <p:nvPr/>
        </p:nvPicPr>
        <p:blipFill>
          <a:blip r:embed="rId1"/>
          <a:stretch/>
        </p:blipFill>
        <p:spPr>
          <a:xfrm>
            <a:off x="928800" y="428760"/>
            <a:ext cx="728640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93b4bd"/>
                </a:solidFill>
                <a:latin typeface="Georgia"/>
              </a:rPr>
              <a:t>Неравенство доходов</a:t>
            </a: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pic>
        <p:nvPicPr>
          <p:cNvPr id="617" name="Содержимое 3" descr="факторы зп.JPG"/>
          <p:cNvPicPr/>
          <p:nvPr/>
        </p:nvPicPr>
        <p:blipFill>
          <a:blip r:embed="rId1"/>
          <a:stretch/>
        </p:blipFill>
        <p:spPr>
          <a:xfrm>
            <a:off x="500040" y="1571760"/>
            <a:ext cx="8056440" cy="4108320"/>
          </a:xfrm>
          <a:prstGeom prst="rect">
            <a:avLst/>
          </a:prstGeom>
          <a:ln w="0">
            <a:noFill/>
          </a:ln>
        </p:spPr>
      </p:pic>
      <p:sp>
        <p:nvSpPr>
          <p:cNvPr id="618" name="TextBox 4"/>
          <p:cNvSpPr/>
          <p:nvPr/>
        </p:nvSpPr>
        <p:spPr>
          <a:xfrm>
            <a:off x="201960" y="5715000"/>
            <a:ext cx="86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Поляризация доходов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– разница в доходах между 10% самых богатых 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10% самых бедных людей в государстве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93b4bd"/>
                </a:solidFill>
                <a:latin typeface="Georgia"/>
              </a:rPr>
              <a:t>Перераспределение доходов</a:t>
            </a: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роблема бедности населения приводит к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2a37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ротестам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2a37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ере в пустые обещания нечестных политиков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2a37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осту преступности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1" name="Рисунок 3" descr="karikatura-u-posledney-cherty-preview-300x240_(aleksandr-matis)_9835.jpg"/>
          <p:cNvPicPr/>
          <p:nvPr/>
        </p:nvPicPr>
        <p:blipFill>
          <a:blip r:embed="rId1"/>
          <a:stretch/>
        </p:blipFill>
        <p:spPr>
          <a:xfrm>
            <a:off x="2643120" y="3429000"/>
            <a:ext cx="41767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3b4bd"/>
                </a:solidFill>
                <a:latin typeface="Georgia"/>
              </a:rPr>
              <a:t>Экономические меры </a:t>
            </a:r>
            <a:br>
              <a:rPr sz="3000"/>
            </a:br>
            <a:r>
              <a:rPr b="0" lang="ru-RU" sz="3000" spc="-1" strike="noStrike">
                <a:solidFill>
                  <a:srgbClr val="93b4bd"/>
                </a:solidFill>
                <a:latin typeface="Georgia"/>
              </a:rPr>
              <a:t>социальной поддержки населения</a:t>
            </a:r>
            <a:endParaRPr b="0" lang="en-US" sz="3000" spc="-1" strike="noStrike">
              <a:solidFill>
                <a:srgbClr val="93b4bd"/>
              </a:solidFill>
              <a:latin typeface="Georgia"/>
            </a:endParaRPr>
          </a:p>
        </p:txBody>
      </p:sp>
      <p:pic>
        <p:nvPicPr>
          <p:cNvPr id="623" name="Содержимое 3" descr="Соц поддержка.JPG"/>
          <p:cNvPicPr/>
          <p:nvPr/>
        </p:nvPicPr>
        <p:blipFill>
          <a:blip r:embed="rId1"/>
          <a:stretch/>
        </p:blipFill>
        <p:spPr>
          <a:xfrm>
            <a:off x="593640" y="1500120"/>
            <a:ext cx="81946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3b4bd"/>
                </a:solidFill>
                <a:latin typeface="Georgia"/>
              </a:rPr>
              <a:t>Экономические меры </a:t>
            </a:r>
            <a:br>
              <a:rPr sz="3000"/>
            </a:br>
            <a:r>
              <a:rPr b="0" lang="ru-RU" sz="3000" spc="-1" strike="noStrike">
                <a:solidFill>
                  <a:srgbClr val="93b4bd"/>
                </a:solidFill>
                <a:latin typeface="Georgia"/>
              </a:rPr>
              <a:t>социальной поддержки населения</a:t>
            </a:r>
            <a:endParaRPr b="0" lang="en-US" sz="30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Перераспределение доходов повышает массовое потребление, что приводит к оживлению экономики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93b4bd"/>
                </a:solidFill>
                <a:latin typeface="Georgia"/>
              </a:rPr>
              <a:t>Выводы</a:t>
            </a:r>
            <a:endParaRPr b="0" lang="en-US" sz="3300" spc="-1" strike="noStrike">
              <a:solidFill>
                <a:srgbClr val="93b4bd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72a376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Перераспределение доходов в стране призвано поддерживать малообеспеченные слои населения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72a376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Правильное перераспределение доходов предотвращает социальную напряжённость в обществе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72a376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Перераспределение доходов государства повышает массовое потребление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2T19:30:21Z</dcterms:created>
  <dc:creator>Катя</dc:creator>
  <dc:description/>
  <dc:language>en-US</dc:language>
  <cp:lastModifiedBy>Иванов Сергей</cp:lastModifiedBy>
  <dcterms:modified xsi:type="dcterms:W3CDTF">2022-05-30T08:29:05Z</dcterms:modified>
  <cp:revision>7</cp:revision>
  <dc:subject/>
  <dc:title>Распределение доход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330984</vt:lpwstr>
  </property>
  <property fmtid="{D5CDD505-2E9C-101B-9397-08002B2CF9AE}" pid="3" name="NXPowerLiteSettings">
    <vt:lpwstr>F6000400038000</vt:lpwstr>
  </property>
  <property fmtid="{D5CDD505-2E9C-101B-9397-08002B2CF9AE}" pid="4" name="NXPowerLiteVersion">
    <vt:lpwstr>D4.3.1</vt:lpwstr>
  </property>
</Properties>
</file>